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43B552-CE8F-4D1F-B384-2FAC185B98A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FD4294-F412-43C8-8076-84B1CBCE3C6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B60A34-8B69-4608-9268-CE3117B79FC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31E-E2C9-4B69-B64E-30743DFE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6E4-25F7-40C0-B093-3B60B1FE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837-172C-43A2-94E6-C0B9162E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4DF-47D6-4DC0-9E11-DFF52D39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D45-8171-4FED-9AEE-E4400C2D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4BF-7919-44DC-9EFD-1651F568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422-A743-49D6-A5DB-3EFE2E1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396-CCD5-42BE-8A6E-3ADE4D0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125-C8F7-4262-8FD4-AF677169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9ED-AC80-4B03-9562-476F86B3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609-AB4A-4B48-B4B0-987256A6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68A-0EE3-43F1-AAC8-B5B3502C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87B9CA-27FE-4E7A-AA36-F39B7582F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600" y="365040"/>
            <a:ext cx="878976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de la falla de un equipo que involucra la deten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imiento correctivo 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o de obra, repuestos, materiales, herramientas, equip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rvici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  es una característica de la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disponibilidad de la unidad  productiva a la que per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equipo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 que se deja de ganar, pérdida eventual de materia pri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por castigos por atrasos en la entreg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 es una característica de la unidad prod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=  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2840" y="365040"/>
            <a:ext cx="787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o de la falla en relación con la cantidad de ho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fun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514600"/>
            <a:ext cx="4343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3080" y="4541760"/>
            <a:ext cx="47721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 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BF + 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3680" y="1812960"/>
            <a:ext cx="428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                                      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0200" y="3336840"/>
            <a:ext cx="61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= tiempo  de  buen funcionamiento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R = tiempo  total de reparación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20" y="212760"/>
            <a:ext cx="85075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:  “Equipo de interés para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 equipo,  conjunto  de  equipos o subconj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quipo para el cual se desea llevar control detall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su mantenimiento.  Todo el Activo Fijo 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 representado por los ED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ORMACION  ASOCI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ísticas técnicas y de la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trabajo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Costos, gasto anual, gasto 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 de Mantenimiento (preventivo, predi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uest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se pueden agregar en Familias  y  Grup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ales  y desagregar en  Componentes 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Mantención,  Subconjuntos  y  Re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4080" y="-81000"/>
            <a:ext cx="57718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ATALOGO DE EQUIPOS</a:t>
            </a:r>
            <a:br>
              <a:rPr sz="36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240" y="1273320"/>
            <a:ext cx="857736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STA CODIFICADA DE MAQUINAS E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ACTERISTICAS TECN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SCRIPCIÓN  FUN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RMACION DE COMPRA,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GARANTÍ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EMPLA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REPUE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COMPONENTE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PARA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UPOS OPERACION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O DEL MEDIDOR DE UTIL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ACUMUL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DE LA HORA DE DE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IDAD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bajo  de  Grupo  Nº  5</a:t>
            </a:r>
            <a:br>
              <a:rPr sz="3600"/>
            </a:b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Arial"/>
              </a:rPr>
              <a:t>Definición de equpos de interés para man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IFICACION  DE  LA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T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dc0081"/>
                </a:solidFill>
                <a:latin typeface="Arial"/>
              </a:rPr>
              <a:t>PLANIFICACION   DE   </a:t>
            </a: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TRABAJ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353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PRODUCTIVIDAD DEL RECURS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PTIMIZAR RECURSOS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MANTENIBILIDAD Y DISPONIBILIDAD DE LOS SIST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SEGURIDAD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537240" y="1981080"/>
          <a:ext cx="25304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981080"/>
                    <a:ext cx="25304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-37440"/>
            <a:ext cx="8489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PLANIFICACION  De La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2960" y="914400"/>
            <a:ext cx="76741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L  MANTENIMIEN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ENTIVO:  SISTEMATICO  Y 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  TRA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corrientes, repetitivos, cíc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rios,  correctivos,  preventivos, predi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mat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nóstico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UPUESTO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grado al presupuest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TA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5 años, integrados al Plan 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8356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IFICACION DETALLADA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S DE MANTENCIO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28800"/>
            <a:ext cx="80773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 u="sng">
                <a:solidFill>
                  <a:srgbClr val="ff0066"/>
                </a:solidFill>
                <a:uFillTx/>
                <a:latin typeface="Arial"/>
              </a:rPr>
              <a:t>CONTEN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LIZACION DEL MEJOR METODO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LIZACION DE SU U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IMACION EN HH POR ESPECIALIDAD Y EN   CO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O DE ESTANDARES PARA ESTIMAR 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S CON PRECI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DENTIFICACION DE DIVERSOS NIVEL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CION SEGUN LA IMPORTANCIA DE LOS   TRABAJ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IVO PERMAN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PLANES DE TRABA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TROALIMENTACION A LOS PLAN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 EN BASE A LA REALIDAD DE SU   EJECU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00" y="334800"/>
            <a:ext cx="87591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 UNA  BUENA PLANIFICACION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 REQUI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 ESTUDIO  DE  MET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 ESTUDIO DE METODOS ES EL REGISTRO, ANALISIS 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EN CRITICO SISTEMATICO DE LOS MODO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ROPUESTOS DE LLEVAR A CABO UN TRABAJO, Y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Y APLICACIÓN DE METODOS MAS SENCIL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EFIC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MEDIDA DEL TRA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MEDIDA DEL TRABAJO ES LA APLICACIÓN DE TECN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TERMINAR EL CONTENIDO DE TRABAJO D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EA DEFINIDA,  FIJANDO EL TIEMPO QUE UN TRABAJ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ICADO  INVIERTE EN LLEVARLA  A  CABO CON 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A NORMA DE RENDIMIENTO PRESTABLE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46240" y="304920"/>
          <a:ext cx="529596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304920"/>
                    <a:ext cx="52959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CION  Y  ESTIMACION  (Có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es  o tareas  que  lo  constit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ciones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ción del tiempo para realizarlo 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H 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en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 de  detención  del equi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NECESARIOS  (Con qu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  Repuestos y materiales  (Cantidad  y  c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  Herramientas, instrumentos  especiales, elem.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  Equipos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  Otr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   (Cot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o de obra  (HH)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y repuestos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pos de servicio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gastos            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tal                                 $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6019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220320"/>
            <a:ext cx="790884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NDARES PARA  TRABAJO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2880" y="1401840"/>
            <a:ext cx="83566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RESENTAN  EL  TIEMPO PROMEDIO QUE   NECESITA  U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ADOR  CALIFICADO,  TRABAJANDO  A  RITMO  NORMAL,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TIDO A UNA ADECUADA  SUPERVISION  Y  SUJETO A 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MORAS  NORMALES,  PARA  REALIZAR UNA CANTIDAD  DEFINI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TRABAJOS  DE  CALIDAD  ESPECIFICADA  SIGUIENDO  METO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EPTABLE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ES  LA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CANTIDAD  DE  TIEMP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NECESARIA  PARA  REALIZ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  DETERMINADO  TRABAJ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N  UNA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HERRAMIENTA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USADA  POR LOS  PLANIFICAD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HACER 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ESTIMACIONE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RRECTAS DE  LAS   HH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CESARI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727360" y="228600"/>
          <a:ext cx="458784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228600"/>
                    <a:ext cx="45878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362320" y="0"/>
          <a:ext cx="60404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60404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560" y="-144720"/>
            <a:ext cx="83124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EJERCICIO  CORRECTO  DE  LA  PLANIFICACION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DE  LOS  TRABAJOS  ES  QUE  NO  SE  EJECUTE</a:t>
            </a:r>
            <a:br>
              <a:rPr sz="2400"/>
            </a:b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NINGU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BAJO  SIN  UNA  PLANIFICACION  PRE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60" y="1401840"/>
            <a:ext cx="76496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 TODOS  LOS  TRABAJOS  SE  PUEDEN  NI  DEBE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R  CON  UN  MISMO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NIVEL  DE  DETAL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N  EMBARGO:  TODOS  LOS  TRABAJOS  DEBEN  ESTIMAR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  ESTIMACION  SIRVE PAR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PROGRAM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CONTROLAR  LA  CARGA  DE  TRABAJO  PEND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DEFINIR LA DOTACION  DE 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PRODUCTIV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REALIZAR  EL  PRESUPUE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CALIDAD  DE  LA  PLANIFIC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OCER  LA  NECESIDAD  DE  SOBRETIEMPO  Y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ATIS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" y="243000"/>
            <a:ext cx="75978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ODOS   DE    ESTI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XPERIENCIA   DEL  PLAN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EGISTRO   DEL  TIEMPO   REAL  DE   LAS   O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JECU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  del 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ción  del   promedio  a  trabajos   sim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3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ANDARES  TECNICOS   PREDETERMINAD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PD   Sistemas  de  Normas  de  Tiemp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determi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tm   medición  de  tiempos -  mé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4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UDIOS   DE 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5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IFICACION   DE  TRABAJOS  EQUIVALENTES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ANG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(Uso  de  formulario   clasificador  de  tra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4120" y="138240"/>
            <a:ext cx="727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DO  DE  PRECISION  EN  LOS  ESTAND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080" y="2444760"/>
            <a:ext cx="166356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560" y="198756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901960"/>
            <a:ext cx="67284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682640"/>
            <a:ext cx="3340080" cy="326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760" y="130176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8840" y="2521080"/>
            <a:ext cx="166392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206388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6040" y="2978280"/>
            <a:ext cx="67320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760" y="1758960"/>
            <a:ext cx="3340080" cy="3263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137808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716040"/>
            <a:ext cx="198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9920" y="792000"/>
            <a:ext cx="194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200" y="5440320"/>
            <a:ext cx="387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OS  DE  UN 4%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VIACION  EN TARE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 DE 12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94120" y="5594400"/>
            <a:ext cx="248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3352320"/>
            <a:ext cx="121932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371600"/>
            <a:ext cx="914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35200" y="170028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1520" y="207972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8200" y="2614680"/>
            <a:ext cx="49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4840" y="375768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5200" y="429084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2240" y="467208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2240" y="497520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600" y="3276360"/>
            <a:ext cx="137160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 ENTRE  ESTANDARES  PARA  PRODUCCION  Y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 DE TIEMPO L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EAS  DISTINTAS, NO REPETITI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ETODO COMUNMENTE ACEPTADO NO ES EL QUE S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CONTENIDO VARIABLE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.-LOS TRABAJOS GRANDES SON MAS PREC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DE TIEMPO CO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ES RE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EX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IDO EXACTO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118640" cy="60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CIÓN  DE  LOS  ACTIVOS POR  MAN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º  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stión  DE   LOS  ACTIVO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álisis 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inos  Críticos  de  Producción  y  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po  de  Interés  para  Mantención (ED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CAJONERA  PARA  SLO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23619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907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2952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010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12952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86600" y="3962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96080" y="40384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696080" y="5105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4479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810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146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971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1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14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24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34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7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7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6172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83200" y="5105520"/>
            <a:ext cx="133560" cy="1047600"/>
          </a:xfrm>
          <a:custGeom>
            <a:avLst/>
            <a:gdLst/>
            <a:ahLst/>
            <a:rect l="l" t="t" r="r" b="b"/>
            <a:pathLst>
              <a:path w="84" h="660">
                <a:moveTo>
                  <a:pt x="23" y="0"/>
                </a:moveTo>
                <a:cubicBezTo>
                  <a:pt x="15" y="86"/>
                  <a:pt x="0" y="145"/>
                  <a:pt x="23" y="228"/>
                </a:cubicBezTo>
                <a:cubicBezTo>
                  <a:pt x="27" y="242"/>
                  <a:pt x="41" y="251"/>
                  <a:pt x="47" y="264"/>
                </a:cubicBezTo>
                <a:cubicBezTo>
                  <a:pt x="57" y="287"/>
                  <a:pt x="63" y="312"/>
                  <a:pt x="71" y="336"/>
                </a:cubicBezTo>
                <a:cubicBezTo>
                  <a:pt x="75" y="348"/>
                  <a:pt x="83" y="372"/>
                  <a:pt x="83" y="372"/>
                </a:cubicBezTo>
                <a:cubicBezTo>
                  <a:pt x="79" y="408"/>
                  <a:pt x="84" y="446"/>
                  <a:pt x="71" y="480"/>
                </a:cubicBezTo>
                <a:cubicBezTo>
                  <a:pt x="29" y="584"/>
                  <a:pt x="33" y="392"/>
                  <a:pt x="23" y="528"/>
                </a:cubicBezTo>
                <a:cubicBezTo>
                  <a:pt x="20" y="572"/>
                  <a:pt x="23" y="616"/>
                  <a:pt x="23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6172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5105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5124600"/>
            <a:ext cx="114480" cy="1047600"/>
          </a:xfrm>
          <a:custGeom>
            <a:avLst/>
            <a:gdLst/>
            <a:ahLst/>
            <a:rect l="l" t="t" r="r" b="b"/>
            <a:pathLst>
              <a:path w="72" h="660">
                <a:moveTo>
                  <a:pt x="12" y="0"/>
                </a:moveTo>
                <a:cubicBezTo>
                  <a:pt x="20" y="24"/>
                  <a:pt x="28" y="48"/>
                  <a:pt x="36" y="72"/>
                </a:cubicBezTo>
                <a:cubicBezTo>
                  <a:pt x="40" y="84"/>
                  <a:pt x="44" y="96"/>
                  <a:pt x="48" y="108"/>
                </a:cubicBezTo>
                <a:cubicBezTo>
                  <a:pt x="52" y="120"/>
                  <a:pt x="56" y="132"/>
                  <a:pt x="60" y="144"/>
                </a:cubicBezTo>
                <a:cubicBezTo>
                  <a:pt x="64" y="156"/>
                  <a:pt x="72" y="180"/>
                  <a:pt x="72" y="180"/>
                </a:cubicBezTo>
                <a:cubicBezTo>
                  <a:pt x="60" y="272"/>
                  <a:pt x="30" y="354"/>
                  <a:pt x="12" y="444"/>
                </a:cubicBezTo>
                <a:cubicBezTo>
                  <a:pt x="29" y="512"/>
                  <a:pt x="55" y="605"/>
                  <a:pt x="0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696080" y="51051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45720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58080" y="4781520"/>
            <a:ext cx="403200" cy="285840"/>
          </a:xfrm>
          <a:custGeom>
            <a:avLst/>
            <a:gdLst/>
            <a:ahLst/>
            <a:rect l="l" t="t" r="r" b="b"/>
            <a:pathLst>
              <a:path w="254" h="180">
                <a:moveTo>
                  <a:pt x="0" y="180"/>
                </a:moveTo>
                <a:cubicBezTo>
                  <a:pt x="72" y="108"/>
                  <a:pt x="137" y="87"/>
                  <a:pt x="228" y="48"/>
                </a:cubicBezTo>
                <a:cubicBezTo>
                  <a:pt x="254" y="9"/>
                  <a:pt x="252" y="26"/>
                  <a:pt x="2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4971960"/>
            <a:ext cx="13356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0" y="60"/>
                </a:moveTo>
                <a:cubicBezTo>
                  <a:pt x="57" y="41"/>
                  <a:pt x="37" y="23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9000" y="575316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15" y="203"/>
                  <a:pt x="7" y="191"/>
                  <a:pt x="60" y="156"/>
                </a:cubicBezTo>
                <a:cubicBezTo>
                  <a:pt x="68" y="140"/>
                  <a:pt x="77" y="124"/>
                  <a:pt x="84" y="108"/>
                </a:cubicBezTo>
                <a:cubicBezTo>
                  <a:pt x="89" y="96"/>
                  <a:pt x="87" y="81"/>
                  <a:pt x="96" y="72"/>
                </a:cubicBezTo>
                <a:cubicBezTo>
                  <a:pt x="124" y="44"/>
                  <a:pt x="164" y="2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8600" y="3211560"/>
            <a:ext cx="8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A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320" y="3414600"/>
            <a:ext cx="65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0                025              090                 2,5                  4,5                  2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15                050               1,5                  3,5                 6,5                  28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16680"/>
            <a:ext cx="65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          B         C         D        E           F          G          H          I                        P      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5240" y="6340320"/>
            <a:ext cx="216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ASTA  80  HOR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N  ALGUNOS    C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6400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1295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01080" y="1295280"/>
            <a:ext cx="37800" cy="400320"/>
          </a:xfrm>
          <a:custGeom>
            <a:avLst/>
            <a:gdLst/>
            <a:ahLst/>
            <a:rect l="l" t="t" r="r" b="b"/>
            <a:pathLst>
              <a:path w="24" h="252">
                <a:moveTo>
                  <a:pt x="24" y="0"/>
                </a:moveTo>
                <a:cubicBezTo>
                  <a:pt x="5" y="96"/>
                  <a:pt x="0" y="145"/>
                  <a:pt x="0" y="2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53440" y="1314360"/>
            <a:ext cx="33120" cy="190440"/>
          </a:xfrm>
          <a:custGeom>
            <a:avLst/>
            <a:gdLst/>
            <a:ahLst/>
            <a:rect l="l" t="t" r="r" b="b"/>
            <a:pathLst>
              <a:path w="21" h="120">
                <a:moveTo>
                  <a:pt x="21" y="0"/>
                </a:moveTo>
                <a:cubicBezTo>
                  <a:pt x="0" y="63"/>
                  <a:pt x="9" y="23"/>
                  <a:pt x="9" y="1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880" y="5726160"/>
            <a:ext cx="748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MEDIO                       0,4       070      1,2       2.0      3.0          4.0         5.0                    26         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ITME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2120" y="37800"/>
            <a:ext cx="8731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TAPAS  PARA  EL  ESTABLECIMIENTO DE  UN  SISTEMA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 ESTANDARES  UNIVERSALE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1720" y="1401840"/>
            <a:ext cx="86173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ESTANDARES  DE 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leccionar  trabajos  representativ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rminar sus  estándares  po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dic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SEGMENTOS  Y  TIEMPOS 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ganizar  secuencialmente  y  determinar 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tribución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efinir  18  segmentos  en  la  distribución 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Calcular  el  promedio  de  los  tiempos  de  c/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ae00"/>
                </a:solidFill>
                <a:latin typeface="Arial"/>
              </a:rPr>
              <a:t>ESTE  SERA  EL  VALOR  CARACTERISTICO  DEL 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ASIGNAR  LOS  TRABAJOS  AL  SEGMENTO 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IDAD  EN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SE  ENTIENDE  POR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 EL CUOCIENTE  ENTRE  LA  PRODUCCION  Y/O  SERVICIOS  OBTENIDOS  Y  LOS  RECURSOS  EMPL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   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PRODUCCION Y/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DAD  =                      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876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NO  ES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ICIENCIA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RAZON  ENTRE  LA  PRODUCCION  OBTENIDA  Y  LA  PRODUCCION ESTANDAR 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EL GRADO  DE  CUMPLIMIENTO  DE  LOS 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ABIL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 RAZON  ENTRE  LOS  INGRESOS  Y  LOS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ES  EL  MUESTREO  DE ACTIVIDAD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UNA  TECNICA  PARA  DETERMINAR  DATOS   QUE  PERMITAN  MEDIR  ACTIVIDADES  DE  HOMBRES  Y/O  MAQUINAS,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EDIANTE  OBSERVACIONES  AL  AZ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BASANDOSE  EN  LEYES  PROBABILI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 MUESTREO  DE  ACTIVIDADES   UTILIZA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OBSERVACION  DEL  ANAL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OS  DE  MEDIC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4114800"/>
          <a:ext cx="168768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14800"/>
                    <a:ext cx="16876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  DE MUESTREO  DEL 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835200"/>
          <a:ext cx="799308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5200"/>
                    <a:ext cx="799308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CION  DEL TIEMPO DE LA JORNADA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TIEMPO TOTAL DE LA MANO DE OBRA = 8 HRS, 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MANOS A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ACTIVIDADE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EN 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SP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 H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US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ATRIBU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RS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REL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7432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038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876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79080" y="-34920"/>
            <a:ext cx="67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tiempo de un trabajo de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412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4480" y="175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4120" y="914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4120" y="380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4480" y="541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5920" y="838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BA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2040" y="167652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una mala defin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733920"/>
            <a:ext cx="229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deficienci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533412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putable a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18720" y="2590920"/>
            <a:ext cx="263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métodos inefic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447560" y="6248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85440" y="6248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05120" y="685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9120" y="685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62120" y="6858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28800" y="327636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93240" y="2754360"/>
            <a:ext cx="145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 tot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 operación 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s condi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ist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52520" y="4049640"/>
            <a:ext cx="11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828800" y="6854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480" y="1523880"/>
            <a:ext cx="114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eni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685800"/>
            <a:ext cx="1752480" cy="990720"/>
          </a:xfrm>
          <a:prstGeom prst="rect">
            <a:avLst/>
          </a:pr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1676520"/>
            <a:ext cx="1752480" cy="609480"/>
          </a:xfrm>
          <a:prstGeom prst="rect">
            <a:avLst/>
          </a:prstGeom>
          <a:solidFill>
            <a:srgbClr val="e6de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286000"/>
            <a:ext cx="1752480" cy="990720"/>
          </a:xfrm>
          <a:prstGeom prst="rect">
            <a:avLst/>
          </a:prstGeom>
          <a:solidFill>
            <a:srgbClr val="e0c27e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276720"/>
            <a:ext cx="1752480" cy="1828800"/>
          </a:xfrm>
          <a:prstGeom prst="rect">
            <a:avLst/>
          </a:prstGeom>
          <a:solidFill>
            <a:srgbClr val="ea967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5105520"/>
            <a:ext cx="1752480" cy="1143000"/>
          </a:xfrm>
          <a:prstGeom prst="rect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914400"/>
            <a:ext cx="914400" cy="533520"/>
          </a:xfrm>
          <a:prstGeom prst="leftArrow">
            <a:avLst>
              <a:gd name="adj1" fmla="val 0"/>
              <a:gd name="adj2" fmla="val 499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16765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51460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7339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3341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ificación de Traba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ANTENCION   PREVE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ÁLISIS  DE  FALL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1160" y="63000"/>
            <a:ext cx="7321680" cy="15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  LOS  ACTIVO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560" y="1779480"/>
            <a:ext cx="8231760" cy="39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 importante  para la  producción  es  la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 realizan  las 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IMIENTO DE LA 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ABLECER UN SISTEMA DE CODIFICACION PARA REGISTR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STORIA - FALLAS  -  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IGNARLES UN NUMERO DE CUENTA PARA ACUMULAR S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R UN SISTEMA DE AGREGACION Y DESAGREG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EFECTOS DE PLANES DE MANTEN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NTENIMIENTO PREVENTIVO, establece los alcances de las actividades de previsión indispensables para asegurar la disponibilidad de la maquinaria y la continuidad de la producción. Se basa en un buen análisis de las fallas del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080" y="1133640"/>
            <a:ext cx="79146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INSPE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EMPLAZO DE REPUESTO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PARACIONE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LUBR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O BAS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INSPECCIONES  PERIODICAS  PROGRAM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PEQUEÑA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 EL  REEMPLAZO  DE  REPUESTOS  O  COMPON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AN  AUMENTAR  APRECIAB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 TIEMPO  ENTRE  GRANDE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AYUDARAN  </a:t>
            </a: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A  REDUCIR  O  ELIMINAR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CONSECUENCIAS  DE  LAS  FALLAS  Y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PARALIZACION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L  EQUI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22200"/>
            <a:ext cx="769788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2680" y="2016000"/>
            <a:ext cx="87526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ANALISIS DE FALLAS PARA DEFINCIO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ITICAS DE MANTENIMIENTO  Y  DEL  CON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FRECUENCIA  DE  LAS PA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SUBDIVIDIR EL EQUIPO EN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LAS FALL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BUSCAR LAS 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SEÑALES DEBILES Y METOD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CARTILLAS DE MP INTEG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3960" y="380880"/>
            <a:ext cx="635976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2080" y="2057400"/>
            <a:ext cx="8362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MANTENCION PREDICTIVA SOBRE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SE  DE  LOS  METODOS   DE 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R PAUTAS PROMEDIO ESTANDAR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QUE SE ORIGINAN EN LA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I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CION DEL COSTO DE LAS CARTI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RUTAS 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2000" y="1444680"/>
            <a:ext cx="742572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ERIENCIA DE LOS MANTEN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RECOMENDACIONES DEL 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 RETROALIMENTACION DE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USO  (Hist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FRECUENCIA DE FALLAS, TASA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RIODO  DE  DESARROLLO   DE  LA 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DENES DE TRABAJO GENERADA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ULTADO DE LAS INSP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URACION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METIDOS A 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NA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45920" y="4222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elación Costo / Edad de la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219320" y="8380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5627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206360"/>
            <a:ext cx="4470120" cy="3517920"/>
          </a:xfrm>
          <a:custGeom>
            <a:avLst/>
            <a:gdLst/>
            <a:ahLst/>
            <a:rect l="l" t="t" r="r" b="b"/>
            <a:pathLst>
              <a:path w="2816" h="2216">
                <a:moveTo>
                  <a:pt x="0" y="2168"/>
                </a:moveTo>
                <a:cubicBezTo>
                  <a:pt x="296" y="2192"/>
                  <a:pt x="592" y="2216"/>
                  <a:pt x="912" y="2168"/>
                </a:cubicBezTo>
                <a:cubicBezTo>
                  <a:pt x="1232" y="2120"/>
                  <a:pt x="1640" y="2080"/>
                  <a:pt x="1920" y="1880"/>
                </a:cubicBezTo>
                <a:cubicBezTo>
                  <a:pt x="2200" y="1680"/>
                  <a:pt x="2448" y="1256"/>
                  <a:pt x="2592" y="968"/>
                </a:cubicBezTo>
                <a:cubicBezTo>
                  <a:pt x="2736" y="680"/>
                  <a:pt x="2752" y="304"/>
                  <a:pt x="2784" y="152"/>
                </a:cubicBezTo>
                <a:cubicBezTo>
                  <a:pt x="2816" y="0"/>
                  <a:pt x="2800" y="28"/>
                  <a:pt x="2784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12193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990720"/>
            <a:ext cx="1524240" cy="761760"/>
          </a:xfrm>
          <a:prstGeom prst="irregularSeal2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20640" y="11541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32767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6480" y="112860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P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7200" y="586728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572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7440" y="397368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IMER SÍNTO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 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197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9680" y="57261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95520" y="603108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tervalo de  inspec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1521000"/>
            <a:ext cx="862056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 FRECUENCIA  DE  LAS  TAREAS  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TENIMIENTO  PREDICTIVO  O CON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ERA  SER  FUNCION  DEL  PERIODO 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 DE  LA  F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mbién  conocido  como  “demora  en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ducción  de  la  falla”   o   intervalo  P  -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68920" y="196704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581280" y="1676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6294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24382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20968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46880" y="1738440"/>
            <a:ext cx="465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la falla 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necesariamente ligado a la e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733920" y="297144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6320" y="2424240"/>
            <a:ext cx="291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se pu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ar que la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pot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16320" y="4479840"/>
            <a:ext cx="2161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ll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6290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5181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548640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5440" y="1204920"/>
            <a:ext cx="246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8440" y="32148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08840" y="53481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257800" y="22856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2296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1981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7339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864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11640" y="3587760"/>
            <a:ext cx="29232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59760" y="5035680"/>
            <a:ext cx="1396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45440" y="2271600"/>
            <a:ext cx="223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to   8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3124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360" y="3735360"/>
            <a:ext cx="594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8080" y="3740040"/>
            <a:ext cx="3873240" cy="143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87840" y="1509840"/>
            <a:ext cx="311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de insp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   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8360" y="183960"/>
            <a:ext cx="6940440" cy="13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LOS  ACTIVO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1600" y="1514520"/>
            <a:ext cx="6220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importante para la producción 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 realizan la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 DE LA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CION 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MPORTANCIA  PARA 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O DE LAS MA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O:   MA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a0ab3"/>
                </a:solidFill>
                <a:latin typeface="Arial"/>
              </a:rPr>
              <a:t>CAMBIOS TIPIC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1920" y="1514520"/>
            <a:ext cx="798048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RTILL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 INSPECCION   Y   REPARAC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REFORMULAD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N  BASE  AL  ANA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 FALLAS       (Para todos los equip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ONOCIMIENTO DEL COS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ON PREVENTIVA Y  CORREC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 ANUAL, MENSUAL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ANAL DE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M.P. ,   PREDICTIVA  Y  DE  DETE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RECU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TERMINADAS  EN  BASE  A 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A  DE  FALLAS  Y  AL  INTERVALO  P -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OPERADORES ENTRENADO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ARA M.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7120" y="1133640"/>
            <a:ext cx="89755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 COSTO  DE  M.P.  ES  PARECIDO  AL  DE  UNA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IMA DE SEGU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el  costo  de  la  prima  exede  el  costo  del  ries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 cubre,  debe  ser  reducida  o  elimin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20  grandes  calefactores  de  edificios  indust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babilidad  de  falla  es  ba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uno  falla  no  habrá  pérdida  de  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rá  difícil  justificar  un  trabajo  de  MP 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sea  una  inspección  y  revisión  anu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Una  gran  unidad  de  aire  acondicionado  de  un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de 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quipo  complejo  con  fallas  por  diversos  mo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 falla  afecta  a  todo  el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  justifica  un completo  plan  de  MP  durante el añ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209600"/>
            <a:ext cx="817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LEFACTOR 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pérdida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l  con  poc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s  incomod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1 + 2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ENTRAL  DE  AIRE  A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complej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equipo de  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os contro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  personas  en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ere mu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 ventanas  no  se  ab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 de  manten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 debe evacuar 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8 + 9 =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AS  DE  M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6840" y="1530360"/>
            <a:ext cx="7378920" cy="433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0360" y="198756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92680" y="1987560"/>
            <a:ext cx="67284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6040" y="1987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88160" y="29019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83040" y="29782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9680" y="2901960"/>
            <a:ext cx="6728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30360" y="389268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68640" y="38926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39686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9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73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30360" y="48830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096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2286000"/>
            <a:ext cx="1676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2209680"/>
            <a:ext cx="60948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276720"/>
            <a:ext cx="83808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572000" y="41911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666520" y="41911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133360" y="4191120"/>
            <a:ext cx="53316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160" y="51814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4191120"/>
            <a:ext cx="1371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18480" y="5157720"/>
            <a:ext cx="8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70760" y="6073920"/>
            <a:ext cx="11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867280"/>
            <a:ext cx="144792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200" y="1654200"/>
            <a:ext cx="131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200" y="4624560"/>
            <a:ext cx="104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L  DE  FALLAS  DE   UN  EQUIP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960" y="2063880"/>
            <a:ext cx="8140680" cy="25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66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1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76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4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7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19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24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10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62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5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72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24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77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9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1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34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4382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7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68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332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4280" y="2103480"/>
            <a:ext cx="203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759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4440" y="2152800"/>
            <a:ext cx="4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160" y="2255760"/>
            <a:ext cx="28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74040" y="2181240"/>
            <a:ext cx="760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 A B C A  B  C A B  C A B  C A  B C A B C A B  C A B  C A B  C A B C A  B C A B C A  B  C A B C A B  C A 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13680" y="220356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9480" y="205704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0280" y="1752480"/>
            <a:ext cx="828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     02     03     04     05     06     07     08     09     10     11     12     13     14     15     16     17    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4040" y="1822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28240" y="2486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854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570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4240" y="26384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66520" y="27907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30481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286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844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420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38098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14400" y="2660760"/>
            <a:ext cx="53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4400" y="327024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14760" y="3954600"/>
            <a:ext cx="71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I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0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26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4160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796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082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368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132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98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48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09120" y="38559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0932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7144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84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7040" y="4365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108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70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22680" y="43894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1400040" y="0"/>
          <a:ext cx="62200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0"/>
                    <a:ext cx="6220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0" y="434880"/>
          <a:ext cx="9144000" cy="598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48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609480" y="204840"/>
          <a:ext cx="9829800" cy="74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4840"/>
                    <a:ext cx="9829800" cy="74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380880" y="692280"/>
          <a:ext cx="8534520" cy="55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92280"/>
                    <a:ext cx="85345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0" y="990720"/>
          <a:ext cx="87631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763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144720"/>
            <a:ext cx="842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ACTIVO  FIJO  COMO OBJETO  DE LA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200" y="906480"/>
            <a:ext cx="82335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es:  Maquinaria de producción y 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aciones fi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ficios, galpones, tall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tios, caminos, camp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cació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ificación y codificación p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bicación, registro  de  capital, cost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llas,  his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isión en partes, componentes  y  repuestos  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álisis de consumo y abastecimi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ción en familias, clases, tipos  para anális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trabajos de manten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cedent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téc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 Historia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de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ón,  Costos,  Fal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atos  Claves  En   El  Historial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ara   ANALISIS  Cuantitativo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e   F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99"/>
                </a:solidFill>
                <a:latin typeface="Times New Roman"/>
              </a:rPr>
              <a:t>DESCRIPCION  del  evento  de  f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  corre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ripción  intel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tura  del  horó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 si  detiene  el  ED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ción  de  la 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 de  la 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CURVA DE LA BAÑERA</a:t>
            </a:r>
            <a:br>
              <a:rPr sz="1600"/>
            </a:b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LA  TASA  DE  FALLAS  EN  FUNCION  DEL  TIEMPO   DE  OPE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4382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5181480"/>
            <a:ext cx="761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61400" y="536580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54240" y="5486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5800" y="1060560"/>
            <a:ext cx="0" cy="161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7320" y="1523880"/>
            <a:ext cx="3183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Vida  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tasa de fallas 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62940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438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30592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6840360" y="1858680"/>
            <a:ext cx="1486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A 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G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4502160"/>
            <a:ext cx="456552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59360" y="1149480"/>
            <a:ext cx="3339720" cy="33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3048120"/>
            <a:ext cx="1371600" cy="1460520"/>
          </a:xfrm>
          <a:custGeom>
            <a:avLst/>
            <a:gdLst/>
            <a:ahLst/>
            <a:rect l="l" t="t" r="r" b="b"/>
            <a:pathLst>
              <a:path w="864" h="920">
                <a:moveTo>
                  <a:pt x="0" y="0"/>
                </a:moveTo>
                <a:cubicBezTo>
                  <a:pt x="12" y="40"/>
                  <a:pt x="24" y="80"/>
                  <a:pt x="48" y="144"/>
                </a:cubicBezTo>
                <a:cubicBezTo>
                  <a:pt x="72" y="208"/>
                  <a:pt x="96" y="296"/>
                  <a:pt x="144" y="384"/>
                </a:cubicBezTo>
                <a:cubicBezTo>
                  <a:pt x="192" y="472"/>
                  <a:pt x="264" y="592"/>
                  <a:pt x="336" y="672"/>
                </a:cubicBezTo>
                <a:cubicBezTo>
                  <a:pt x="408" y="752"/>
                  <a:pt x="504" y="824"/>
                  <a:pt x="576" y="864"/>
                </a:cubicBezTo>
                <a:cubicBezTo>
                  <a:pt x="648" y="904"/>
                  <a:pt x="720" y="904"/>
                  <a:pt x="768" y="912"/>
                </a:cubicBezTo>
                <a:cubicBezTo>
                  <a:pt x="816" y="920"/>
                  <a:pt x="848" y="912"/>
                  <a:pt x="864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4752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57400" y="1599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34200">
            <a:off x="530280" y="19105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05920" y="5181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08880" y="6218280"/>
            <a:ext cx="219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295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19051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4674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236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2971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467480" y="2209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3505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4114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457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51814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4674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5562720"/>
            <a:ext cx="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172200"/>
            <a:ext cx="65530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543800" y="5638680"/>
            <a:ext cx="0" cy="533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80880"/>
            <a:ext cx="0" cy="6858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990720"/>
            <a:ext cx="65530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467480" y="76320"/>
            <a:ext cx="0" cy="9144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3480" y="3049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840" y="121932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880" y="228600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520" y="35035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880" y="4417920"/>
            <a:ext cx="4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520" y="54849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762120"/>
            <a:ext cx="48006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5840" y="-304920"/>
            <a:ext cx="15238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4120" y="-304920"/>
            <a:ext cx="21330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1676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91320" y="914040"/>
            <a:ext cx="16758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914400" y="2437920"/>
            <a:ext cx="6553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809880"/>
            <a:ext cx="60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5840" y="3811680"/>
            <a:ext cx="10666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49528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5943600"/>
            <a:ext cx="56386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2160" y="4876560"/>
            <a:ext cx="1828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79520" y="204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79520" y="1347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79520" y="256716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79520" y="355752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55480" y="4700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31800" y="5843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68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TENIMIENTO  CENTRADO  EN LA  CONFIAB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E  LOGRA  DISMINUIR  EL  TIEMPO PERDIDO  POR  LAS  MA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693720" y="1547640"/>
          <a:ext cx="776916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47640"/>
                    <a:ext cx="77691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bla comparativa de los principios de RCM  antes y después de la experiencia de John Moub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371600"/>
            <a:ext cx="875160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volución del método MANTENCION  CENTRA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ABILIDAD    R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CE PROPOSICIONES PARA TERMINAR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DEAS 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z años de aplicación del método RCM  y de su derivado RC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as de 500 plantas industriales en 27 países han permit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una síntesis de quince cambios más important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introducidos en el campo de la gestión de los equip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ia un nuevo paradigm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ndo cambia, el mundo se mueve....El mantenimiento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á estan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os equipos fís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 prevenir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primer objetivo de la función mantenimiento es optimizar la disponibilidad de la planta al costo mín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  Cuanto mas envejece  el equipo mas probable es que ocurran las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 Es indispensable disponer de datos completos acerca de la tasa de fallas antes de desarrollar un programa de mantenimiento verdaderamente exit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tres tipos de mantenimiento:  predictivo, preventivo, correc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 de la frecuencia de las fallas y / o de la criticidad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La   inspección o el reemplazo a intervalos fijos, si estan técnicamente bien diseñados, son mas eficaces que el mantenimiento con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os incidentes serios  o los accidentes catastróficos  que acompañan  a las fallas múltiples de los equipos son, habitualmente, el resultado de  “mala suerte”  o de “ fuerza mayor” y, por lo tanto, no pueden ser gestionados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a función de los equi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reducir o eliminar las consecuencias de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 mantenimiento integra todos los aspectos:  desde el rendimiento de la actividad  pasando por la seguridad, la integridad ambiental, la eficacia energética, la calidad del producto y el servicio a los clientes; y no sólo la disponibilidad de la planta y los co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  En la mayor parte de los casos las fallas no son mas probables con el envejec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Las decisiones relacionadas con la gestión de las fallas de los equipos deberán ser tomadas, casi siempre, con datos insuficientes en relación a la tasa de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cuatro tipos de mantenimiento:  predictivo, preventivo, correctivo, de dete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l período  de desarrollo de la falla (también conocido como “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ra en la producción de la falla” o  “intervalo P -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El  mantenimiento condicional es casi siempre un mejor procedimiento y mas eficaz que la inspección o el reemplazo a  intervalos fijos  durante toda la vida del equi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a probabilidad  de que se produzcan fallas múltiples  es una variable que puede  ser  gestionada,  especialmente en los sistemas bien proteg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La  forma  mas rápida  y  segura de mejorar el rendimiento de los equipos  “no confiables” que tiene la planta es mejorar su 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Es posible desarrollar  políticas generales de mantenimiento para la mayor parte de lo tipos de equip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responsables y los planes,  elaborados por especialistas  calificados o consultores externos (en un esquema de arriba hacia abajo, top - dow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Solamente el departamento de mantención puede desarrollar un programa de mantenimiento exitoso y perman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son los que están en la mejor posición para desarrollar los programas de mantenimiento correspo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 Es posible encontrar  una solución rápida e inmediata a todos los problemas  relacionados con la eficacia  del manten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7960" y="6854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Para  mejorar el rendimiento de los equipos  “no confiables” que tiene la planta es,  generalmente,  mas rentable empezar por actuar sobre la forma  en que son operados y mantenidos.  Si esto no resulta  habrá que preocuparse del dise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 Las  políticas generales de mantenimiento deberán ser aplicadas solamente a equipos idénticos  y siempre que  el contexto operacional,  las funciones y  las normas de rendimiento también sean idéntic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personas mas cercanas a los equipos.  El papel  de los responsables es proporcionar las herramientas para ayudarlos a tomar las mejores decisiones y asegurar que las decisiones sean comprobadas y defendi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El  desarrollo de un programa de mantenimiento exitoso y permanente  debe ser el fruto de la colaboración entre los mantenedores y los usuarios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deberán contribuir al desarrollo de  los programas de mantenimiento de  los  equipos  nue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Los problemas  de  mantenimiento  deben ser resueltos en dos etapas:  la primera consiste en cambiar los esquemas de pensamiento de los hombres de mantención, la segunda tiene por objeto incentivarlos a aplicar  estos  nuevos esquemas a los problemas técnicos y a los proce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6440" y="152280"/>
            <a:ext cx="6502320" cy="965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60" y="3021120"/>
            <a:ext cx="2241360" cy="87156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32320" y="2900520"/>
            <a:ext cx="1974600" cy="1135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00440" y="1589040"/>
            <a:ext cx="1616040" cy="838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97560" y="3925800"/>
            <a:ext cx="2747880" cy="1454400"/>
          </a:xfrm>
          <a:custGeom>
            <a:avLst/>
            <a:gdLst/>
            <a:ahLst/>
            <a:rect l="l" t="t" r="r" b="b"/>
            <a:pathLst>
              <a:path w="1731" h="916">
                <a:moveTo>
                  <a:pt x="1730" y="455"/>
                </a:moveTo>
                <a:lnTo>
                  <a:pt x="909" y="0"/>
                </a:lnTo>
                <a:lnTo>
                  <a:pt x="909" y="132"/>
                </a:lnTo>
                <a:lnTo>
                  <a:pt x="0" y="132"/>
                </a:lnTo>
                <a:lnTo>
                  <a:pt x="1" y="785"/>
                </a:lnTo>
                <a:lnTo>
                  <a:pt x="908" y="785"/>
                </a:lnTo>
                <a:lnTo>
                  <a:pt x="908" y="915"/>
                </a:lnTo>
                <a:lnTo>
                  <a:pt x="1730" y="455"/>
                </a:lnTo>
                <a:lnTo>
                  <a:pt x="1730" y="455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97560" y="5442120"/>
            <a:ext cx="2747880" cy="1417320"/>
          </a:xfrm>
          <a:custGeom>
            <a:avLst/>
            <a:gdLst/>
            <a:ahLst/>
            <a:rect l="l" t="t" r="r" b="b"/>
            <a:pathLst>
              <a:path w="1731" h="893">
                <a:moveTo>
                  <a:pt x="1730" y="443"/>
                </a:moveTo>
                <a:lnTo>
                  <a:pt x="909" y="0"/>
                </a:lnTo>
                <a:lnTo>
                  <a:pt x="909" y="129"/>
                </a:lnTo>
                <a:lnTo>
                  <a:pt x="0" y="129"/>
                </a:lnTo>
                <a:lnTo>
                  <a:pt x="1" y="765"/>
                </a:lnTo>
                <a:lnTo>
                  <a:pt x="908" y="765"/>
                </a:lnTo>
                <a:lnTo>
                  <a:pt x="908" y="892"/>
                </a:lnTo>
                <a:lnTo>
                  <a:pt x="1730" y="443"/>
                </a:lnTo>
                <a:lnTo>
                  <a:pt x="1730" y="443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6000" y="4289400"/>
            <a:ext cx="1766880" cy="83664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44920" y="2457360"/>
            <a:ext cx="106560" cy="397080"/>
          </a:xfrm>
          <a:custGeom>
            <a:avLst/>
            <a:gdLst/>
            <a:ahLst/>
            <a:rect l="l" t="t" r="r" b="b"/>
            <a:pathLst>
              <a:path w="67" h="250">
                <a:moveTo>
                  <a:pt x="33" y="249"/>
                </a:moveTo>
                <a:lnTo>
                  <a:pt x="66" y="184"/>
                </a:lnTo>
                <a:lnTo>
                  <a:pt x="44" y="184"/>
                </a:lnTo>
                <a:lnTo>
                  <a:pt x="44" y="0"/>
                </a:lnTo>
                <a:lnTo>
                  <a:pt x="22" y="0"/>
                </a:lnTo>
                <a:lnTo>
                  <a:pt x="22" y="184"/>
                </a:lnTo>
                <a:lnTo>
                  <a:pt x="0" y="184"/>
                </a:lnTo>
                <a:lnTo>
                  <a:pt x="33" y="249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27400" y="3394080"/>
            <a:ext cx="1176120" cy="104760"/>
          </a:xfrm>
          <a:custGeom>
            <a:avLst/>
            <a:gdLst/>
            <a:ahLst/>
            <a:rect l="l" t="t" r="r" b="b"/>
            <a:pathLst>
              <a:path w="741" h="66">
                <a:moveTo>
                  <a:pt x="0" y="32"/>
                </a:moveTo>
                <a:lnTo>
                  <a:pt x="66" y="0"/>
                </a:lnTo>
                <a:lnTo>
                  <a:pt x="66" y="22"/>
                </a:lnTo>
                <a:lnTo>
                  <a:pt x="740" y="22"/>
                </a:lnTo>
                <a:lnTo>
                  <a:pt x="740" y="43"/>
                </a:lnTo>
                <a:lnTo>
                  <a:pt x="66" y="43"/>
                </a:lnTo>
                <a:lnTo>
                  <a:pt x="66" y="65"/>
                </a:lnTo>
                <a:lnTo>
                  <a:pt x="0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1800" y="4600440"/>
            <a:ext cx="796680" cy="104760"/>
          </a:xfrm>
          <a:custGeom>
            <a:avLst/>
            <a:gdLst/>
            <a:ahLst/>
            <a:rect l="l" t="t" r="r" b="b"/>
            <a:pathLst>
              <a:path w="502" h="66">
                <a:moveTo>
                  <a:pt x="501" y="33"/>
                </a:moveTo>
                <a:lnTo>
                  <a:pt x="435" y="0"/>
                </a:lnTo>
                <a:lnTo>
                  <a:pt x="435" y="22"/>
                </a:lnTo>
                <a:lnTo>
                  <a:pt x="0" y="22"/>
                </a:lnTo>
                <a:lnTo>
                  <a:pt x="0" y="44"/>
                </a:lnTo>
                <a:lnTo>
                  <a:pt x="435" y="44"/>
                </a:lnTo>
                <a:lnTo>
                  <a:pt x="435" y="65"/>
                </a:lnTo>
                <a:lnTo>
                  <a:pt x="50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13120" y="4600440"/>
            <a:ext cx="1479240" cy="104760"/>
          </a:xfrm>
          <a:custGeom>
            <a:avLst/>
            <a:gdLst/>
            <a:ahLst/>
            <a:rect l="l" t="t" r="r" b="b"/>
            <a:pathLst>
              <a:path w="932" h="66">
                <a:moveTo>
                  <a:pt x="931" y="33"/>
                </a:moveTo>
                <a:lnTo>
                  <a:pt x="864" y="0"/>
                </a:lnTo>
                <a:lnTo>
                  <a:pt x="864" y="22"/>
                </a:lnTo>
                <a:lnTo>
                  <a:pt x="0" y="22"/>
                </a:lnTo>
                <a:lnTo>
                  <a:pt x="0" y="44"/>
                </a:lnTo>
                <a:lnTo>
                  <a:pt x="864" y="44"/>
                </a:lnTo>
                <a:lnTo>
                  <a:pt x="864" y="65"/>
                </a:lnTo>
                <a:lnTo>
                  <a:pt x="93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28880" y="6192720"/>
            <a:ext cx="2328840" cy="104760"/>
          </a:xfrm>
          <a:custGeom>
            <a:avLst/>
            <a:gdLst/>
            <a:ahLst/>
            <a:rect l="l" t="t" r="r" b="b"/>
            <a:pathLst>
              <a:path w="1467" h="66">
                <a:moveTo>
                  <a:pt x="1466" y="32"/>
                </a:moveTo>
                <a:lnTo>
                  <a:pt x="1400" y="0"/>
                </a:lnTo>
                <a:lnTo>
                  <a:pt x="1400" y="21"/>
                </a:lnTo>
                <a:lnTo>
                  <a:pt x="0" y="21"/>
                </a:lnTo>
                <a:lnTo>
                  <a:pt x="0" y="43"/>
                </a:lnTo>
                <a:lnTo>
                  <a:pt x="1400" y="43"/>
                </a:lnTo>
                <a:lnTo>
                  <a:pt x="1400" y="65"/>
                </a:lnTo>
                <a:lnTo>
                  <a:pt x="1466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56080" y="5376960"/>
            <a:ext cx="106560" cy="298440"/>
          </a:xfrm>
          <a:custGeom>
            <a:avLst/>
            <a:gdLst/>
            <a:ahLst/>
            <a:rect l="l" t="t" r="r" b="b"/>
            <a:pathLst>
              <a:path w="67" h="188">
                <a:moveTo>
                  <a:pt x="33" y="187"/>
                </a:moveTo>
                <a:lnTo>
                  <a:pt x="66" y="122"/>
                </a:lnTo>
                <a:lnTo>
                  <a:pt x="44" y="122"/>
                </a:lnTo>
                <a:lnTo>
                  <a:pt x="44" y="0"/>
                </a:lnTo>
                <a:lnTo>
                  <a:pt x="22" y="0"/>
                </a:lnTo>
                <a:lnTo>
                  <a:pt x="22" y="122"/>
                </a:lnTo>
                <a:lnTo>
                  <a:pt x="0" y="122"/>
                </a:lnTo>
                <a:lnTo>
                  <a:pt x="33" y="187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98640" y="5146560"/>
            <a:ext cx="106200" cy="1055880"/>
          </a:xfrm>
          <a:custGeom>
            <a:avLst/>
            <a:gdLst/>
            <a:ahLst/>
            <a:rect l="l" t="t" r="r" b="b"/>
            <a:pathLst>
              <a:path w="67" h="665">
                <a:moveTo>
                  <a:pt x="33" y="0"/>
                </a:moveTo>
                <a:lnTo>
                  <a:pt x="66" y="65"/>
                </a:lnTo>
                <a:lnTo>
                  <a:pt x="44" y="65"/>
                </a:lnTo>
                <a:lnTo>
                  <a:pt x="44" y="664"/>
                </a:lnTo>
                <a:lnTo>
                  <a:pt x="22" y="664"/>
                </a:lnTo>
                <a:lnTo>
                  <a:pt x="22" y="65"/>
                </a:lnTo>
                <a:lnTo>
                  <a:pt x="0" y="65"/>
                </a:lnTo>
                <a:lnTo>
                  <a:pt x="33" y="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2440" y="206280"/>
            <a:ext cx="420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 INFLUENCIA DE LA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840" y="568440"/>
            <a:ext cx="548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 LAS CONDICIONES D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35080" y="1741320"/>
            <a:ext cx="1328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000" spc="-1" strike="noStrike">
                <a:solidFill>
                  <a:srgbClr val="fc0128"/>
                </a:solidFill>
                <a:latin typeface="Courier New"/>
              </a:rPr>
              <a:t>M. 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320" y="303048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-12960" y="3314880"/>
            <a:ext cx="201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emprana de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-13320" y="358920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7160" y="290988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66800" y="315288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6800" y="339552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reemplaz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66440" y="363852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200" y="4309920"/>
            <a:ext cx="152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ISMIN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7200" y="4552920"/>
            <a:ext cx="164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os d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6840" y="47973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l 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84600" y="411804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84600" y="436104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84960" y="460548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pérdida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84600" y="48481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86040" y="562608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86400" y="5869080"/>
            <a:ext cx="23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cantidad de M.O.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86400" y="611352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terial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86040" y="63770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63680" y="431316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20600" y="45720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stad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4920" y="4832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63680" y="578340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09840" y="6041880"/>
            <a:ext cx="23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Carga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15760" y="6302520"/>
            <a:ext cx="196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de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61000" y="6192720"/>
            <a:ext cx="717480" cy="104760"/>
          </a:xfrm>
          <a:custGeom>
            <a:avLst/>
            <a:gdLst/>
            <a:ahLst/>
            <a:rect l="l" t="t" r="r" b="b"/>
            <a:pathLst>
              <a:path w="452" h="66">
                <a:moveTo>
                  <a:pt x="451" y="32"/>
                </a:moveTo>
                <a:lnTo>
                  <a:pt x="385" y="0"/>
                </a:lnTo>
                <a:lnTo>
                  <a:pt x="385" y="21"/>
                </a:lnTo>
                <a:lnTo>
                  <a:pt x="0" y="21"/>
                </a:lnTo>
                <a:lnTo>
                  <a:pt x="0" y="43"/>
                </a:lnTo>
                <a:lnTo>
                  <a:pt x="385" y="43"/>
                </a:lnTo>
                <a:lnTo>
                  <a:pt x="385" y="65"/>
                </a:lnTo>
                <a:lnTo>
                  <a:pt x="451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8640" y="3917880"/>
            <a:ext cx="106200" cy="319320"/>
          </a:xfrm>
          <a:custGeom>
            <a:avLst/>
            <a:gdLst/>
            <a:ahLst/>
            <a:rect l="l" t="t" r="r" b="b"/>
            <a:pathLst>
              <a:path w="67" h="201">
                <a:moveTo>
                  <a:pt x="33" y="200"/>
                </a:moveTo>
                <a:lnTo>
                  <a:pt x="66" y="136"/>
                </a:lnTo>
                <a:lnTo>
                  <a:pt x="44" y="136"/>
                </a:lnTo>
                <a:lnTo>
                  <a:pt x="44" y="0"/>
                </a:lnTo>
                <a:lnTo>
                  <a:pt x="22" y="0"/>
                </a:lnTo>
                <a:lnTo>
                  <a:pt x="22" y="136"/>
                </a:lnTo>
                <a:lnTo>
                  <a:pt x="0" y="136"/>
                </a:lnTo>
                <a:lnTo>
                  <a:pt x="33" y="20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040" y="318960"/>
            <a:ext cx="839808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L PROCESO DE ANÁLISIS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RENDE TRE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enunciado del servicio pr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o de acción  +  un complem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rendimiento asociado a la 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rimer nivel de rendimien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terrupción de la función detiene la producción  y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e en peligro la seguridad de las personas o de los bi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 segundo nivel de rendimiento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iabilid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ibilidad,  disponibilidad de los elem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s,  estudio de prevención de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os costos 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de los costos asociados a la función o a 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,  y al presupuesto de mantenció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4680" y="198360"/>
            <a:ext cx="82836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imer  nivel de ren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studia para cada función con la ayuda de una tabl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definir las etapas sigu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producción  (C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detiene la produ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ducción = objetivo de la instal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la seguridad (C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pone en peligr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ridad de las personas o (y)  de los b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  sub-crítico de producción  (CS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 no de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mediatamente  la producció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amino crítico de producción  CCP   puede esquematizarse  como una cad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2280" y="2673360"/>
            <a:ext cx="113004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4496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0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971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012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628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6840" y="284940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1600" y="2849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3520" y="3870360"/>
            <a:ext cx="673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falla  de  uno  sólo  de  los  componentes detie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producción  de va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bjetivo  de  la  insta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8:02:52Z</dcterms:modified>
  <cp:revision>21310</cp:revision>
  <dc:subject/>
  <dc:title>ADMINISTRACION  DEL  MANTENIMIENTO</dc:title>
</cp:coreProperties>
</file>