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9318-DCDF-4B99-B7D9-D40AAE2A494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5790-697F-4C22-AEBE-88B1C807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D204-52BE-4F10-A122-8E4466B6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6BCF-F2B6-4D80-8D9C-2BA8C740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05E4-AF49-4B01-A465-7F1CD2C1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D1C7-8646-46F9-A4E2-F9511E12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0927-A064-4B0B-BF5C-4862C9DF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0796-C771-43C0-8611-2BD61124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03C-4CEE-4092-9C8E-1C5AF02A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0AB6-7815-49AC-B071-EA9DE2EE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E6D-F69A-49FC-8878-817E5544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0C8-3DF7-4284-BFDF-541B279F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2BE7-52ED-4BCB-8674-06AE4C65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56E6-21DC-4049-B1A2-395E0994A1F6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5.wmf"/><Relationship Id="rId3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8640" y="-212040"/>
            <a:ext cx="21906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6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a0ab3"/>
                </a:solidFill>
                <a:latin typeface="Times New Roman"/>
              </a:rPr>
              <a:t>MOD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7118640" cy="536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SISTEMA DE ADMINISTRACION</a:t>
            </a:r>
            <a:br>
              <a:rPr sz="2800"/>
            </a:b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DEL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ALISIS  ESTRATE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VISION,  MISION,  OBJETVOS  Y  MET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D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IFIC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TENCION  PREVEN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  MAES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NOSTICO  DE  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RDEN  DE 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GRAM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ALUACION  DE 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44440" y="1600200"/>
            <a:ext cx="8899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dministrar y proteger eficientemente las personas, los activos y los recursos, poniendo énfasis en desarrollar relaciones de colaboración y compromiso mutuo entre todos los integrantes de la organización y su entor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rientar la gestión hacia una óptima atención al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Incorporar las más modernas herramientas tecnológicas y de gestión a la función de Mantención, con el objeto de asegurar su competividad, incluyendo alta calidad de servicio, alta productividad y bajos co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esarrollar la función de Mantención en un marco de respeto por el medio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28600"/>
            <a:ext cx="8305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OBJETIVO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ESTRATEGICOS DE MANTENCION Y SERVICIOS</a:t>
            </a: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44440" y="990720"/>
            <a:ext cx="889956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El proyecto Mantención es un plan estratégico de mediano plazo que se orienta a posicionar a la Superintendecia de Mantención y Servicios en un nivel de excelencia, que le permita cumplir eficientemente con la responsabilidad que le compete en el mantenimiento de la disponibilidad, confiabilidad y continuidad operacional de las instalaciones de Hidrometalurg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Las metas del proyecto deben alcanzarse a través de la participación de toda la organización de Mantención, mediante un proceso de cambios continuos, orientados a lograr los más altos niveles de competitividad que proyecten la gestión de la Superintendencia hacia el próximo sigl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El proyecto tiene como primera prioridad cumplir con la Misión, Objetivos Estratégicos y Visión Futura de Mantención y Servicios.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PROYECTO MANTEN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44440" y="1600200"/>
            <a:ext cx="8899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rol de pérd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Capacitación y desarrollo del 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Administración del servicio de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Protección del 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Calidad del servicio de man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Desarrollo del área de Ingeniería de Man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Gestión de abastecimientos e inven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Administración de los costos de man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Implantación del módulo de mantención SAP-P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22860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PLANES DE ACCIÓN PERMANENTES DE MANTEN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4440" y="1600200"/>
            <a:ext cx="8899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n instructivos que dicta la gerencia acerca de un tema y que deben ser acatados por todos los componentes de la organiz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ión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interesado e inter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gran que todos colaboren y actuen coordinadamente para obtener los objetivos previs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228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POLI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240" y="-144360"/>
            <a:ext cx="8920080" cy="15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6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ORQUE UN MODELO  DE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ADMINISTRACION DEL MANTENIMIEN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0040" y="1401840"/>
            <a:ext cx="853452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JETIVO:   OBTENER     EFICACIA,    ECONOMIA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Y      ESTABILIDAD   DE FUNCIONAMIENTO DE LA P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XPLICIT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Objetivos y poli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STEMATIZ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los  procedimientos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CORPOR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procedimientos que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l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TEGR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todos ellos en un todo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ocido y compartido por toda l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343480" y="1143000"/>
          <a:ext cx="1451160" cy="7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3480" y="1143000"/>
                    <a:ext cx="14511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7365960" y="878040"/>
          <a:ext cx="1028880" cy="13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960" y="878040"/>
                    <a:ext cx="10288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657600" y="1068480"/>
          <a:ext cx="122400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068480"/>
                    <a:ext cx="12240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868320" y="3755880"/>
          <a:ext cx="2173320" cy="136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68320" y="3755880"/>
                    <a:ext cx="217332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93560" y="3733920"/>
          <a:ext cx="1195560" cy="12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3560" y="3733920"/>
                    <a:ext cx="119556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473200" y="3673440"/>
          <a:ext cx="674640" cy="1749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73200" y="3673440"/>
                    <a:ext cx="674640" cy="17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139760" y="4716360"/>
          <a:ext cx="1198800" cy="85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39760" y="4716360"/>
                    <a:ext cx="11988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885000" y="2568600"/>
          <a:ext cx="1593720" cy="1254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85000" y="2568600"/>
                    <a:ext cx="159372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580080" y="2873520"/>
          <a:ext cx="1594080" cy="1253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80080" y="2873520"/>
                    <a:ext cx="1594080" cy="12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914400" y="1247760"/>
          <a:ext cx="1460520" cy="137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14400" y="1247760"/>
                    <a:ext cx="14605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7596360" y="4408560"/>
          <a:ext cx="928440" cy="480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96360" y="4408560"/>
                    <a:ext cx="9284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429000" y="2590920"/>
          <a:ext cx="1792440" cy="1266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29000" y="2590920"/>
                    <a:ext cx="179244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422080" y="20336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46320" y="20336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286000"/>
            <a:ext cx="2425680" cy="212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15360" y="4060800"/>
            <a:ext cx="2245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BODEGA DE REPUE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15000" y="4898880"/>
            <a:ext cx="2216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PTO. ADQUISI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8383680" y="3735360"/>
            <a:ext cx="226800" cy="760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51080" y="20336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3880" y="1827360"/>
            <a:ext cx="121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prob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02960" y="1598760"/>
            <a:ext cx="1049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greso 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9120" y="2665440"/>
            <a:ext cx="2067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olicitud  de 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47080" y="2208240"/>
            <a:ext cx="1312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88800" y="207972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44760" y="20638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86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74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118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4640" y="2209680"/>
            <a:ext cx="121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8880" y="220968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7680" y="2209680"/>
            <a:ext cx="60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30960" y="404496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478560" y="2363760"/>
            <a:ext cx="379440" cy="16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02360" y="4654440"/>
            <a:ext cx="29196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73560" y="4425840"/>
            <a:ext cx="29196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8280" y="41212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325920" y="4344840"/>
            <a:ext cx="7452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573080" y="4573080"/>
            <a:ext cx="152244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277800" y="4344480"/>
            <a:ext cx="98892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960" y="204840"/>
            <a:ext cx="670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ISTEMA  DE  INFORMACION  PARA  MANTENCION (típì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03000" y="4624560"/>
            <a:ext cx="35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50880" y="439596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55600" y="40910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7040" y="27496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16360" y="27496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744280" y="3049200"/>
            <a:ext cx="30348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46320" y="3710160"/>
            <a:ext cx="18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U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56120" y="5637240"/>
            <a:ext cx="1294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Ejecución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raba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869080" y="2287440"/>
            <a:ext cx="836640" cy="455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868720" y="3811680"/>
            <a:ext cx="455400" cy="303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640120" y="4040280"/>
            <a:ext cx="531720" cy="684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97320" y="2719440"/>
            <a:ext cx="41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17360" y="2719440"/>
            <a:ext cx="4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897280" y="2287440"/>
            <a:ext cx="1065240" cy="53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963600" y="2363760"/>
            <a:ext cx="74520" cy="379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2560" y="2363760"/>
            <a:ext cx="227160" cy="455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047000" y="5205240"/>
          <a:ext cx="280800" cy="416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47000" y="5205240"/>
                    <a:ext cx="2808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923160" y="5643720"/>
          <a:ext cx="676080" cy="541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923160" y="5643720"/>
                    <a:ext cx="67608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7651800" y="5410080"/>
          <a:ext cx="438120" cy="878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651800" y="5410080"/>
                    <a:ext cx="43812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 flipH="1" flipV="1">
            <a:off x="7164360" y="4344480"/>
            <a:ext cx="303120" cy="121788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29120" y="3300480"/>
          <a:ext cx="612720" cy="3697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129120" y="3300480"/>
                    <a:ext cx="612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936320" y="5865840"/>
            <a:ext cx="142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ogra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105520" y="5035680"/>
          <a:ext cx="1155600" cy="880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105520" y="5035680"/>
                    <a:ext cx="115560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184560" y="5637240"/>
            <a:ext cx="1515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even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04640" y="3527280"/>
            <a:ext cx="86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is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524400" y="4740120"/>
          <a:ext cx="730080" cy="7668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524400" y="4740120"/>
                    <a:ext cx="73008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953440" y="2689200"/>
            <a:ext cx="99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for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e Gest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362320" y="609480"/>
          <a:ext cx="1295280" cy="8384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362320" y="609480"/>
                    <a:ext cx="12952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143720" y="685800"/>
            <a:ext cx="177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arque  de  ED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5160" y="289548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28954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63600" y="311004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7391520" y="1676520"/>
            <a:ext cx="15541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2819520"/>
            <a:ext cx="9907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lan Matr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4648320"/>
            <a:ext cx="17827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rden de Trabajo de 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6267600"/>
            <a:ext cx="14479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ogramación de Traba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562000" y="464796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723920" y="2742840"/>
            <a:ext cx="381240" cy="609480"/>
          </a:xfrm>
          <a:prstGeom prst="upArrow">
            <a:avLst>
              <a:gd name="adj1" fmla="val 50000"/>
              <a:gd name="adj2" fmla="val 39967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8001000" y="2285640"/>
            <a:ext cx="380880" cy="1066680"/>
          </a:xfrm>
          <a:prstGeom prst="upArrow">
            <a:avLst>
              <a:gd name="adj1" fmla="val 50000"/>
              <a:gd name="adj2" fmla="val 70014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6477120" y="342864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5791320"/>
            <a:ext cx="380880" cy="609480"/>
          </a:xfrm>
          <a:prstGeom prst="up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7080" y="2438280"/>
            <a:ext cx="117324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atálogo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0" y="1066680"/>
            <a:ext cx="4800600" cy="5181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1828800"/>
            <a:ext cx="3505320" cy="358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2590920"/>
            <a:ext cx="190476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609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505320" y="14475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648320" y="350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334120" y="13712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324480" y="25146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41148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5181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124080" y="50292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361960" y="39625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560" y="24379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48040" y="228600"/>
            <a:ext cx="49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stión  Operacional         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Gestión 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560" y="104292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Actividades actuales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Los clientes actuales</a:t>
            </a: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5640" y="96696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y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Clientes nuev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1240" y="5486400"/>
            <a:ext cx="25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Nuevos clientes para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Actividades  actuales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00880" y="556272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48320" y="609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50640" y="1128600"/>
            <a:ext cx="139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mejor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94880" y="190512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trabaj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0320" y="312408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tri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7840" y="4343400"/>
            <a:ext cx="86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M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65960" y="1828800"/>
            <a:ext cx="143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 de Ro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Esqu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ingenierí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81800" y="3048120"/>
            <a:ext cx="143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ver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8040" y="4572000"/>
            <a:ext cx="134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dquisi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5400" y="5410080"/>
            <a:ext cx="15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Investigación 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Desarroll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8320" y="6248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2280" y="3276720"/>
            <a:ext cx="126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Planificació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Estraté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17400">
            <a:off x="2788200" y="331128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perac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18000">
            <a:off x="5330880" y="3262680"/>
            <a:ext cx="134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l  Progre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3048120"/>
            <a:ext cx="114300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17400">
            <a:off x="3501720" y="343476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inanz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5246400">
            <a:off x="4983840" y="346932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rabajo de Grupo N° 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álisis estratégico del 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el análisis estratégico del taller o empresa que están analiz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ULACION  DEL  PLAN  ESTRATEGICO  DE  LA FUNCION 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95280" y="1173240"/>
          <a:ext cx="7620120" cy="5379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1295280" y="1173240"/>
                    <a:ext cx="7620120" cy="53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ificación Estraté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 quiere  ser  la Organiza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ómo va a conseguirl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 que una Organización 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qui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se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marca el rumbo  y  es previa a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s la naturaleza, el rumbo y el propósi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básico de la Organ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LA  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s un marco de referenci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orientador de las decisiones que conforman la naturaleza y el rumbo de una Función  en el contexto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las decisiones se toman en el contexto de un marco de referencia estratégico,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a dirección estará  bajo el control de los directivos que establecen dicho marc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4440" y="990720"/>
            <a:ext cx="8899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IS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visualización del </a:t>
            </a:r>
            <a:r>
              <a:rPr b="0" lang="es-MX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estado futuro deseado”,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le da significado a las  acciones futuras del pres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rata de un gran objetiv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canzar en un plazo razonab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ecir, en el tiempo necesario para producir un camb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empres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ro no tan largo como para no alcan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ocer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ultados. Normalmente se traba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plazos de 10 a 20 añ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Un sueño diseñado en forma seria y realista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as acciones que hoy se emprendan deben ser </a:t>
            </a:r>
            <a:r>
              <a:rPr b="1" lang="es-ES_tradnl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gruentes con ese sueño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228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4440" y="1523880"/>
            <a:ext cx="88995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sfuerzos de Mantención y Servicios están enfocados a lograr en el mediano plazo lo siguiente: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r con un equipo humano altamente motivado, desarrollando sus funciones en un marco de gestión participativa.</a:t>
            </a: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lcanzar niveles de competitividad tales que jnos permita ser considerados una de la mejores áreas de mantención de la industria minera nacional.</a:t>
            </a:r>
            <a:r>
              <a:rPr b="1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ar con un alto nivel de trabajos planificados con una fuerte utilización de la Mantención Predictiva y la Ingeniería de Manten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ograr los costos de mantención más bajos en relación a instalaciones similares de hidrometalurgia del cob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r una de las áreas más seguras de la 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28600"/>
            <a:ext cx="7010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VISION  ESTRATEG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3333cc"/>
                </a:solidFill>
                <a:latin typeface="Times New Roman"/>
              </a:rPr>
              <a:t>Superintendencia Mantención y Serv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44440" y="990720"/>
            <a:ext cx="8899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isión es la identificación de los 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pósito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institución, conformada por las personas que estarán a cargo de llevar adelante el Plan de Desarrollo del área. Es la declaración fundamental que plantea sus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jetivos y su acción en cuanto organización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la respuesta a la pregun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 Cuál es nuestro propósito como organización y cuál debiera ser en el futuro?, considerando cuáles son las </a:t>
            </a:r>
            <a:r>
              <a:rPr b="1" i="1" lang="es-MX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cciones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es necesario desarrollar para alcanzar el “estado deseado” o VIS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.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228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M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4440" y="1905120"/>
            <a:ext cx="8899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r, desarrollar y ejecutar las actividades de mantención de los equipos, instalaciones y sistemas de la Subgerencia Hidrometalurgia, efocados a lograr una alta competitividad, y disponibilidad de las instalaciones, con una actitud de servicio y contribuyendo directamente al cumplimiento de los planes y programas de tratamiento de minerales y producción de cobre de la Divis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8600"/>
            <a:ext cx="7162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M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3333cc"/>
                </a:solidFill>
                <a:latin typeface="Times New Roman"/>
              </a:rPr>
              <a:t>Superintendencia Mantención y Serv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44440" y="1600200"/>
            <a:ext cx="8899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SAS  QUE  QUIERO  OBTENER,  HACER,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GR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BLES  con  metas  concret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 o intento, propósito  de una oper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s objetivos que se establezcan orientarán el resto del proceso al reflejar las aspiraciones en materia  de desarrollo de la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ción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 Es importante que se determinen de forma coherente  con los puntos fuertes y débiles, problemas y oportunidades detectadas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urante el diagnóstico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En el plazo de un año lograr ..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228600"/>
            <a:ext cx="4800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17:19:35Z</dcterms:created>
  <dc:creator>Ernesto Gramsch</dc:creator>
  <dc:description/>
  <dc:language>en-US</dc:language>
  <cp:lastModifiedBy>Ernesto Gramsch</cp:lastModifiedBy>
  <dcterms:modified xsi:type="dcterms:W3CDTF">2004-04-29T18:04:09Z</dcterms:modified>
  <cp:revision>22</cp:revision>
  <dc:subject/>
  <dc:title>Presentación de PowerPoint</dc:title>
</cp:coreProperties>
</file>