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1.bin" ContentType="application/vnd.openxmlformats-officedocument.oleObject"/>
  <Override PartName="/ppt/embeddings/oleObject8.bin" ContentType="application/vnd.openxmlformats-officedocument.oleObject"/>
  <Override PartName="/ppt/embeddings/oleObject10.bin" ContentType="application/vnd.openxmlformats-officedocument.oleObject"/>
  <Override PartName="/ppt/embeddings/oleObject7.bin" ContentType="application/vnd.openxmlformats-officedocument.oleObject"/>
  <Override PartName="/ppt/embeddings/oleObject6.bin" ContentType="application/vnd.openxmlformats-officedocument.oleObject"/>
  <Override PartName="/ppt/embeddings/oleObject14.bin" ContentType="application/vnd.openxmlformats-officedocument.oleObject"/>
  <Override PartName="/ppt/embeddings/oleObject13.bin" ContentType="application/vnd.openxmlformats-officedocument.oleObject"/>
  <Override PartName="/ppt/embeddings/oleObject1.pptx" ContentType="application/vnd.openxmlformats-officedocument.presentationml.presentation"/>
  <Override PartName="/ppt/embeddings/oleObject4.bin" ContentType="application/vnd.openxmlformats-officedocument.oleObject"/>
  <Override PartName="/ppt/embeddings/oleObject18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6.bin" ContentType="application/vnd.openxmlformats-officedocument.oleObject"/>
  <Override PartName="/ppt/embeddings/oleObject17.bin" ContentType="application/vnd.openxmlformats-officedocument.oleObject"/>
  <Override PartName="/ppt/embeddings/oleObject3.bin" ContentType="application/vnd.openxmlformats-officedocument.oleObject"/>
  <Override PartName="/ppt/embeddings/oleObject19.bin" ContentType="application/vnd.openxmlformats-officedocument.oleObject"/>
  <Override PartName="/ppt/embeddings/oleObject5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9.wmf" ContentType="image/x-wmf"/>
  <Override PartName="/ppt/media/image1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BC3F8-E147-4FF8-8496-18FE6DC7C3F2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886200" y="870588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870588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body"/>
          </p:nvPr>
        </p:nvSpPr>
        <p:spPr>
          <a:xfrm>
            <a:off x="914400" y="4357440"/>
            <a:ext cx="502920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ldImg"/>
          </p:nvPr>
        </p:nvSpPr>
        <p:spPr>
          <a:xfrm>
            <a:off x="1152360" y="693720"/>
            <a:ext cx="4553280" cy="3414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886200" y="870588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0" y="870588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body"/>
          </p:nvPr>
        </p:nvSpPr>
        <p:spPr>
          <a:xfrm>
            <a:off x="914400" y="4357440"/>
            <a:ext cx="502920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ldImg"/>
          </p:nvPr>
        </p:nvSpPr>
        <p:spPr>
          <a:xfrm>
            <a:off x="1152360" y="693720"/>
            <a:ext cx="4553280" cy="3414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B816D-0144-465B-AF14-75DFB210D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AC7F1-ED5F-4A92-8FE7-81EABF871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A370E-3C62-42D9-858B-DB881A061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C4211-5D61-498B-8026-B2674D28E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7EF59-ECC9-4726-8ED9-2F127AC7E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0B6CD-C787-4B93-8EF7-E28C2DF6E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DBFEC-49CD-4320-A086-9989EA9B1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045A9-793E-4D0C-9ABC-70E545B14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52EC0-7E5D-4CC7-9263-B01AF2CEB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A4511-B06E-4490-BEDD-AB4F9E62D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AB998-78CE-471C-BAAB-AA15DBBA6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39BA5-3B42-4B84-883B-420FD04E9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A5533-08ED-4A17-821D-549F29876D77}" type="slidenum"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7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8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9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0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1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3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14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15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16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17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18.wmf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19.wmf"/><Relationship Id="rId37" Type="http://schemas.openxmlformats.org/officeDocument/2006/relationships/oleObject" Target="../embeddings/oleObject19.bin"/><Relationship Id="rId38" Type="http://schemas.openxmlformats.org/officeDocument/2006/relationships/image" Target="../media/image5.wmf"/><Relationship Id="rId3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428640" y="-212040"/>
            <a:ext cx="2190600" cy="14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Aft>
                <a:spcPts val="36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a0ab3"/>
                </a:solidFill>
                <a:latin typeface="Times New Roman"/>
              </a:rPr>
              <a:t>MODEL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066680" y="990720"/>
            <a:ext cx="7118640" cy="536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Aft>
                <a:spcPts val="2339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>
                <a:solidFill>
                  <a:srgbClr val="ff3300"/>
                </a:solidFill>
                <a:latin typeface="Arial"/>
              </a:rPr>
              <a:t>SISTEMA DE ADMINISTRACION</a:t>
            </a:r>
            <a:br>
              <a:rPr sz="2800"/>
            </a:br>
            <a:r>
              <a:rPr b="1" lang="es-ES_tradnl" sz="2800" spc="-1" strike="noStrike">
                <a:solidFill>
                  <a:srgbClr val="ff3300"/>
                </a:solidFill>
                <a:latin typeface="Arial"/>
              </a:rPr>
              <a:t>DEL MANTENIMI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Aft>
                <a:spcPts val="1500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NALISIS  ESTRATEG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Aft>
                <a:spcPts val="1500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(VISION,  MISION,  OBJETVOS  Y  META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Aft>
                <a:spcPts val="1500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DI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Aft>
                <a:spcPts val="1500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PLANIFICAC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Aft>
                <a:spcPts val="1500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MANTENCION  PREVENTI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Aft>
                <a:spcPts val="1500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PLAN  MAEST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Aft>
                <a:spcPts val="1500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PRONOSTICO  DE  RECURS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Aft>
                <a:spcPts val="1500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ORDEN  DE  TRABAJ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Aft>
                <a:spcPts val="1500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PROGRAMAC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Aft>
                <a:spcPts val="1500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VALUACION  DE  RESULTA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244440" y="1600200"/>
            <a:ext cx="889956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Administrar y proteger eficientemente las personas, los activos y los recursos, poniendo énfasis en desarrollar relaciones de colaboración y compromiso mutuo entre todos los integrantes de la organización y su entorn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Orientar la gestión hacia una óptima atención al cli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Incorporar las más modernas herramientas tecnológicas y de gestión a la función de Mantención, con el objeto de asegurar su competividad, incluyendo alta calidad de servicio, alta productividad y bajos cost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Desarrollar la función de Mantención en un marco de respeto por el medio ambien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28600" y="228600"/>
            <a:ext cx="830592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3333cc"/>
                </a:solidFill>
                <a:latin typeface="Times New Roman"/>
              </a:rPr>
              <a:t>OBJETIVOS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3333cc"/>
                </a:solidFill>
                <a:latin typeface="Times New Roman"/>
              </a:rPr>
              <a:t>ESTRATEGICOS DE MANTENCION Y SERVICIOS</a:t>
            </a:r>
            <a:r>
              <a:rPr b="1" i="1" lang="es-ES_tradnl" sz="36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244440" y="990720"/>
            <a:ext cx="8899560" cy="56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8000"/>
                </a:solidFill>
                <a:latin typeface="Times New Roman"/>
              </a:rPr>
              <a:t>El proyecto Mantención es un plan estratégico de mediano plazo que se orienta a posicionar a la Superintendecia de Mantención y Servicios en un nivel de excelencia, que le permita cumplir eficientemente con la responsabilidad que le compete en el mantenimiento de la disponibilidad, confiabilidad y continuidad operacional de las instalaciones de Hidrometalurg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8000"/>
                </a:solidFill>
                <a:latin typeface="Times New Roman"/>
              </a:rPr>
              <a:t>Las metas del proyecto deben alcanzarse a través de la participación de toda la organización de Mantención, mediante un proceso de cambios continuos, orientados a lograr los más altos niveles de competitividad que proyecten la gestión de la Superintendencia hacia el próximo siglo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8000"/>
                </a:solidFill>
                <a:latin typeface="Times New Roman"/>
              </a:rPr>
              <a:t>El proyecto tiene como primera prioridad cumplir con la Misión, Objetivos Estratégicos y Visión Futura de Mantención y Servicios.</a:t>
            </a:r>
            <a:r>
              <a:rPr b="1" lang="es-MX" sz="2800" spc="-1" strike="noStrike">
                <a:solidFill>
                  <a:srgbClr val="008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57200" y="22860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3333cc"/>
                </a:solidFill>
                <a:latin typeface="Times New Roman"/>
              </a:rPr>
              <a:t>PROYECTO MANTENC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44440" y="1600200"/>
            <a:ext cx="88995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8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Control de pérdid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8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8000"/>
                </a:solidFill>
                <a:latin typeface="Times New Roman"/>
              </a:rPr>
              <a:t>Capacitación y desarrollo del pers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8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8000"/>
                </a:solidFill>
                <a:latin typeface="Times New Roman"/>
              </a:rPr>
              <a:t>Administración del servicio de terce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8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8000"/>
                </a:solidFill>
                <a:latin typeface="Times New Roman"/>
              </a:rPr>
              <a:t>Protección del medio ambi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8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8000"/>
                </a:solidFill>
                <a:latin typeface="Times New Roman"/>
              </a:rPr>
              <a:t>Calidad del servicio de manten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8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8000"/>
                </a:solidFill>
                <a:latin typeface="Times New Roman"/>
              </a:rPr>
              <a:t>Desarrollo del área de Ingeniería de Manten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8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8000"/>
                </a:solidFill>
                <a:latin typeface="Times New Roman"/>
              </a:rPr>
              <a:t>Gestión de abastecimientos e inventar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8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8000"/>
                </a:solidFill>
                <a:latin typeface="Times New Roman"/>
              </a:rPr>
              <a:t>Administración de los costos de manten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8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8000"/>
                </a:solidFill>
                <a:latin typeface="Times New Roman"/>
              </a:rPr>
              <a:t>Implantación del módulo de mantención SAP-PM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33520" y="228600"/>
            <a:ext cx="7619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3333cc"/>
                </a:solidFill>
                <a:latin typeface="Times New Roman"/>
              </a:rPr>
              <a:t>PLANES DE ACCIÓN PERMANENTES DE MANTENC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244440" y="1600200"/>
            <a:ext cx="88995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on instructivos que dicta la gerencia acerca de un tema y que deben ser acatados por todos los componentes de la organiza</a:t>
            </a:r>
            <a:r>
              <a:rPr b="1" lang="es-MX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ión</a:t>
            </a:r>
            <a:r>
              <a:rPr b="1" lang="es-ES_tradnl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  interesado e interfac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ogran que todos colaboren y actuen coordinadamente para obtener los objetivos previst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981080" y="22860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3333cc"/>
                </a:solidFill>
                <a:latin typeface="Times New Roman"/>
              </a:rPr>
              <a:t>POLITIC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1240" y="-144360"/>
            <a:ext cx="8920080" cy="15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Aft>
                <a:spcPts val="26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PORQUE UN MODELO  DE</a:t>
            </a:r>
            <a:br>
              <a:rPr sz="3200"/>
            </a:b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 ADMINISTRACION DEL MANTENIMIENT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30040" y="1401840"/>
            <a:ext cx="8534520" cy="47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OBJETIVO:   OBTENER     EFICACIA,    ECONOMIA 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Y      ESTABILIDAD   DE FUNCIONAMIENTO DE LA PLAN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7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s una 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EXPLICITACION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de Objetivos y polit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7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s una 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SISTEMATIZACION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de los  procedimientos    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xist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7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s una 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INCORPORACION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de procedimientos que    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falt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7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s una 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INTEGRACION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de todos ellos en un todo      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onocido y compartido por toda la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organiza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" name=""/>
          <p:cNvGraphicFramePr/>
          <p:nvPr/>
        </p:nvGraphicFramePr>
        <p:xfrm>
          <a:off x="5343480" y="1143000"/>
          <a:ext cx="1451160" cy="71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43480" y="1143000"/>
                    <a:ext cx="1451160" cy="71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" name=""/>
          <p:cNvGraphicFramePr/>
          <p:nvPr/>
        </p:nvGraphicFramePr>
        <p:xfrm>
          <a:off x="7365960" y="878040"/>
          <a:ext cx="1028880" cy="1341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365960" y="878040"/>
                    <a:ext cx="1028880" cy="134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" name=""/>
          <p:cNvGraphicFramePr/>
          <p:nvPr/>
        </p:nvGraphicFramePr>
        <p:xfrm>
          <a:off x="3657600" y="1068480"/>
          <a:ext cx="1224000" cy="952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657600" y="1068480"/>
                    <a:ext cx="1224000" cy="95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" name=""/>
          <p:cNvGraphicFramePr/>
          <p:nvPr/>
        </p:nvGraphicFramePr>
        <p:xfrm>
          <a:off x="868320" y="3755880"/>
          <a:ext cx="2173320" cy="13622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868320" y="3755880"/>
                    <a:ext cx="2173320" cy="136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" name=""/>
          <p:cNvGraphicFramePr/>
          <p:nvPr/>
        </p:nvGraphicFramePr>
        <p:xfrm>
          <a:off x="493560" y="3733920"/>
          <a:ext cx="1195560" cy="12412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93560" y="3733920"/>
                    <a:ext cx="1195560" cy="12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1" name=""/>
          <p:cNvGraphicFramePr/>
          <p:nvPr/>
        </p:nvGraphicFramePr>
        <p:xfrm>
          <a:off x="2473200" y="3673440"/>
          <a:ext cx="674640" cy="17496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473200" y="3673440"/>
                    <a:ext cx="674640" cy="17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3" name=""/>
          <p:cNvGraphicFramePr/>
          <p:nvPr/>
        </p:nvGraphicFramePr>
        <p:xfrm>
          <a:off x="1139760" y="4716360"/>
          <a:ext cx="1198800" cy="8589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139760" y="4716360"/>
                    <a:ext cx="11988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5" name=""/>
          <p:cNvGraphicFramePr/>
          <p:nvPr/>
        </p:nvGraphicFramePr>
        <p:xfrm>
          <a:off x="6885000" y="2568600"/>
          <a:ext cx="1593720" cy="12542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885000" y="2568600"/>
                    <a:ext cx="1593720" cy="125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7" name=""/>
          <p:cNvGraphicFramePr/>
          <p:nvPr/>
        </p:nvGraphicFramePr>
        <p:xfrm>
          <a:off x="6580080" y="2873520"/>
          <a:ext cx="1594080" cy="125388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580080" y="2873520"/>
                    <a:ext cx="1594080" cy="125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9" name=""/>
          <p:cNvGraphicFramePr/>
          <p:nvPr/>
        </p:nvGraphicFramePr>
        <p:xfrm>
          <a:off x="914400" y="1247760"/>
          <a:ext cx="1460520" cy="137952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914400" y="1247760"/>
                    <a:ext cx="1460520" cy="137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1" name=""/>
          <p:cNvGraphicFramePr/>
          <p:nvPr/>
        </p:nvGraphicFramePr>
        <p:xfrm>
          <a:off x="7596360" y="4408560"/>
          <a:ext cx="928440" cy="48096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7596360" y="4408560"/>
                    <a:ext cx="928440" cy="48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3" name=""/>
          <p:cNvGraphicFramePr/>
          <p:nvPr/>
        </p:nvGraphicFramePr>
        <p:xfrm>
          <a:off x="3429000" y="2590920"/>
          <a:ext cx="1792440" cy="126684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3429000" y="2590920"/>
                    <a:ext cx="1792440" cy="12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2422080" y="2033640"/>
            <a:ext cx="299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946320" y="2033640"/>
            <a:ext cx="299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505320" y="2286000"/>
            <a:ext cx="2425680" cy="2120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615360" y="4060800"/>
            <a:ext cx="22453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BODEGA DE REPUEST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615000" y="4898880"/>
            <a:ext cx="22165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DEPTO. ADQUISICIO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 flipV="1">
            <a:off x="8383680" y="3735360"/>
            <a:ext cx="226800" cy="7603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851080" y="2033640"/>
            <a:ext cx="299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393880" y="1827360"/>
            <a:ext cx="1212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Aprob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802960" y="1598760"/>
            <a:ext cx="10490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Ingreso 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Siste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19120" y="2665440"/>
            <a:ext cx="2067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Solicitud  de  Trabaj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147080" y="2208240"/>
            <a:ext cx="1312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Planific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688800" y="2079720"/>
            <a:ext cx="275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444760" y="2063880"/>
            <a:ext cx="29196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968640" y="20638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797440" y="20638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711840" y="20638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744640" y="2209680"/>
            <a:ext cx="1217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268880" y="2209680"/>
            <a:ext cx="1522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097680" y="2209680"/>
            <a:ext cx="608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330960" y="4044960"/>
            <a:ext cx="29196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6478560" y="2363760"/>
            <a:ext cx="379440" cy="1674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102360" y="4654440"/>
            <a:ext cx="291960" cy="2923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73560" y="4425840"/>
            <a:ext cx="291960" cy="2923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8280" y="4121280"/>
            <a:ext cx="29196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6325920" y="4344840"/>
            <a:ext cx="74520" cy="303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4573080" y="4573080"/>
            <a:ext cx="1522440" cy="227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3277800" y="4344480"/>
            <a:ext cx="988920" cy="150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63960" y="204840"/>
            <a:ext cx="6707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SISTEMA  DE  INFORMACION  PARA  MANTENCION (típìc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03000" y="4624560"/>
            <a:ext cx="357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250880" y="4395960"/>
            <a:ext cx="299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955600" y="4091040"/>
            <a:ext cx="299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597040" y="27496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816360" y="2749680"/>
            <a:ext cx="29196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H="1" flipV="1">
            <a:off x="2744280" y="3049200"/>
            <a:ext cx="303480" cy="1065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946320" y="3710160"/>
            <a:ext cx="1873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COMPUTA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56120" y="5637240"/>
            <a:ext cx="1294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Ejecución 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Trabaj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5869080" y="2287440"/>
            <a:ext cx="836640" cy="4557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H="1" flipV="1">
            <a:off x="5868720" y="3811680"/>
            <a:ext cx="455400" cy="3031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 flipV="1">
            <a:off x="5640120" y="4040280"/>
            <a:ext cx="531720" cy="6840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497320" y="2719440"/>
            <a:ext cx="41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717360" y="2719440"/>
            <a:ext cx="471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2897280" y="2287440"/>
            <a:ext cx="1065240" cy="532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3963600" y="2363760"/>
            <a:ext cx="74520" cy="3794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192560" y="2363760"/>
            <a:ext cx="227160" cy="4557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7047000" y="5205240"/>
          <a:ext cx="280800" cy="41616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7047000" y="5205240"/>
                    <a:ext cx="2808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1" name=""/>
          <p:cNvGraphicFramePr/>
          <p:nvPr/>
        </p:nvGraphicFramePr>
        <p:xfrm>
          <a:off x="6923160" y="5643720"/>
          <a:ext cx="676080" cy="54108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6923160" y="5643720"/>
                    <a:ext cx="676080" cy="54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3" name=""/>
          <p:cNvGraphicFramePr/>
          <p:nvPr/>
        </p:nvGraphicFramePr>
        <p:xfrm>
          <a:off x="7651800" y="5410080"/>
          <a:ext cx="438120" cy="87804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7651800" y="5410080"/>
                    <a:ext cx="438120" cy="87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" name=""/>
          <p:cNvSpPr/>
          <p:nvPr/>
        </p:nvSpPr>
        <p:spPr>
          <a:xfrm flipH="1" flipV="1">
            <a:off x="7164360" y="4344480"/>
            <a:ext cx="303120" cy="1217880"/>
          </a:xfrm>
          <a:prstGeom prst="line">
            <a:avLst/>
          </a:prstGeom>
          <a:ln w="76320">
            <a:solidFill>
              <a:srgbClr val="3333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3129120" y="3300480"/>
          <a:ext cx="612720" cy="36972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3129120" y="3300480"/>
                    <a:ext cx="612720" cy="36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8" name=""/>
          <p:cNvSpPr/>
          <p:nvPr/>
        </p:nvSpPr>
        <p:spPr>
          <a:xfrm>
            <a:off x="4936320" y="5865840"/>
            <a:ext cx="14270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Program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5105520" y="5035680"/>
          <a:ext cx="1155600" cy="88092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5105520" y="5035680"/>
                    <a:ext cx="1155600" cy="88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1" name=""/>
          <p:cNvSpPr/>
          <p:nvPr/>
        </p:nvSpPr>
        <p:spPr>
          <a:xfrm>
            <a:off x="3184560" y="5637240"/>
            <a:ext cx="15156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Mantenimie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Preventiv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104640" y="3527280"/>
            <a:ext cx="8632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Histor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3524400" y="4740120"/>
          <a:ext cx="730080" cy="76680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3524400" y="4740120"/>
                    <a:ext cx="730080" cy="7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5" name=""/>
          <p:cNvSpPr/>
          <p:nvPr/>
        </p:nvSpPr>
        <p:spPr>
          <a:xfrm>
            <a:off x="2953440" y="2689200"/>
            <a:ext cx="99432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Inform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de Gest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2362320" y="609480"/>
          <a:ext cx="1295280" cy="838440"/>
        </p:xfrm>
        <a:graphic>
          <a:graphicData uri="http://schemas.openxmlformats.org/presentationml/2006/ole">
            <p:oleObj r:id="rId37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38"/>
                  <a:stretch/>
                </p:blipFill>
                <p:spPr>
                  <a:xfrm>
                    <a:off x="2362320" y="609480"/>
                    <a:ext cx="1295280" cy="8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8" name=""/>
          <p:cNvSpPr/>
          <p:nvPr/>
        </p:nvSpPr>
        <p:spPr>
          <a:xfrm>
            <a:off x="1143720" y="685800"/>
            <a:ext cx="1773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Parque  de  ED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105160" y="2895480"/>
            <a:ext cx="299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029200" y="2895480"/>
            <a:ext cx="380880" cy="3812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863600" y="3110040"/>
            <a:ext cx="109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Times New Roman"/>
              </a:rPr>
              <a:t>Inventar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2" name=""/>
          <p:cNvGraphicFramePr/>
          <p:nvPr/>
        </p:nvGraphicFramePr>
        <p:xfrm>
          <a:off x="0" y="0"/>
          <a:ext cx="9144000" cy="686124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6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4" name=""/>
          <p:cNvGraphicFramePr/>
          <p:nvPr/>
        </p:nvGraphicFramePr>
        <p:xfrm>
          <a:off x="0" y="0"/>
          <a:ext cx="9144000" cy="686124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6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" name=""/>
          <p:cNvSpPr/>
          <p:nvPr/>
        </p:nvSpPr>
        <p:spPr>
          <a:xfrm>
            <a:off x="7391520" y="1676520"/>
            <a:ext cx="1554120" cy="580680"/>
          </a:xfrm>
          <a:prstGeom prst="rect">
            <a:avLst/>
          </a:prstGeom>
          <a:solidFill>
            <a:srgbClr val="00ccff"/>
          </a:solidFill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Mantenimiento Preventiv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172200" y="2819520"/>
            <a:ext cx="990720" cy="580680"/>
          </a:xfrm>
          <a:prstGeom prst="rect">
            <a:avLst/>
          </a:prstGeom>
          <a:solidFill>
            <a:srgbClr val="00ccff"/>
          </a:solidFill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Plan Matri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657600" y="4648320"/>
            <a:ext cx="1782720" cy="580680"/>
          </a:xfrm>
          <a:prstGeom prst="rect">
            <a:avLst/>
          </a:prstGeom>
          <a:solidFill>
            <a:srgbClr val="00ccff"/>
          </a:solidFill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Orden de Trabajo de Manten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324480" y="6267600"/>
            <a:ext cx="1447920" cy="580680"/>
          </a:xfrm>
          <a:prstGeom prst="rect">
            <a:avLst/>
          </a:prstGeom>
          <a:solidFill>
            <a:srgbClr val="00ccff"/>
          </a:solidFill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Programación de Trabaj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rot="5400000">
            <a:off x="5562000" y="4647960"/>
            <a:ext cx="380880" cy="685800"/>
          </a:xfrm>
          <a:prstGeom prst="upArrow">
            <a:avLst>
              <a:gd name="adj1" fmla="val 50000"/>
              <a:gd name="adj2" fmla="val 45014"/>
            </a:avLst>
          </a:prstGeom>
          <a:solidFill>
            <a:srgbClr val="00ccff"/>
          </a:solidFill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rot="10800000">
            <a:off x="4723920" y="2742840"/>
            <a:ext cx="381240" cy="609480"/>
          </a:xfrm>
          <a:prstGeom prst="upArrow">
            <a:avLst>
              <a:gd name="adj1" fmla="val 50000"/>
              <a:gd name="adj2" fmla="val 39967"/>
            </a:avLst>
          </a:prstGeom>
          <a:solidFill>
            <a:srgbClr val="00ccff"/>
          </a:solidFill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rot="10800000">
            <a:off x="8001000" y="2285640"/>
            <a:ext cx="380880" cy="1066680"/>
          </a:xfrm>
          <a:prstGeom prst="upArrow">
            <a:avLst>
              <a:gd name="adj1" fmla="val 50000"/>
              <a:gd name="adj2" fmla="val 70014"/>
            </a:avLst>
          </a:prstGeom>
          <a:solidFill>
            <a:srgbClr val="00ccff"/>
          </a:solidFill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rot="10800000">
            <a:off x="6477120" y="3428640"/>
            <a:ext cx="380880" cy="685800"/>
          </a:xfrm>
          <a:prstGeom prst="upArrow">
            <a:avLst>
              <a:gd name="adj1" fmla="val 50000"/>
              <a:gd name="adj2" fmla="val 45014"/>
            </a:avLst>
          </a:prstGeom>
          <a:solidFill>
            <a:srgbClr val="00ccff"/>
          </a:solidFill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858000" y="5791320"/>
            <a:ext cx="380880" cy="609480"/>
          </a:xfrm>
          <a:prstGeom prst="upArrow">
            <a:avLst>
              <a:gd name="adj1" fmla="val 50000"/>
              <a:gd name="adj2" fmla="val 40005"/>
            </a:avLst>
          </a:prstGeom>
          <a:solidFill>
            <a:srgbClr val="00ccff"/>
          </a:solidFill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267080" y="2438280"/>
            <a:ext cx="1173240" cy="580680"/>
          </a:xfrm>
          <a:prstGeom prst="rect">
            <a:avLst/>
          </a:prstGeom>
          <a:solidFill>
            <a:srgbClr val="00ccff"/>
          </a:solidFill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Catálogo de Equip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2286000" y="1066680"/>
            <a:ext cx="4800600" cy="51818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971800" y="1828800"/>
            <a:ext cx="3505320" cy="3581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2590920"/>
            <a:ext cx="1904760" cy="1981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648320" y="1828800"/>
            <a:ext cx="0" cy="3657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743200" y="60948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505320" y="1447560"/>
            <a:ext cx="30456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4648320" y="35049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334120" y="1371240"/>
            <a:ext cx="38088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6324480" y="2514600"/>
            <a:ext cx="5335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400800" y="4114800"/>
            <a:ext cx="6094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486400" y="518148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3124080" y="5029200"/>
            <a:ext cx="5335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H="1">
            <a:off x="2361960" y="39625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2590560" y="2437920"/>
            <a:ext cx="53316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48040" y="228600"/>
            <a:ext cx="490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Gestión  Operacional         </a:t>
            </a:r>
            <a:r>
              <a:rPr b="0" lang="es-ES_tradnl" sz="2000" spc="-1" strike="noStrike">
                <a:solidFill>
                  <a:srgbClr val="0000ff"/>
                </a:solidFill>
                <a:latin typeface="Times New Roman"/>
              </a:rPr>
              <a:t>Gestión Estratég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57560" y="1042920"/>
            <a:ext cx="274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cc99"/>
                </a:solidFill>
                <a:latin typeface="Times New Roman"/>
              </a:rPr>
              <a:t>Actividades actuales par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cc99"/>
                </a:solidFill>
                <a:latin typeface="Times New Roman"/>
              </a:rPr>
              <a:t>Los clientes actuales</a:t>
            </a:r>
            <a:r>
              <a:rPr b="1" lang="es-ES_tradnl" sz="1600" spc="-1" strike="noStrike">
                <a:solidFill>
                  <a:srgbClr val="00cc99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245640" y="966960"/>
            <a:ext cx="2704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ff"/>
                </a:solidFill>
                <a:latin typeface="Times New Roman"/>
              </a:rPr>
              <a:t>Nuevas  Actividades  par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ff"/>
                </a:solidFill>
                <a:latin typeface="Times New Roman"/>
              </a:rPr>
              <a:t>Los clientes actuales y pa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ff"/>
                </a:solidFill>
                <a:latin typeface="Times New Roman"/>
              </a:rPr>
              <a:t>Clientes nuevo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81240" y="5486400"/>
            <a:ext cx="251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cc99"/>
                </a:solidFill>
                <a:latin typeface="Times New Roman"/>
              </a:rPr>
              <a:t>Nuevos clientes para l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cc99"/>
                </a:solidFill>
                <a:latin typeface="Times New Roman"/>
              </a:rPr>
              <a:t>Actividades  actuales</a:t>
            </a: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500880" y="5562720"/>
            <a:ext cx="264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ff"/>
                </a:solidFill>
                <a:latin typeface="Times New Roman"/>
              </a:rPr>
              <a:t>Nuevas  Actividades  par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ff"/>
                </a:solidFill>
                <a:latin typeface="Times New Roman"/>
              </a:rPr>
              <a:t>Los clientes actual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4648320" y="6094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950640" y="1128600"/>
            <a:ext cx="1398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00"/>
                </a:solidFill>
                <a:latin typeface="Times New Roman"/>
              </a:rPr>
              <a:t>Plan  de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00"/>
                </a:solidFill>
                <a:latin typeface="Times New Roman"/>
              </a:rPr>
              <a:t>mejoramie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594880" y="1905120"/>
            <a:ext cx="1252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Planific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de  trabajo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290320" y="3124080"/>
            <a:ext cx="77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Pl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Matriz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517840" y="4343400"/>
            <a:ext cx="86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De  MP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565960" y="1828800"/>
            <a:ext cx="1438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Plan  de Rotu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De  Esquem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Reingenierí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481800" y="3048120"/>
            <a:ext cx="1432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Pl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Diversific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98040" y="4572000"/>
            <a:ext cx="1344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Pl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Adquisicio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965400" y="5410080"/>
            <a:ext cx="1535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00"/>
                </a:solidFill>
                <a:latin typeface="Times New Roman"/>
              </a:rPr>
              <a:t>Plan  de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00"/>
                </a:solidFill>
                <a:latin typeface="Times New Roman"/>
              </a:rPr>
              <a:t>Investigación  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00"/>
                </a:solidFill>
                <a:latin typeface="Times New Roman"/>
              </a:rPr>
              <a:t>Desarroll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648320" y="62485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112280" y="3276720"/>
            <a:ext cx="1264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Planificación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Estratégi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rot="16217400">
            <a:off x="2788200" y="3311280"/>
            <a:ext cx="1252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Planific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Operac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rot="5418000">
            <a:off x="5330880" y="3262680"/>
            <a:ext cx="1346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Planific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Del  Progres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114800" y="3048120"/>
            <a:ext cx="1143000" cy="990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rot="16217400">
            <a:off x="3501720" y="3434760"/>
            <a:ext cx="95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Finanz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rot="5246400">
            <a:off x="4983840" y="3469320"/>
            <a:ext cx="88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Pers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Trabajo de Grupo N°  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Análisis estratégico del mantenimie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Hacer el análisis estratégico del taller o empresa que están analizan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FORMULACION  DEL  PLAN  ESTRATEGICO  DE  LA FUNCION  MANTENIMI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1295280" y="1173240"/>
          <a:ext cx="7620120" cy="537984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>
                    <a:alphaModFix amt="50000"/>
                  </a:blip>
                  <a:stretch/>
                </p:blipFill>
                <p:spPr>
                  <a:xfrm>
                    <a:off x="1295280" y="1173240"/>
                    <a:ext cx="7620120" cy="537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Planificación Estratégi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¿Qué  quiere  ser  la Organizació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¿Cómo va a conseguirl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Lo que una Organización  </a:t>
            </a:r>
            <a:r>
              <a:rPr b="0" lang="es-ES_tradnl" sz="3200" spc="-1" strike="noStrike">
                <a:solidFill>
                  <a:srgbClr val="ff3300"/>
                </a:solidFill>
                <a:latin typeface="Times New Roman"/>
              </a:rPr>
              <a:t>quier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3300"/>
                </a:solidFill>
                <a:latin typeface="Times New Roman"/>
              </a:rPr>
              <a:t>ser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marca el rumbo  y  es previa a l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lanific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cc"/>
                </a:solidFill>
                <a:latin typeface="Times New Roman"/>
              </a:rPr>
              <a:t>ESTRATEG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cc"/>
                </a:solidFill>
                <a:latin typeface="Times New Roman"/>
              </a:rPr>
              <a:t>Es la naturaleza, el rumbo y el propósit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cc"/>
                </a:solidFill>
                <a:latin typeface="Times New Roman"/>
              </a:rPr>
              <a:t>básico de la Organizac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3300"/>
                </a:solidFill>
                <a:latin typeface="Times New Roman"/>
              </a:rPr>
              <a:t>LA   ESTRATEG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cc"/>
                </a:solidFill>
                <a:latin typeface="Times New Roman"/>
              </a:rPr>
              <a:t>Es un marco de referencia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orientador de las decisiones que conforman la naturaleza y el rumbo de una Función  en el contexto de la empres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i las decisiones se toman en el contexto de un marco de referencia estratégico, </a:t>
            </a:r>
            <a:r>
              <a:rPr b="1" lang="es-ES_tradnl" sz="3200" spc="-1" strike="noStrike">
                <a:solidFill>
                  <a:srgbClr val="3333cc"/>
                </a:solidFill>
                <a:latin typeface="Times New Roman"/>
              </a:rPr>
              <a:t>la dirección estará  bajo el control de los directivos que establecen dicho marco</a:t>
            </a:r>
            <a:r>
              <a:rPr b="0" lang="es-ES_tradnl" sz="3200" spc="-1" strike="noStrike">
                <a:solidFill>
                  <a:srgbClr val="3333cc"/>
                </a:solidFill>
                <a:latin typeface="Times New Roman"/>
              </a:rPr>
              <a:t>.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244440" y="990720"/>
            <a:ext cx="889956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VISI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N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s la visualización del </a:t>
            </a:r>
            <a:r>
              <a:rPr b="0" lang="es-MX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“estado futuro deseado”,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e le da significado a las  acciones futuras del presen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trata de un gran objetivo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r  a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canzar en un plazo razonabl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 decir, en el tiempo necesario para producir un camb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orta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l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empresa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pero no tan largo como para no alcanza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conocer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sultados. Normalmente se trabaj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 plazos de 10 a 20 añ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es-MX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Un sueño diseñado en forma seria y realista</a:t>
            </a:r>
            <a:r>
              <a:rPr b="1" lang="es-MX" sz="2800" spc="-1" strike="noStrike">
                <a:solidFill>
                  <a:srgbClr val="008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      </a:t>
            </a:r>
            <a:r>
              <a:rPr b="1" lang="es-MX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Las acciones que hoy se emprendan deben ser </a:t>
            </a:r>
            <a:r>
              <a:rPr b="1" lang="es-ES_tradnl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        </a:t>
            </a:r>
            <a:r>
              <a:rPr b="1" lang="es-MX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congruentes con ese sueño</a:t>
            </a:r>
            <a:r>
              <a:rPr b="1" lang="es-MX" sz="2800" spc="-1" strike="noStrike">
                <a:solidFill>
                  <a:srgbClr val="008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971800" y="22860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3333cc"/>
                </a:solidFill>
                <a:latin typeface="Times New Roman"/>
              </a:rPr>
              <a:t>VIS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244440" y="1523880"/>
            <a:ext cx="8899560" cy="533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s esfuerzos de Mantención y Servicios están enfocados a lograr en el mediano plazo lo siguiente: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ar con un equipo humano altamente motivado, desarrollando sus funciones en un marco de gestión participativa.</a:t>
            </a:r>
            <a:r>
              <a:rPr b="1" lang="es-MX" sz="2400" spc="-1" strike="noStrike">
                <a:solidFill>
                  <a:srgbClr val="008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      </a:t>
            </a:r>
            <a:r>
              <a:rPr b="0" lang="es-ES_tradnl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Alcanzar niveles de competitividad tales que jnos permita ser considerados una de la mejores áreas de mantención de la industria minera nacional.</a:t>
            </a:r>
            <a:r>
              <a:rPr b="1" lang="es-ES_tradnl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       </a:t>
            </a:r>
            <a:r>
              <a:rPr b="0" lang="es-ES_tradnl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Contar con un alto nivel de trabajos planificados con una fuerte utilización de la Mantención Predictiva y la Ingeniería de Mantenció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        </a:t>
            </a:r>
            <a:r>
              <a:rPr b="0" lang="es-ES_tradnl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Lograr los costos de mantención más bajos en relación a instalaciones similares de hidrometalurgia del cobr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        </a:t>
            </a:r>
            <a:r>
              <a:rPr b="0" lang="es-ES_tradnl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Ser una de las áreas más seguras de la Divi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838080" y="228600"/>
            <a:ext cx="701064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3333cc"/>
                </a:solidFill>
                <a:latin typeface="Times New Roman"/>
              </a:rPr>
              <a:t>VISION  ESTRATEGICA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800" spc="-1" strike="noStrike">
                <a:solidFill>
                  <a:srgbClr val="3333cc"/>
                </a:solidFill>
                <a:latin typeface="Times New Roman"/>
              </a:rPr>
              <a:t>Superintendencia Mantención y Servic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244440" y="990720"/>
            <a:ext cx="889956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misión es la identificación de los </a:t>
            </a:r>
            <a:r>
              <a:rPr b="0" lang="es-MX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ropósitos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 la institución, conformada por las personas que estarán a cargo de llevar adelante el Plan de Desarrollo del área. Es la declaración fundamental que plantea sus </a:t>
            </a:r>
            <a:r>
              <a:rPr b="1" lang="es-MX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bjetivos y su acción en cuanto organización</a:t>
            </a:r>
            <a:r>
              <a:rPr b="1" lang="es-ES_tradnl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 la respuesta a la pregunt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¿ Cuál es nuestro propósito como organización y cuál debiera ser en el futuro?, considerando cuáles son las </a:t>
            </a:r>
            <a:r>
              <a:rPr b="1" i="1" lang="es-MX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cciones 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e es necesario desarrollar para alcanzar el “estado deseado” o VISI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N.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22860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3333cc"/>
                </a:solidFill>
                <a:latin typeface="Times New Roman"/>
              </a:rPr>
              <a:t>MIS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244440" y="1905120"/>
            <a:ext cx="88995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ministrar, desarrollar y ejecutar las actividades de mantención de los equipos, instalaciones y sistemas de la Subgerencia Hidrometalurgia, efocados a lograr una alta competitividad, y disponibilidad de las instalaciones, con una actitud de servicio y contribuyendo directamente al cumplimiento de los planes y programas de tratamiento de minerales y producción de cobre de la Divisió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228600"/>
            <a:ext cx="716256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3333cc"/>
                </a:solidFill>
                <a:latin typeface="Times New Roman"/>
              </a:rPr>
              <a:t>MIS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800" spc="-1" strike="noStrike">
                <a:solidFill>
                  <a:srgbClr val="3333cc"/>
                </a:solidFill>
                <a:latin typeface="Times New Roman"/>
              </a:rPr>
              <a:t>Superintendencia Mantención y Servic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244440" y="1600200"/>
            <a:ext cx="889956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OSAS  QUE  QUIERO  OBTENER,  HACER,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OGR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EDIBLES  con  metas  concreta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in o intento, propósito  de una operació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os objetivos que se establezcan orientarán el resto del proceso al reflejar las aspiraciones en materia  de desarrollo de la </a:t>
            </a:r>
            <a:r>
              <a:rPr b="1" lang="es-ES_tradnl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unción</a:t>
            </a:r>
            <a:r>
              <a:rPr b="1" lang="es-MX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.  Es importante que se determinen de forma coherente  con los puntos fuertes y débiles, problemas y oportunidades detectadas </a:t>
            </a:r>
            <a:r>
              <a:rPr b="1" lang="es-ES_tradnl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urante el diagnóstico</a:t>
            </a:r>
            <a:r>
              <a:rPr b="1" lang="es-MX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En el plazo de un año lograr .......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981080" y="228600"/>
            <a:ext cx="4800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3333cc"/>
                </a:solidFill>
                <a:latin typeface="Times New Roman"/>
              </a:rPr>
              <a:t>OBJETIV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3333cc"/>
                </a:solidFill>
                <a:latin typeface="Times New Roman"/>
              </a:rPr>
              <a:t>ME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9T17:19:35Z</dcterms:created>
  <dc:creator>Ernesto Gramsch</dc:creator>
  <dc:description/>
  <dc:language>en-US</dc:language>
  <cp:lastModifiedBy>Ernesto Gramsch</cp:lastModifiedBy>
  <dcterms:modified xsi:type="dcterms:W3CDTF">2004-04-29T18:04:09Z</dcterms:modified>
  <cp:revision>22</cp:revision>
  <dc:subject/>
  <dc:title>Presentación de PowerPoint</dc:title>
</cp:coreProperties>
</file>