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4198-2196-48A4-9A29-C485B0E7754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26F-C40B-4A53-A3D4-E24042D1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97F-BE98-4162-B8C9-2644CE7B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5AB-B1B2-495D-8F68-0BA217B7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0EB-FD9A-4B16-99ED-C37F4851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CA4-D285-448E-8564-22CC588E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840-E804-4780-BAE3-DB623CB7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046-4FE2-46D8-B077-F883E27C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C11-FAA0-4D29-BC71-EA129110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3A9-8FC8-4DF3-9DB1-DA62D643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C06-FBDD-4302-9009-2AB0AC4F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0CB-3A8F-4F38-991C-A2096DB3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08B-3910-404D-BED4-652D416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111D-9DBA-454E-AD14-F741BEB0824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.wmf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-212040"/>
            <a:ext cx="2190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6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a0ab3"/>
                </a:solidFill>
                <a:latin typeface="Times New Roman"/>
              </a:rPr>
              <a:t>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118640" cy="536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ISTEMA DE ADMINISTRACION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LISIS  ESTRATE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VISION,  MISION,  OBJETVOS  Y  ME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NOSTICO  DE 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  DE 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  DE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ministrar y proteger eficientemente las personas, los activos y los recursos, poniendo énfasis en desarrollar relaciones de colaboración y compromiso mutuo entre todos los integrantes de la organización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rientar la gestión hacia una óptima atención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corporar las más modernas herramientas tecnológicas y de gestión a la función de Mantención, con el objeto de asegurar su competividad, incluyendo alta calidad de servicio, alta productividad y baj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sarrollar la función de Mantención en un marco de respeto por el med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28600"/>
            <a:ext cx="8305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OBJE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STRATEGICOS DE MANTENCION Y SERVICIOS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440" y="990720"/>
            <a:ext cx="88995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Mantención es un plan estratégico de mediano plazo que se orienta a posicionar a la Superintendecia de Mantención y Servicios en un nivel de excelencia, que le permita cumplir eficientemente con la responsabilidad que le compete en el mantenimiento de la disponibilidad, confiabilidad y continuidad operacional de las instalaciones de Hidrometalur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Las metas del proyecto deben alcanzarse a través de la participación de toda la organización de Mantención, mediante un proceso de cambios continuos, orientados a lograr los más altos niveles de competitividad que proyecten la gestión de la Superintendencia hacia el próximo sig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tiene como primera prioridad cumplir con la Misión, Objetivos Estratégicos y Visión Futura de Mantención y Servicios.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ROYECTO 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4440" y="1600200"/>
            <a:ext cx="889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 de 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pacitación y desarrollo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l servicio de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lidad del servicio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Desarrollo del área de Ingeniería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Gestión de abastecimientos 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 los costos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Implantación del módulo de mantención SAP-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PLANES DE ACCIÓN PERMANENTES DE MAN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4440" y="1600200"/>
            <a:ext cx="889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instructivos que dicta la gerencia acerca de un tema y que deben ser acatados por todos los componentes de la organiz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interesado e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n que todos colaboren y actuen coordinadamente para obtener los objetivos previs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OLI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240" y="-144360"/>
            <a:ext cx="892008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6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RQUE UN MODELO  D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ADMINISTRACION DEL MANTENI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040" y="1401840"/>
            <a:ext cx="8534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:   OBTENER     EFICACIA,    ECONOMIA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    ESTABILIDAD   DE FUNCIONAMIENTO 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PLICIT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Objetivos y poli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STEMATIZ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os  procedimientos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ORPO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procedimientos que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G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todos ellos en un todo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ocido y compartido por toda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43480" y="1143000"/>
          <a:ext cx="145116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143000"/>
                    <a:ext cx="14511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365960" y="878040"/>
          <a:ext cx="102888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960" y="878040"/>
                    <a:ext cx="10288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1068480"/>
          <a:ext cx="1224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068480"/>
                    <a:ext cx="122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68320" y="3755880"/>
          <a:ext cx="2173320" cy="136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3755880"/>
                    <a:ext cx="217332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3560" y="3733920"/>
          <a:ext cx="119556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" y="3733920"/>
                    <a:ext cx="11955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73200" y="3673440"/>
          <a:ext cx="674640" cy="174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3200" y="3673440"/>
                    <a:ext cx="67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139760" y="4716360"/>
          <a:ext cx="119880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9760" y="4716360"/>
                    <a:ext cx="1198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85000" y="2568600"/>
          <a:ext cx="1593720" cy="125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5000" y="2568600"/>
                    <a:ext cx="159372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580080" y="2873520"/>
          <a:ext cx="1594080" cy="125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0080" y="2873520"/>
                    <a:ext cx="159408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14400" y="1247760"/>
          <a:ext cx="1460520" cy="13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247760"/>
                    <a:ext cx="1460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596360" y="4408560"/>
          <a:ext cx="92844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96360" y="4408560"/>
                    <a:ext cx="928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429000" y="2590920"/>
          <a:ext cx="1792440" cy="126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2590920"/>
                    <a:ext cx="17924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422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286000"/>
            <a:ext cx="2425680" cy="21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5360" y="4060800"/>
            <a:ext cx="224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ODEGA DE RE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15000" y="4898880"/>
            <a:ext cx="221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PTO. ADQUIS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383680" y="3735360"/>
            <a:ext cx="226800" cy="760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1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3880" y="182736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prob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2960" y="1598760"/>
            <a:ext cx="10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greso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2665440"/>
            <a:ext cx="206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olicitud  de 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47080" y="2208240"/>
            <a:ext cx="131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800" y="2079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4760" y="20638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74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18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46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2096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680" y="22096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40449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478560" y="2363760"/>
            <a:ext cx="37944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2360" y="46544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3560" y="44258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8280" y="41212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25920" y="4344840"/>
            <a:ext cx="7452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573080" y="4573080"/>
            <a:ext cx="1522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277800" y="4344480"/>
            <a:ext cx="9889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960" y="204840"/>
            <a:ext cx="670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 DE  INFORMACION  PARA  MANTENCION (típì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3000" y="4624560"/>
            <a:ext cx="35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0880" y="43959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5600" y="4091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27496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6360" y="27496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744280" y="3049200"/>
            <a:ext cx="30348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320" y="371016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6120" y="5637240"/>
            <a:ext cx="129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jecu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869080" y="2287440"/>
            <a:ext cx="83664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8720" y="3811680"/>
            <a:ext cx="455400" cy="30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640120" y="4040280"/>
            <a:ext cx="531720" cy="68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97320" y="2719440"/>
            <a:ext cx="41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7360" y="2719440"/>
            <a:ext cx="4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7280" y="2287440"/>
            <a:ext cx="1065240" cy="5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63600" y="2363760"/>
            <a:ext cx="74520" cy="379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2363760"/>
            <a:ext cx="22716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047000" y="5205240"/>
          <a:ext cx="28080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47000" y="5205240"/>
                    <a:ext cx="2808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923160" y="5643720"/>
          <a:ext cx="676080" cy="541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23160" y="5643720"/>
                    <a:ext cx="676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51800" y="5410080"/>
          <a:ext cx="438120" cy="878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51800" y="5410080"/>
                    <a:ext cx="43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H="1" flipV="1">
            <a:off x="7164360" y="4344480"/>
            <a:ext cx="303120" cy="1217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29120" y="3300480"/>
          <a:ext cx="612720" cy="369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129120" y="3300480"/>
                    <a:ext cx="61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5865840"/>
            <a:ext cx="142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5035680"/>
          <a:ext cx="1155600" cy="880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035680"/>
                    <a:ext cx="11556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84560" y="5637240"/>
            <a:ext cx="151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04640" y="3527280"/>
            <a:ext cx="86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s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24400" y="4740120"/>
          <a:ext cx="730080" cy="766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24400" y="4740120"/>
                    <a:ext cx="730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953440" y="2689200"/>
            <a:ext cx="99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609480"/>
          <a:ext cx="1295280" cy="83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609480"/>
                    <a:ext cx="129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720" y="685800"/>
            <a:ext cx="177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arque  de  ED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160" y="28954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3600" y="3110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391520" y="1676520"/>
            <a:ext cx="15541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819520"/>
            <a:ext cx="990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648320"/>
            <a:ext cx="1782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rden de Trabajo de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6267600"/>
            <a:ext cx="14479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 de 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562000" y="464796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723920" y="27428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001000" y="228564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477120" y="34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5791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438280"/>
            <a:ext cx="11732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álogo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de Grupo N°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estratégico del 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el análisis estratégico del taller o empresa que están analiz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ULACION  DEL  PLAN  ESTRATEGICO  DE  LA FUNCION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5280" y="1173240"/>
          <a:ext cx="7620120" cy="537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295280" y="1173240"/>
                    <a:ext cx="762012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ificac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 quiere  ser  la Organiz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va a consegui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una Organización 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qui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arca el rumbo  y  es previa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 la naturaleza, el rumbo y el propós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ásico de l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LA  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 un marco de refer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rientador de las decisiones que conforman la naturaleza y el rumbo de una Función  en el contexto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s decisiones se toman en el contexto de un marco de referencia estratégico,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a dirección estará  bajo el control de los directivos que establecen dicho marc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visualización del 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estado futuro deseado”,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e da significado a las  acciones futuras del pres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un gran objetiv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anzar en un plazo razonab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en el tiempo necesario para producir un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mpres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tan largo como para no alcan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oc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ados. Normalmente se traba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lazos de 10 a 20 añ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 sueño diseñado en forma seria y realista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as acciones que hoy se emprendan deben ser </a:t>
            </a: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gruentes con ese sueño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4440" y="1523880"/>
            <a:ext cx="88995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fuerzos de Mantención y Servicios están enfocados a lograr en el mediano plazo lo siguiente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un equipo humano altamente motivado, desarrollando sus funciones en un marco de gestión participativa.</a:t>
            </a: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canzar niveles de competitividad tales que jnos permita ser considerados una de la mejores áreas de mantención de la industria minera nacional.</a:t>
            </a: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ar con un alto nivel de trabajos planificados con una fuerte utilización de la Mantención Predictiva y la Ingeniería de Manten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ograr los costos de mantención más bajos en relación a instalaciones similares de hidrometalurgia del co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r una de las áreas más seguras de la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"/>
            <a:ext cx="701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  ESTRATE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sión es la identificación de los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ósit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institución, conformada por las personas que estarán a cargo de llevar adelante el Plan de Desarrollo del área. Es la declaración fundamental que plantea sus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tivos y su acción en cuanto organiza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respuesta a la pregu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es nuestro propósito como organización y cuál debiera ser en el futuro?, considerando cuáles son las </a:t>
            </a:r>
            <a:r>
              <a:rPr b="1" i="1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cione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necesario desarrollar para alcanzar el “estado deseado” o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.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4440" y="1905120"/>
            <a:ext cx="88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r, desarrollar y ejecutar las actividades de mantención de los equipos, instalaciones y sistemas de la Subgerencia Hidrometalurgia, efocados a lograr una alta competitividad, y disponibilidad de las instalaciones, con una actitud de servicio y contribuyendo directamente al cumplimiento de los planes y programas de tratamiento de minerales y producción de cobre de la Divi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71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AS  QUE  QUIERO  OBTENER,  HACER,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BLES  con  metas  concre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 o intento, propósito  de una 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objetivos que se establezcan orientarán el resto del proceso al reflejar las aspiraciones en materia  de desarrollo de la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ión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Es importante que se determinen de forma coherente  con los puntos fuertes y débiles, problemas y oportunidades detectadas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rante el diagnóstico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 el plazo de un año lograr .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28600"/>
            <a:ext cx="4800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7:19:35Z</dcterms:created>
  <dc:creator>Ernesto Gramsch</dc:creator>
  <dc:description/>
  <dc:language>en-US</dc:language>
  <cp:lastModifiedBy>Ernesto Gramsch</cp:lastModifiedBy>
  <dcterms:modified xsi:type="dcterms:W3CDTF">2004-04-29T18:04:09Z</dcterms:modified>
  <cp:revision>22</cp:revision>
  <dc:subject/>
  <dc:title>Presentación de PowerPoint</dc:title>
</cp:coreProperties>
</file>