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E47A-1A91-4448-89C3-11480708BBD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70588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792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A4C-D887-4F8A-BF27-CBD4B2B7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8B8-309C-4F18-992A-87BD5AEE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E8A-F5A8-43E0-9AFB-3C3A2ACEF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718-89A6-4CDB-949E-8A9636F8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C92-1295-4D91-AA4B-B99FC98E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220-B221-4C86-8B36-ED6D6FE1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7C0-3A18-49F9-AE9E-D94F095A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230-A376-41DC-B2C6-982C00D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1E55-69B1-414A-A57B-D4C5C659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440-F678-4C89-BFF5-0F8303B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9A41-5C3F-45EB-8FE4-140AC457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8F7-16FE-4C8D-BCA2-23DBDE51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B445-3956-4CA5-BC2E-E8DE3E26F09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8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5.wmf"/><Relationship Id="rId3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8640" y="-212040"/>
            <a:ext cx="21906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36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a0ab3"/>
                </a:solidFill>
                <a:latin typeface="Times New Roman"/>
              </a:rPr>
              <a:t>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118640" cy="536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SISTEMA DE ADMINISTRACION</a:t>
            </a:r>
            <a:br>
              <a:rPr sz="2800"/>
            </a:br>
            <a:r>
              <a:rPr b="1" lang="es-ES_tradnl" sz="2800" spc="-1" strike="noStrike">
                <a:solidFill>
                  <a:srgbClr val="ff3300"/>
                </a:solidFill>
                <a:latin typeface="Arial"/>
              </a:rPr>
              <a:t>DEL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ALISIS  ESTRATE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VISION,  MISION,  OBJETVOS  Y  MET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IFI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NTENCION  PREVEN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AN  MAE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NOSTICO  DE  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DEN  DE 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GRAM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ON  DE  RESUL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Administrar y proteger eficientemente las personas, los activos y los recursos, poniendo énfasis en desarrollar relaciones de colaboración y compromiso mutuo entre todos los integrantes de la organización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Orientar la gestión hacia una óptima atención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Incorporar las más modernas herramientas tecnológicas y de gestión a la función de Mantención, con el objeto de asegurar su competividad, incluyendo alta calidad de servicio, alta productividad y bajos co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Desarrollar la función de Mantención en un marco de respeto por el medio amb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28600"/>
            <a:ext cx="8305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OBJETIV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ESTRATEGICOS DE MANTENCION Y SERVICIOS</a:t>
            </a: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4440" y="990720"/>
            <a:ext cx="889956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Mantención es un plan estratégico de mediano plazo que se orienta a posicionar a la Superintendecia de Mantención y Servicios en un nivel de excelencia, que le permita cumplir eficientemente con la responsabilidad que le compete en el mantenimiento de la disponibilidad, confiabilidad y continuidad operacional de las instalaciones de Hidrometalurg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Las metas del proyecto deben alcanzarse a través de la participación de toda la organización de Mantención, mediante un proceso de cambios continuos, orientados a lograr los más altos niveles de competitividad que proyecten la gestión de la Superintendencia hacia el próximo sig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El proyecto tiene como primera prioridad cumplir con la Misión, Objetivos Estratégicos y Visión Futura de Mantención y Servicios.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ROYECTO MANTEN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4440" y="1600200"/>
            <a:ext cx="8899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rol de 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pacitación y desarrollo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l servicio de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Protección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Calidad del servicio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Desarrollo del área de Ingeniería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Gestión de abastecimientos e inven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Administración de los costos de mante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Implantación del módulo de mantención SAP-P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3333cc"/>
                </a:solidFill>
                <a:latin typeface="Times New Roman"/>
              </a:rPr>
              <a:t>PLANES DE ACCIÓN PERMANENTES DE MANTEN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4440" y="1600200"/>
            <a:ext cx="8899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n instructivos que dicta la gerencia acerca de un tema y que deben ser acatados por todos los componentes de la organiz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 interesado e inter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n que todos colaboren y actuen coordinadamente para obtener los objetivos previs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228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POLIT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1240" y="-144360"/>
            <a:ext cx="8920080" cy="15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6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ORQUE UN MODELO  DE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ADMINISTRACION DEL MANTENI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040" y="1401840"/>
            <a:ext cx="8534520" cy="47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:   OBTENER     EFICACIA,    ECONOMIA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Y      ESTABILIDAD   DE FUNCIONAMIENTO DE LA PLA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XPLICIT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Objetivos y poli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SISTEMATIZ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los  procedimientos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CORPO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procedimientos que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una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GRACIO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de todos ellos en un todo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ocido y compartido por toda l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43480" y="1143000"/>
          <a:ext cx="145116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3480" y="1143000"/>
                    <a:ext cx="145116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7365960" y="878040"/>
          <a:ext cx="1028880" cy="13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65960" y="878040"/>
                    <a:ext cx="10288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657600" y="1068480"/>
          <a:ext cx="1224000" cy="95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1068480"/>
                    <a:ext cx="12240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68320" y="3755880"/>
          <a:ext cx="2173320" cy="136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8320" y="3755880"/>
                    <a:ext cx="217332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93560" y="3733920"/>
          <a:ext cx="1195560" cy="12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560" y="3733920"/>
                    <a:ext cx="1195560" cy="12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473200" y="3673440"/>
          <a:ext cx="674640" cy="174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73200" y="3673440"/>
                    <a:ext cx="674640" cy="17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139760" y="4716360"/>
          <a:ext cx="119880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9760" y="4716360"/>
                    <a:ext cx="11988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885000" y="2568600"/>
          <a:ext cx="1593720" cy="1254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5000" y="2568600"/>
                    <a:ext cx="159372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580080" y="2873520"/>
          <a:ext cx="1594080" cy="1253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2873520"/>
                    <a:ext cx="1594080" cy="12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914400" y="1247760"/>
          <a:ext cx="1460520" cy="13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4400" y="1247760"/>
                    <a:ext cx="1460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596360" y="4408560"/>
          <a:ext cx="928440" cy="480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596360" y="4408560"/>
                    <a:ext cx="92844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3429000" y="2590920"/>
          <a:ext cx="1792440" cy="12668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2590920"/>
                    <a:ext cx="179244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422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632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286000"/>
            <a:ext cx="2425680" cy="212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15360" y="4060800"/>
            <a:ext cx="2245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ODEGA DE REPUES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15000" y="4898880"/>
            <a:ext cx="2216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PTO. ADQUISI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8383680" y="3735360"/>
            <a:ext cx="226800" cy="760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1080" y="20336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3880" y="1827360"/>
            <a:ext cx="1212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Aprob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2960" y="1598760"/>
            <a:ext cx="10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greso 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9120" y="2665440"/>
            <a:ext cx="2067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Solicitud  de 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47080" y="2208240"/>
            <a:ext cx="1312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8800" y="2079720"/>
            <a:ext cx="275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4760" y="20638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86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74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118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4640" y="2209680"/>
            <a:ext cx="121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68880" y="22096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7680" y="22096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30960" y="404496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6478560" y="2363760"/>
            <a:ext cx="379440" cy="16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02360" y="46544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73560" y="4425840"/>
            <a:ext cx="2919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8280" y="41212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25920" y="4344840"/>
            <a:ext cx="7452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573080" y="4573080"/>
            <a:ext cx="1522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277800" y="4344480"/>
            <a:ext cx="9889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3960" y="204840"/>
            <a:ext cx="670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ISTEMA  DE  INFORMACION  PARA  MANTENCION (típìc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03000" y="4624560"/>
            <a:ext cx="35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50880" y="439596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55600" y="409104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27496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6360" y="27496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744280" y="3049200"/>
            <a:ext cx="30348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320" y="3710160"/>
            <a:ext cx="18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6120" y="5637240"/>
            <a:ext cx="1294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Ejecu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869080" y="2287440"/>
            <a:ext cx="83664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5868720" y="3811680"/>
            <a:ext cx="455400" cy="3031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640120" y="4040280"/>
            <a:ext cx="531720" cy="684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97320" y="2719440"/>
            <a:ext cx="41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17360" y="2719440"/>
            <a:ext cx="4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7280" y="2287440"/>
            <a:ext cx="1065240" cy="53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963600" y="2363760"/>
            <a:ext cx="74520" cy="379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2363760"/>
            <a:ext cx="227160" cy="455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047000" y="5205240"/>
          <a:ext cx="280800" cy="416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047000" y="5205240"/>
                    <a:ext cx="2808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6923160" y="5643720"/>
          <a:ext cx="676080" cy="5410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923160" y="5643720"/>
                    <a:ext cx="676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7651800" y="5410080"/>
          <a:ext cx="438120" cy="8780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7651800" y="5410080"/>
                    <a:ext cx="43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 flipV="1">
            <a:off x="7164360" y="4344480"/>
            <a:ext cx="303120" cy="121788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29120" y="3300480"/>
          <a:ext cx="612720" cy="3697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129120" y="3300480"/>
                    <a:ext cx="612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4936320" y="5865840"/>
            <a:ext cx="142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5035680"/>
          <a:ext cx="1155600" cy="88092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105520" y="5035680"/>
                    <a:ext cx="115560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184560" y="5637240"/>
            <a:ext cx="1515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04640" y="3527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Histo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524400" y="4740120"/>
          <a:ext cx="730080" cy="766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524400" y="4740120"/>
                    <a:ext cx="73008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953440" y="2689200"/>
            <a:ext cx="994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Infor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de 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362320" y="609480"/>
          <a:ext cx="1295280" cy="838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362320" y="609480"/>
                    <a:ext cx="1295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143720" y="685800"/>
            <a:ext cx="177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arque  de  ED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05160" y="2895480"/>
            <a:ext cx="29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29200" y="289548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63600" y="31100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391520" y="1676520"/>
            <a:ext cx="15541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2819520"/>
            <a:ext cx="990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lan Matr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4648320"/>
            <a:ext cx="17827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Orden de Trabajo de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6267600"/>
            <a:ext cx="144792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ogramación de Traba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562000" y="464796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723920" y="2742840"/>
            <a:ext cx="381240" cy="609480"/>
          </a:xfrm>
          <a:prstGeom prst="upArrow">
            <a:avLst>
              <a:gd name="adj1" fmla="val 50000"/>
              <a:gd name="adj2" fmla="val 39967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8001000" y="228564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6477120" y="3428640"/>
            <a:ext cx="380880" cy="685800"/>
          </a:xfrm>
          <a:prstGeom prst="upArrow">
            <a:avLst>
              <a:gd name="adj1" fmla="val 50000"/>
              <a:gd name="adj2" fmla="val 45014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5791320"/>
            <a:ext cx="380880" cy="609480"/>
          </a:xfrm>
          <a:prstGeom prst="upArrow">
            <a:avLst>
              <a:gd name="adj1" fmla="val 50000"/>
              <a:gd name="adj2" fmla="val 40005"/>
            </a:avLst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67080" y="2438280"/>
            <a:ext cx="1173240" cy="580680"/>
          </a:xfrm>
          <a:prstGeom prst="rect">
            <a:avLst/>
          </a:prstGeom>
          <a:solidFill>
            <a:srgbClr val="00cc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atálogo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86000" y="1066680"/>
            <a:ext cx="4800600" cy="5181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828800"/>
            <a:ext cx="3505320" cy="3581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590920"/>
            <a:ext cx="1904760" cy="1981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82880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609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144756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648320" y="3504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334120" y="13712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324480" y="25146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4114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518148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124080" y="502920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361960" y="39625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560" y="243792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48040" y="228600"/>
            <a:ext cx="49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stión  Operacional         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Gestión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560" y="1042920"/>
            <a:ext cx="27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actuale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Los clientes actuales</a:t>
            </a:r>
            <a:r>
              <a:rPr b="1" lang="es-ES_tradnl" sz="1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5640" y="966960"/>
            <a:ext cx="270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y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Clientes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1240" y="548640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Nuevos clientes para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cc99"/>
                </a:solidFill>
                <a:latin typeface="Times New Roman"/>
              </a:rPr>
              <a:t>Actividades  actu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0880" y="556272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Nuevas  Actividades 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Times New Roman"/>
              </a:rPr>
              <a:t>Los clientes actual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648320" y="609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50640" y="1128600"/>
            <a:ext cx="139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ejor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94880" y="190512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trabaj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0320" y="3124080"/>
            <a:ext cx="77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7840" y="4343400"/>
            <a:ext cx="8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M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5960" y="1828800"/>
            <a:ext cx="1438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 de Ro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qu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ingenierí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3048120"/>
            <a:ext cx="143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vers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4572000"/>
            <a:ext cx="134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dquisi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65400" y="54100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Plan  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Investigación 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sarroll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4832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2280" y="3276720"/>
            <a:ext cx="126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Planificació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Times New Roman"/>
              </a:rPr>
              <a:t>Estraté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16217400">
            <a:off x="2788200" y="3311280"/>
            <a:ext cx="125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Operac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5418000">
            <a:off x="5330880" y="3262680"/>
            <a:ext cx="134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l  Progre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14800" y="3048120"/>
            <a:ext cx="114300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17400">
            <a:off x="3501720" y="343476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nan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246400">
            <a:off x="4983840" y="34693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Trabajo de Grupo N° 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nálisis estratégico del 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cer el análisis estratégico del taller o empresa que están analiza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ULACION  DEL  PLAN  ESTRATEGICO  DE  LA FUNCION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95280" y="1173240"/>
          <a:ext cx="7620120" cy="5379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1295280" y="1173240"/>
                    <a:ext cx="762012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lanificación Estratég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 quiere  ser  la Organiz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ómo va a conseguir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 que una Organización  </a:t>
            </a: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qui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Times New Roman"/>
              </a:rPr>
              <a:t>ser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marca el rumbo  y  es previa a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s la naturaleza, el rumbo y el propósi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básico de la Organ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</a:rPr>
              <a:t>LA   ESTRATE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Es un marco de referenci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orientador de las decisiones que conforman la naturaleza y el rumbo de una Función  en el contexto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las decisiones se toman en el contexto de un marco de referencia estratégico, </a:t>
            </a: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a dirección estará  bajo el control de los directivos que establecen dicho marc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la visualización del </a:t>
            </a:r>
            <a:r>
              <a:rPr b="0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estado futuro deseado”,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e da significado a las  acciones futuras del pres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rata de un gran objetivo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anzar en un plazo razonab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en el tiempo necesario para producir un camb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empres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tan largo como para no alcanz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ocer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ados. Normalmente se traba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plazos de 10 a 20 añ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n sueño diseñado en forma seria y realista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as acciones que hoy se emprendan deben ser </a:t>
            </a: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gruentes con ese sueño</a:t>
            </a:r>
            <a:r>
              <a:rPr b="1" lang="es-MX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4440" y="1523880"/>
            <a:ext cx="889956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fuerzos de Mantención y Servicios están enfocados a lograr en el mediano plazo lo siguiente: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r con un equipo humano altamente motivado, desarrollando sus funciones en un marco de gestión participativa.</a:t>
            </a:r>
            <a:r>
              <a:rPr b="1" lang="es-MX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lcanzar niveles de competitividad tales que jnos permita ser considerados una de la mejores áreas de mantención de la industria minera nacional.</a:t>
            </a:r>
            <a:r>
              <a:rPr b="1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ar con un alto nivel de trabajos planificados con una fuerte utilización de la Mantención Predictiva y la Ingeniería de Manten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ograr los costos de mantención más bajos en relación a instalaciones similares de hidrometalurgia del cob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0" lang="es-ES_tradnl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r una de las áreas más seguras de la Di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8600"/>
            <a:ext cx="7010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VISION  ESTRATE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4440" y="990720"/>
            <a:ext cx="8899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sión es la identificación de lo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pósitos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a institución, conformada por las personas que estarán a cargo de llevar adelante el Plan de Desarrollo del área. Es la declaración fundamental que plantea sus 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tivos y su acción en cuanto organización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la respuesta a la pregu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 Cuál es nuestro propósito como organización y cuál debiera ser en el futuro?, considerando cuáles son las </a:t>
            </a:r>
            <a:r>
              <a:rPr b="1" i="1" lang="es-MX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cciones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s necesario desarrollar para alcanzar el “estado deseado” o VIS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N.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28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4440" y="1905120"/>
            <a:ext cx="88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r, desarrollar y ejecutar las actividades de mantención de los equipos, instalaciones y sistemas de la Subgerencia Hidrometalurgia, efocados a lograr una alta competitividad, y disponibilidad de las instalaciones, con una actitud de servicio y contribuyendo directamente al cumplimiento de los planes y programas de tratamiento de minerales y producción de cobre de la Divis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228600"/>
            <a:ext cx="716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M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cc"/>
                </a:solidFill>
                <a:latin typeface="Times New Roman"/>
              </a:rPr>
              <a:t>Superintendencia Mantención y Servi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44440" y="1600200"/>
            <a:ext cx="8899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SAS  QUE  QUIERO  OBTENER,  HACER,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GR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BLES  con  metas  concret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n o intento, propósito  de una ope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s objetivos que se establezcan orientarán el resto del proceso al reflejar las aspiraciones en materia  de desarrollo de la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unción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 Es importante que se determinen de forma coherente  con los puntos fuertes y débiles, problemas y oportunidades detectadas </a:t>
            </a:r>
            <a:r>
              <a:rPr b="1" lang="es-ES_tradn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urante el diagnóstico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En el plazo de un año lograr .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28600"/>
            <a:ext cx="4800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3333cc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3333cc"/>
                </a:solidFill>
                <a:latin typeface="Times New Roman"/>
              </a:rPr>
              <a:t>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17:19:35Z</dcterms:created>
  <dc:creator>Ernesto Gramsch</dc:creator>
  <dc:description/>
  <dc:language>en-US</dc:language>
  <cp:lastModifiedBy>Ernesto Gramsch</cp:lastModifiedBy>
  <dcterms:modified xsi:type="dcterms:W3CDTF">2004-04-29T18:04:09Z</dcterms:modified>
  <cp:revision>22</cp:revision>
  <dc:subject/>
  <dc:title>Presentación de PowerPoint</dc:title>
</cp:coreProperties>
</file>