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06CC-6368-4460-B6C2-74F9FC93B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CB0E-4836-4960-B739-A9048911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A0BC-4ABB-4D8D-B493-3B00DD8EA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9349-8695-4083-94A2-779DBC0E5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0E05-86BA-4E88-9287-55115F3B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7EAD-96B9-4ADE-A869-E6F39EE1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C9E7-2757-43CC-B9BF-369A5A5A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B024-7884-4C51-82C6-64553586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344B-8598-48CA-94FC-77177003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A3D1-2290-4DEF-A8CA-2C6144D5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DDC0-8A7E-4F56-BAA8-E664530B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8127-DED8-4C7C-A673-A7F58C6A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9927573-571A-4C92-8B03-513F89A5294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1080" y="6484680"/>
            <a:ext cx="2346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. A. I. XXI CONSULTOR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" y="-52560"/>
            <a:ext cx="87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ARACTERISTICAS   PROPIAS  DE  L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ACTIVIDAD  DE  MANTENI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971800" y="1214280"/>
          <a:ext cx="5943600" cy="439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214280"/>
                    <a:ext cx="594360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39718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4120" y="2112840"/>
            <a:ext cx="3230280" cy="49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cen  que  l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estió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 énfasis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 exigencias  y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foqu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618ffd"/>
                </a:solidFill>
                <a:latin typeface="Times New Roman"/>
              </a:rPr>
              <a:t>sean  distin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ACION   CON  LA  CALIDAD   DEL  MEDIO 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LLAS  QUE  PRODUCEN  CONTAMIN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ACION   CON  LA   SEG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CE  DE  FRECU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CE  DE  GRAV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CIONES  INSEGURA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NES  DE  TRABAJO  PENDIENTES  POR  CORRECCION  DE  CONDICIONES  INSEGURA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c0128"/>
                </a:solidFill>
                <a:latin typeface="Arial"/>
              </a:rPr>
              <a:t>RELACION  CON  LA  CALIDAD  DEL  AMBIENTE</a:t>
            </a:r>
            <a:br>
              <a:rPr sz="2000"/>
            </a:br>
            <a:r>
              <a:rPr b="1" lang="es-ES_tradnl" sz="2000" spc="-1" strike="noStrike">
                <a:solidFill>
                  <a:srgbClr val="fc0128"/>
                </a:solidFill>
                <a:latin typeface="Arial"/>
              </a:rPr>
              <a:t>RELACION  CON  LA  SEGURIDAD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533520" y="457200"/>
          <a:ext cx="3620880" cy="510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57200"/>
                    <a:ext cx="36208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267080" y="457200"/>
          <a:ext cx="4587840" cy="36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457200"/>
                    <a:ext cx="4587840" cy="36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2378160" y="58024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c0128"/>
                </a:solidFill>
                <a:latin typeface="Arial"/>
              </a:rPr>
              <a:t>CONTRADICCIONES  DE LAS FUNCIONES</a:t>
            </a:r>
            <a:br>
              <a:rPr sz="2400"/>
            </a:br>
            <a:r>
              <a:rPr b="1" lang="es-ES_tradnl" sz="2400" spc="-1" strike="noStrike">
                <a:solidFill>
                  <a:srgbClr val="fc0128"/>
                </a:solidFill>
                <a:latin typeface="Arial"/>
              </a:rPr>
              <a:t>  PRODUCCION  ---------------------  MANTENCION  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3810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El  equipo activo está en FUNCIONAMIE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Tiempo de la actividad lo más LARGO posib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La actividad DEGRADA el equip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El resultado de la actividad es medible de INMEDIA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La actividad se realiza sobre PRODUCTOS fabricad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La parte más importante de la actividad se encuentra en la ACC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El perfeccionamiento de la producción tiende a la robotización y desaparición del person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1430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El equipo activo está DETENID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Tiempo de la actividad lo más CORTO posible y lo menos frecuente posib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La actividad RENUEVA el equip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El resultado de la actividad es medible en el LARGO PLAZ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La actividad se realiza sobre el ACTIVO FIJ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La parte más importante de la actividad es la REFLEX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El perfeccionamiento del mantenimiento obliga al aumento del nivel de competencia del person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RACTERISTICA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L  MANTENIMI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VEL  DE  INCERTIDUM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ENCIA  DE  LAS  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CIA  DE  LA  MANO  DE  O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LUMEN   DE  INFORM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CION  CON  LA  CALIDAD  DEL 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CION  CON  LA  SEG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c0128"/>
                </a:solidFill>
                <a:latin typeface="Arial"/>
              </a:rPr>
              <a:t>NIVEL  DE  INCERTIDUMBR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RESUL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ERTEZA  DE  FUNCIONAMIENTO  (Confiabilidad, Mantenibilidad, Disponibilidad  y  Segurid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STO  DE  LAS  FAL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RITICIDAD  DE  LOS  EQUI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IVIDAD  DE  LA  MANO  DE  O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LANIFICACION  Y   PROGRAMAC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STO,  DURACION  Y  CALIDAD   DE  LOS  TRABAJ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ARGA   DE 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  DE  TRABAJO  PENDIENTE (Backlo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87320" y="-142920"/>
            <a:ext cx="5616360" cy="123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RELACIONES DE MANTENCION</a:t>
            </a:r>
            <a:br>
              <a:rPr sz="2800"/>
            </a:b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ON OTRAS FUN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04880" y="2462040"/>
            <a:ext cx="12960" cy="12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3600" y="1422360"/>
            <a:ext cx="1598400" cy="1567080"/>
          </a:xfrm>
          <a:prstGeom prst="ellipse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3600" y="3352680"/>
            <a:ext cx="1598400" cy="1568520"/>
          </a:xfrm>
          <a:prstGeom prst="ellipse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95320" y="4933800"/>
            <a:ext cx="1598760" cy="1567080"/>
          </a:xfrm>
          <a:prstGeom prst="ellipse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28880" y="4933800"/>
            <a:ext cx="1598760" cy="1567080"/>
          </a:xfrm>
          <a:prstGeom prst="ellipse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54800" y="4933800"/>
            <a:ext cx="1598400" cy="1567080"/>
          </a:xfrm>
          <a:prstGeom prst="ellipse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65800" y="3352680"/>
            <a:ext cx="1598760" cy="1568520"/>
          </a:xfrm>
          <a:prstGeom prst="ellipse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65800" y="1422360"/>
            <a:ext cx="1598760" cy="1567080"/>
          </a:xfrm>
          <a:prstGeom prst="ellipse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23920" y="1415880"/>
            <a:ext cx="96840" cy="4391280"/>
          </a:xfrm>
          <a:custGeom>
            <a:avLst/>
            <a:gdLst/>
            <a:ahLst/>
            <a:rect l="l" t="t" r="r" b="b"/>
            <a:pathLst>
              <a:path w="61" h="2766">
                <a:moveTo>
                  <a:pt x="0" y="0"/>
                </a:moveTo>
                <a:lnTo>
                  <a:pt x="0" y="2765"/>
                </a:lnTo>
                <a:lnTo>
                  <a:pt x="60" y="2765"/>
                </a:lnTo>
                <a:lnTo>
                  <a:pt x="6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30400" y="5757840"/>
            <a:ext cx="6837120" cy="95400"/>
          </a:xfrm>
          <a:custGeom>
            <a:avLst/>
            <a:gdLst/>
            <a:ahLst/>
            <a:rect l="l" t="t" r="r" b="b"/>
            <a:pathLst>
              <a:path w="4307" h="60">
                <a:moveTo>
                  <a:pt x="0" y="59"/>
                </a:moveTo>
                <a:lnTo>
                  <a:pt x="4306" y="59"/>
                </a:lnTo>
                <a:lnTo>
                  <a:pt x="4306" y="0"/>
                </a:lnTo>
                <a:lnTo>
                  <a:pt x="0" y="0"/>
                </a:lnTo>
                <a:lnTo>
                  <a:pt x="0" y="59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875720" y="5757840"/>
            <a:ext cx="1440" cy="95400"/>
          </a:xfrm>
          <a:custGeom>
            <a:avLst/>
            <a:gdLst/>
            <a:ahLst/>
            <a:rect l="l" t="t" r="r" b="b"/>
            <a:pathLst>
              <a:path w="1" h="60">
                <a:moveTo>
                  <a:pt x="0" y="59"/>
                </a:moveTo>
                <a:lnTo>
                  <a:pt x="0" y="0"/>
                </a:lnTo>
                <a:lnTo>
                  <a:pt x="0" y="59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9040" y="21099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GENIE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7800" y="2438280"/>
            <a:ext cx="1510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CLO DE V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71080" y="4017960"/>
            <a:ext cx="869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.DE 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6480" y="3997440"/>
            <a:ext cx="1172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76840" y="5950080"/>
            <a:ext cx="983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61080" y="5950080"/>
            <a:ext cx="1062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63880" y="5950080"/>
            <a:ext cx="1399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10520" y="4194000"/>
            <a:ext cx="1529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SUPUES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66560" y="4437000"/>
            <a:ext cx="817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S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73680" y="3492360"/>
            <a:ext cx="1340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TER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36680" y="2076480"/>
            <a:ext cx="1084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DE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81640" y="3997440"/>
            <a:ext cx="190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BASTECIMI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65000" y="4221000"/>
            <a:ext cx="91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P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54920" y="4424400"/>
            <a:ext cx="937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ICI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80" y="6480"/>
            <a:ext cx="9131040" cy="6845040"/>
          </a:xfrm>
          <a:prstGeom prst="rect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8320" y="1415880"/>
            <a:ext cx="96840" cy="4391280"/>
          </a:xfrm>
          <a:custGeom>
            <a:avLst/>
            <a:gdLst/>
            <a:ahLst/>
            <a:rect l="l" t="t" r="r" b="b"/>
            <a:pathLst>
              <a:path w="61" h="2766">
                <a:moveTo>
                  <a:pt x="0" y="0"/>
                </a:moveTo>
                <a:lnTo>
                  <a:pt x="0" y="2765"/>
                </a:lnTo>
                <a:lnTo>
                  <a:pt x="60" y="2765"/>
                </a:lnTo>
                <a:lnTo>
                  <a:pt x="6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c0128"/>
                </a:solidFill>
                <a:latin typeface="Arial"/>
              </a:rPr>
              <a:t>DEPENDENCIA   DE  LAS  INTERFACE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762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ASTECI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ORA  Y  CALIDAD  EN  EL  ABASTECIMIENTO  DE REPUE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C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LLAS  PRODUCIDAS  POR  MALA 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ORA  EN  LA  ENTREGA  DEL  EQUIPO  ACORD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UPUESTOS  Y 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TO  DE  LOS  INFORMES  DE  COSTOS  Y  PRESUPUESTOS  QUE  LE  CONVENGA  A  MANTEN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TACION,  MOTIVACI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GENI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ICIPACION  EN  EL  DESARROLLO  DE  LOS  PROYECTOS   DE  INV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TOS  DE  MANTENCION  EN  LOS   PROYE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c0128"/>
                </a:solidFill>
                <a:latin typeface="Arial"/>
              </a:rPr>
              <a:t>IMPORTANCIA  DE  LA  MANO  DE  OBRA</a:t>
            </a:r>
            <a:br>
              <a:rPr sz="2400"/>
            </a:br>
            <a:r>
              <a:rPr b="1" lang="es-ES_tradnl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c0128"/>
                </a:solidFill>
                <a:latin typeface="Arial"/>
              </a:rPr>
              <a:t>(Etica, reflexión, diagnóstico)</a:t>
            </a: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ORA  Y  CALIDAD  EN  LOS  TRABAJ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CION   EN  EL  CAMBIO  DE  REPUESTO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LEX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ISIS  DE  FAL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ODO  Y  CONTENIDO  EN  LOS  TRABAJO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AGNOS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RTEZA  Y  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133720" y="-380880"/>
            <a:ext cx="470988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c0128"/>
                </a:solidFill>
                <a:latin typeface="Arial"/>
              </a:rPr>
              <a:t>PRODUCTIVIDAD</a:t>
            </a:r>
            <a:br>
              <a:rPr sz="2000"/>
            </a:br>
            <a:r>
              <a:rPr b="1" lang="es-ES_tradnl" sz="2000" spc="-1" strike="noStrike">
                <a:solidFill>
                  <a:srgbClr val="fc0128"/>
                </a:solidFill>
                <a:latin typeface="Arial"/>
              </a:rPr>
              <a:t>VOLUMEN   DE  INFORMACI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%  DE  PRODUCTIVIDAD  DE  LA  MANO  DE  OBRA  (Muestreos  de  Trabajo) (30 A 40%  es lo que se encuentra habitual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OLUMEN   DE  INFORM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TIDAD  DE  EQUIPOS  EN  EL  INVENTARIO  (Historia de  trabajos  de  mantención,  de  fallas,  y  de  costos;  Planes  de Mantención  Preventi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TIDAD   DE  OTM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2T21:53:42Z</dcterms:created>
  <dc:creator>Ernesto Gramsch Sanjinés</dc:creator>
  <dc:description>transparencias en power point del seminario ADMINISTRACION DEL MANTENIMIENTO,
INCLUYE ALGUNAS LAMINAS EN NEGRO Y EN COLORES</dc:description>
  <dc:language>en-US</dc:language>
  <cp:lastModifiedBy>Ernesto Gramsch</cp:lastModifiedBy>
  <cp:lastPrinted>2000-05-25T14:36:25Z</cp:lastPrinted>
  <dcterms:modified xsi:type="dcterms:W3CDTF">2002-05-04T02:35:32Z</dcterms:modified>
  <cp:revision>76</cp:revision>
  <dc:subject/>
  <dc:title>ADMINISTRACION  DEL  MANTENIMIENTO</dc:title>
</cp:coreProperties>
</file>