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CE0-59ED-4A6F-8F1C-E0BDDEE86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AB1-291B-4CFF-AB8E-A1856F82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C6C5-ADB8-4827-9FBC-3E7E0C77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8C9-BDC1-4E36-8AA7-FA8D8B692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958D-E946-4CC8-AD33-E8267461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F0E-61A2-4619-B527-B3D37AF5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B2D-8070-4EAC-8CCB-A807FF41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C7F0-367A-4340-9CF2-6F0CF01A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422-DD7C-4C10-9CBC-63A787A0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10A-CE9A-4D6F-9626-9C84F098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1CB-4C0A-427D-A502-70A0B8CF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1DC-C96B-4404-869F-58803AD5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DEBD55-E8AE-45DA-BF49-65916778999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080" y="6484680"/>
            <a:ext cx="2346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. A. I. XXI CONSULT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" y="-5256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ARACTERISTICAS   PROPIAS  DE 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CTIVIDAD  DE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971800" y="1214280"/>
          <a:ext cx="594360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214280"/>
                    <a:ext cx="59436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9718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4120" y="2112840"/>
            <a:ext cx="32302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cen  que  l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est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 énfasis,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 exigencias 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foqu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618ffd"/>
                </a:solidFill>
                <a:latin typeface="Times New Roman"/>
              </a:rPr>
              <a:t>sean  disti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CION   CON  LA  CALIDAD   DEL  MEDIO 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AS  QUE  PRODUCEN  CONTAMIN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CION   CON  LA  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E  DE 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E  DE  GRAV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CIONES  INSEGUR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 DE  TRABAJO  PENDIENTES  POR  CORRECCION  DE  CONDICIONES  INSEGUR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RELACION  CON  LA  CALIDAD  DEL  AMBIENTE</a:t>
            </a:r>
            <a:br>
              <a:rPr sz="2000"/>
            </a:b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RELACION  CON  LA  SEGURIDAD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33520" y="457200"/>
          <a:ext cx="362088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3620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267080" y="457200"/>
          <a:ext cx="4587840" cy="3662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457200"/>
                    <a:ext cx="4587840" cy="36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2378160" y="5802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CONTRADICCIONES  DE LAS FUNCIONES</a:t>
            </a:r>
            <a:br>
              <a:rPr sz="2400"/>
            </a:b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  PRODUCCION  ---------------------  MANTENCION 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3810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 equipo activo está en FUNCIONAMI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Tiempo de la actividad lo más LARGO pos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DEGRADA el equi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resultado de la actividad es medible de INMEDIA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se realiza sobre PRODUCTOS fabric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parte más importante de la actividad se encuentra en la ACC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perfeccionamiento de la producción tiende a la robotización y desaparición del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equipo activo está DETENI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Tiempo de la actividad lo más CORTO posible y lo menos frecuente pos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RENUEVA el equip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resultado de la actividad es medible en el LARGO PLAZ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actividad se realiza sobre el ACTIVO FIJ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La parte más importante de la actividad es la REFLEX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Times New Roman"/>
              </a:rPr>
              <a:t>El perfeccionamiento del mantenimiento obliga al aumento del nivel de competencia del pers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ACTERISTICA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L  MANTENI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VEL  DE  INCERTIDUM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CIA  DE  LAS 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IA  DE  LA  MANO  DE  O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UMEN   DE 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ON  CON  LA  CALIDAD  DEL 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ON  CON  LA 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c0128"/>
                </a:solidFill>
                <a:latin typeface="Arial"/>
              </a:rPr>
              <a:t>NIVEL  DE  INCERTIDUMBR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ERTEZA  DE  FUNCIONAMIENTO  (Confiabilidad, Mantenibilidad, Disponibilidad  y  Segurid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  DE  LAS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RITICIDAD  DE  LOS  EQUI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IVIDAD  DE  LA  MANO  DE  O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LANIFICACION  Y   PROGRAMAC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,  DURACION  Y  CALIDAD   DE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RGA   DE 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  DE  TRABAJO  PENDIENTE (Backlo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87320" y="-142920"/>
            <a:ext cx="5616360" cy="123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Aft>
                <a:spcPts val="2339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ELACIONES DE MANTENCION</a:t>
            </a:r>
            <a:br>
              <a:rPr sz="2800"/>
            </a:b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N OTRAS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04880" y="2462040"/>
            <a:ext cx="12960" cy="1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3600" y="1422360"/>
            <a:ext cx="159840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3600" y="3352680"/>
            <a:ext cx="1598400" cy="156852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5320" y="493380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28880" y="493380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54800" y="4933800"/>
            <a:ext cx="159840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5800" y="3352680"/>
            <a:ext cx="1598760" cy="156852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5800" y="1422360"/>
            <a:ext cx="1598760" cy="1567080"/>
          </a:xfrm>
          <a:prstGeom prst="ellipse">
            <a:avLst/>
          </a:prstGeom>
          <a:noFill/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3920" y="1415880"/>
            <a:ext cx="96840" cy="4391280"/>
          </a:xfrm>
          <a:custGeom>
            <a:avLst/>
            <a:gdLst/>
            <a:ahLst/>
            <a:rect l="l" t="t" r="r" b="b"/>
            <a:pathLst>
              <a:path w="61" h="2766">
                <a:moveTo>
                  <a:pt x="0" y="0"/>
                </a:moveTo>
                <a:lnTo>
                  <a:pt x="0" y="2765"/>
                </a:lnTo>
                <a:lnTo>
                  <a:pt x="60" y="2765"/>
                </a:lnTo>
                <a:lnTo>
                  <a:pt x="6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30400" y="5757840"/>
            <a:ext cx="6837120" cy="95400"/>
          </a:xfrm>
          <a:custGeom>
            <a:avLst/>
            <a:gdLst/>
            <a:ahLst/>
            <a:rect l="l" t="t" r="r" b="b"/>
            <a:pathLst>
              <a:path w="4307" h="60">
                <a:moveTo>
                  <a:pt x="0" y="59"/>
                </a:moveTo>
                <a:lnTo>
                  <a:pt x="4306" y="59"/>
                </a:lnTo>
                <a:lnTo>
                  <a:pt x="4306" y="0"/>
                </a:ln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75720" y="5757840"/>
            <a:ext cx="1440" cy="95400"/>
          </a:xfrm>
          <a:custGeom>
            <a:avLst/>
            <a:gdLst/>
            <a:ahLst/>
            <a:rect l="l" t="t" r="r" b="b"/>
            <a:pathLst>
              <a:path w="1" h="60">
                <a:moveTo>
                  <a:pt x="0" y="59"/>
                </a:moveTo>
                <a:lnTo>
                  <a:pt x="0" y="0"/>
                </a:lnTo>
                <a:lnTo>
                  <a:pt x="0" y="5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9040" y="21099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7800" y="2438280"/>
            <a:ext cx="1510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CLO DE V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71080" y="4017960"/>
            <a:ext cx="86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.DE 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6480" y="3997440"/>
            <a:ext cx="1172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76840" y="5950080"/>
            <a:ext cx="98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1080" y="5950080"/>
            <a:ext cx="1062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63880" y="5950080"/>
            <a:ext cx="1399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10520" y="4194000"/>
            <a:ext cx="1529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6560" y="4437000"/>
            <a:ext cx="817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73680" y="3492360"/>
            <a:ext cx="1340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E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6680" y="2076480"/>
            <a:ext cx="108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DE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81640" y="3997440"/>
            <a:ext cx="190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BASTECIMI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65000" y="4221000"/>
            <a:ext cx="91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P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4920" y="4424400"/>
            <a:ext cx="937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ICI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80" y="6480"/>
            <a:ext cx="9131040" cy="6845040"/>
          </a:xfrm>
          <a:prstGeom prst="rect">
            <a:avLst/>
          </a:prstGeom>
          <a:noFill/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8320" y="1415880"/>
            <a:ext cx="96840" cy="4391280"/>
          </a:xfrm>
          <a:custGeom>
            <a:avLst/>
            <a:gdLst/>
            <a:ahLst/>
            <a:rect l="l" t="t" r="r" b="b"/>
            <a:pathLst>
              <a:path w="61" h="2766">
                <a:moveTo>
                  <a:pt x="0" y="0"/>
                </a:moveTo>
                <a:lnTo>
                  <a:pt x="0" y="2765"/>
                </a:lnTo>
                <a:lnTo>
                  <a:pt x="60" y="2765"/>
                </a:lnTo>
                <a:lnTo>
                  <a:pt x="6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DEPENDENCIA   DE  LAS  INTERFACE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ASTE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Y  CALIDAD  EN  EL  ABASTECIMIENTO  DE RE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LLAS  PRODUCIDAS  POR  MALA 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EN  LA  ENTREGA  DEL  EQUIPO  ACORD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UPUESTOS  Y 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O  DE  LOS  INFORMES  DE  COSTOS  Y  PRESUPUESTOS  QUE  LE  CONVENGA  A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TACION,  MOTIVACI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TICIPACION  EN  EL  DESARROLLO  DE  LOS  PROYECTOS   DE  IN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S  DE  MANTENCION  EN  LOS   PROYE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IMPORTANCIA  DE  LA  MANO  DE  OBRA</a:t>
            </a:r>
            <a:br>
              <a:rPr sz="2400"/>
            </a:br>
            <a:r>
              <a:rPr b="1" lang="es-ES_tradnl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(Etica, reflexión, diagnóstico)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RA  Y  CALIDAD  EN  LOS  TRABAJ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ION   EN  EL  CAMBIO  DE  REPUEST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ISIS  DE  FAL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ODO  Y  CONTENIDO  EN  LOS  TRABAJ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NO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TEZA  Y  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33720" y="-380880"/>
            <a:ext cx="470988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PRODUCTIVIDAD</a:t>
            </a:r>
            <a:br>
              <a:rPr sz="2000"/>
            </a:br>
            <a:r>
              <a:rPr b="1" lang="es-ES_tradnl" sz="2000" spc="-1" strike="noStrike">
                <a:solidFill>
                  <a:srgbClr val="fc0128"/>
                </a:solidFill>
                <a:latin typeface="Arial"/>
              </a:rPr>
              <a:t>VOLUMEN   DE  INFORMAC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%  DE  PRODUCTIVIDAD  DE  LA  MANO  DE  OBRA  (Muestreos  de  Trabajo) (30 A 40%  es lo que se encuentra habitua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OLUMEN   DE  INFORM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 DE  EQUIPOS  EN  EL  INVENTARIO  (Historia de  trabajos  de  mantención,  de  fallas,  y  de  costos;  Planes  de Mantención  Preven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TIDAD   DE  OTM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2T21:53:42Z</dcterms:created>
  <dc:creator>Ernesto Gramsch Sanjinés</dc:creator>
  <dc:description>transparencias en power point del seminario ADMINISTRACION DEL MANTENIMIENTO,
INCLUYE ALGUNAS LAMINAS EN NEGRO Y EN COLORES</dc:description>
  <dc:language>en-US</dc:language>
  <cp:lastModifiedBy>Ernesto Gramsch</cp:lastModifiedBy>
  <cp:lastPrinted>2000-05-25T14:36:25Z</cp:lastPrinted>
  <dcterms:modified xsi:type="dcterms:W3CDTF">2002-05-04T02:35:32Z</dcterms:modified>
  <cp:revision>76</cp:revision>
  <dc:subject/>
  <dc:title>ADMINISTRACION  DEL  MANTENIMIENTO</dc:title>
</cp:coreProperties>
</file>