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DC4-9B3E-4898-8700-73ADDA61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4BD-5217-43A0-98E0-8208D270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171-2F91-408F-9F35-372563E5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433-7786-488A-81B0-BC520D9F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4E0-8FD5-4DAF-9049-43D35A4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04B-CD5B-441B-B760-1C3601B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4A2-ADFC-42D9-B922-C72CAA1B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098-987F-45CD-AA69-0ED12C7A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53F-4546-47CA-92D2-DA2C660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F51-E3D9-4B3B-90C2-2A16B88C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AA8-ABC5-451B-B1CB-2076A19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217-59B7-4BA9-B1C8-81D4E1E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0151DA-F7E3-4F69-90C7-27AFE89A75C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0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" y="-52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ISTICAS   PROPIAS  DE 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IDAD  DE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71800" y="1214280"/>
          <a:ext cx="59436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4280"/>
                    <a:ext cx="59436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971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120" y="2112840"/>
            <a:ext cx="3230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n  que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st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 énfasi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 exigencias 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18ffd"/>
                </a:solidFill>
                <a:latin typeface="Times New Roman"/>
              </a:rPr>
              <a:t>sean  disti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CALIDAD   DEL  MEDIO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QUE  PRODUCEN  CONTAMIN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 DE  TRABAJO  PENDIENTES  POR  CORRECCION  DE  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CALIDAD  DEL  AMBIENTE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SEGURIDAD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457200"/>
          <a:ext cx="362088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62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457200"/>
          <a:ext cx="4587840" cy="36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4587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378160" y="5802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ONTRADICCIONES  DE LAS FUNCIONES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 PRODUCCION  ---------------------  MANTENCION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 equipo activo está en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LARGO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DEGRAD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de INMEDI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PRODUCTOS fabr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se encuentra en la AC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 la producción tiende a la robotización y desaparición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equipo activo está DETE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CORTO posible y lo menos frecuente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RENUEV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en el LARG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el ACTIVO FI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es la REFLEX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l mantenimiento obliga al aumento del nivel de competencia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ISTIC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MANTEN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 DE 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A  DE  LAS 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 DE  LA  MANO  DE 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CALIDAD  DEL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NIVEL  DE  INCERTIDUMB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TEZA  DE  FUNCIONAMIENTO  (Confiabilidad, Mantenibilidad, Disponibilidad  y  Segu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 DE  LAS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ITICIDAD  DE  L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IVIDAD  DE  LA  MANO  DE 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LANIFICACION  Y   PROGRAM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,  DURACION  Y  CALIDAD 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GA   DE 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  DE  TRABAJO  PENDIENTE (Back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7320" y="-142920"/>
            <a:ext cx="561636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CIONES DE MANTENCION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 OTRAS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4880" y="2462040"/>
            <a:ext cx="1296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142236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0" y="3352680"/>
            <a:ext cx="159840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532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888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4800" y="493380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5800" y="3352680"/>
            <a:ext cx="159876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42236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5757840"/>
            <a:ext cx="6837120" cy="95400"/>
          </a:xfrm>
          <a:custGeom>
            <a:avLst/>
            <a:gdLst/>
            <a:ahLst/>
            <a:rect l="l" t="t" r="r" b="b"/>
            <a:pathLst>
              <a:path w="4307" h="60">
                <a:moveTo>
                  <a:pt x="0" y="59"/>
                </a:moveTo>
                <a:lnTo>
                  <a:pt x="4306" y="59"/>
                </a:lnTo>
                <a:lnTo>
                  <a:pt x="4306" y="0"/>
                </a:ln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5720" y="575784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040" y="21099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438280"/>
            <a:ext cx="151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1080" y="401796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DE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480" y="399744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950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1080" y="595008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63880" y="5950080"/>
            <a:ext cx="139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0520" y="4194000"/>
            <a:ext cx="152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6560" y="44370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3680" y="3492360"/>
            <a:ext cx="134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6680" y="2076480"/>
            <a:ext cx="10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1640" y="3997440"/>
            <a:ext cx="190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5000" y="422100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4920" y="442440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480"/>
            <a:ext cx="9131040" cy="6845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EPENDENCIA   DE  LAS  INTERFACE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ASTE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EL  ABASTECIMIENTO  DE 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PRODUCIDAS  POR  MALA 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EN  LA  ENTREGA  DEL  EQUIPO  ACOR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UESTOS  Y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O  DE  LOS  INFORMES  DE  COSTOS  Y  PRESUPUESTOS  QUE  LE  CONVENGA  A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CION,  MOTIVAC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CION  EN  EL  DESARROLLO  DE  LOS  PROYECTOS   DE 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 DE  MANTENCION  EN  LOS  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IMPORTANCIA  DE  LA  MANO  DE  OBRA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(Etica, reflexión, diagnóstico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ION   EN  EL  CAMBIO  DE  REPUES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 DE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 Y  CONTENIDO  EN  LOS  TRABAJ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EZA  Y 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-380880"/>
            <a:ext cx="4709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PRODUCTIVIDAD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OLUMEN   DE  INFORMAC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 DE  PRODUCTIVIDAD  DE  LA  MANO  DE  OBRA  (Muestreos  de  Trabajo) (30 A 40%  es lo que se encuentra habi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DE  EQUIPOS  EN  EL  INVENTARIO  (Historia de  trabajos  de  mantención,  de  fallas,  y  de  costos;  Planes  de Mantención  Preven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 DE  OT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2000-05-25T14:36:25Z</cp:lastPrinted>
  <dcterms:modified xsi:type="dcterms:W3CDTF">2002-05-04T02:35:32Z</dcterms:modified>
  <cp:revision>76</cp:revision>
  <dc:subject/>
  <dc:title>ADMINISTRACION  DEL  MANTENIMIENTO</dc:title>
</cp:coreProperties>
</file>