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6B3-15B9-4200-B0FC-DA9B4FF4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1C1-7CC9-4B90-9B07-F04EB4AB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7B4D-E6B5-4434-811F-9BB5A2F2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4640-3354-4BB3-996C-BC48351F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E93E-7D6A-404F-A566-7782DF7D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4C2-40D3-4E2B-A7BD-6B1B4F08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09F8-D6AB-4278-B808-151E6E2A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316A-A05F-48CA-83EE-9492A41D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4CF7-D6D4-4685-8BB1-EA8496BD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D9F-52E4-4C12-9E84-406D354E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F38-67FE-467B-AD21-D5876939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E424-198E-4A70-8660-169B1B24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E8BB86-E759-4349-9100-8D32718EA27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080" y="6484680"/>
            <a:ext cx="23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. A. I. XXI CONSULT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" y="-5256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ARACTERISTICAS   PROPIAS  DE  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IDAD  DE  MANTEN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971800" y="1214280"/>
          <a:ext cx="594360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214280"/>
                    <a:ext cx="59436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9718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4120" y="2112840"/>
            <a:ext cx="32302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cen  que  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est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 énfasis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 exigencias 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foqu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618ffd"/>
                </a:solidFill>
                <a:latin typeface="Times New Roman"/>
              </a:rPr>
              <a:t>sean  distin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CION   CON  LA  CALIDAD   DEL  MEDIO 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AS  QUE  PRODUCEN  CONTAMIN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CION   CON  LA  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E  DE  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E  DE  GRAV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ONES  INSEGUR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 DE  TRABAJO  PENDIENTES  POR  CORRECCION  DE  CONDICIONES  INSEGUR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RELACION  CON  LA  CALIDAD  DEL  AMBIENTE</a:t>
            </a:r>
            <a:br>
              <a:rPr sz="2000"/>
            </a:b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RELACION  CON  LA  SEGURIDAD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533520" y="457200"/>
          <a:ext cx="362088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3620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267080" y="457200"/>
          <a:ext cx="4587840" cy="36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457200"/>
                    <a:ext cx="4587840" cy="36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2378160" y="5802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CONTRADICCIONES  DE LAS FUNCIONES</a:t>
            </a:r>
            <a:br>
              <a:rPr sz="2400"/>
            </a:b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  PRODUCCION  ---------------------  MANTENCION  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 equipo activo está en FUNCIONAMI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Tiempo de la actividad lo más LARGO posi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DEGRADA el equi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resultado de la actividad es medible de INMEDIA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se realiza sobre PRODUCTOS fabric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parte más importante de la actividad se encuentra en la AC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perfeccionamiento de la producción tiende a la robotización y desaparición del pers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equipo activo está DETENI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Tiempo de la actividad lo más CORTO posible y lo menos frecuente posi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RENUEVA el equi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resultado de la actividad es medible en el LARGO PLAZ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se realiza sobre el ACTIVO FIJ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parte más importante de la actividad es la REFLEX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perfeccionamiento del mantenimiento obliga al aumento del nivel de competencia del pers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ACTERISTICA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L  MANTEN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EL  DE  INCERTIDU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CIA  DE  LAS 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CIA  DE  LA  MANO  DE  O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UMEN   DE  INFOR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ON  CON  LA  CALIDAD  DEL 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ON  CON  LA 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c0128"/>
                </a:solidFill>
                <a:latin typeface="Arial"/>
              </a:rPr>
              <a:t>NIVEL  DE  INCERTIDUMB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ERTEZA  DE  FUNCIONAMIENTO  (Confiabilidad, Mantenibilidad, Disponibilidad  y  Segurid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  DE  LAS  FA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RITICIDAD  DE  LOS 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IVIDAD  DE  LA  MANO  DE  O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LANIFICACION  Y   PROGRAMAC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,  DURACION  Y  CALIDAD   DE  LOS  TRA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RGA   DE 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  DE  TRABAJO  PENDIENTE (Backlo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87320" y="-142920"/>
            <a:ext cx="5616360" cy="123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ELACIONES DE MANTENCION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 OTRAS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4880" y="2462040"/>
            <a:ext cx="12960" cy="1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3600" y="1422360"/>
            <a:ext cx="159840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3600" y="3352680"/>
            <a:ext cx="1598400" cy="156852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5320" y="4933800"/>
            <a:ext cx="159876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28880" y="4933800"/>
            <a:ext cx="159876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54800" y="4933800"/>
            <a:ext cx="159840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5800" y="3352680"/>
            <a:ext cx="1598760" cy="156852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5800" y="1422360"/>
            <a:ext cx="159876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3920" y="1415880"/>
            <a:ext cx="96840" cy="4391280"/>
          </a:xfrm>
          <a:custGeom>
            <a:avLst/>
            <a:gdLst/>
            <a:ahLst/>
            <a:rect l="l" t="t" r="r" b="b"/>
            <a:pathLst>
              <a:path w="61" h="2766">
                <a:moveTo>
                  <a:pt x="0" y="0"/>
                </a:moveTo>
                <a:lnTo>
                  <a:pt x="0" y="2765"/>
                </a:lnTo>
                <a:lnTo>
                  <a:pt x="60" y="2765"/>
                </a:lnTo>
                <a:lnTo>
                  <a:pt x="6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0400" y="5757840"/>
            <a:ext cx="6837120" cy="95400"/>
          </a:xfrm>
          <a:custGeom>
            <a:avLst/>
            <a:gdLst/>
            <a:ahLst/>
            <a:rect l="l" t="t" r="r" b="b"/>
            <a:pathLst>
              <a:path w="4307" h="60">
                <a:moveTo>
                  <a:pt x="0" y="59"/>
                </a:moveTo>
                <a:lnTo>
                  <a:pt x="4306" y="59"/>
                </a:lnTo>
                <a:lnTo>
                  <a:pt x="4306" y="0"/>
                </a:lnTo>
                <a:lnTo>
                  <a:pt x="0" y="0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75720" y="5757840"/>
            <a:ext cx="1440" cy="95400"/>
          </a:xfrm>
          <a:custGeom>
            <a:avLst/>
            <a:gdLst/>
            <a:ahLst/>
            <a:rect l="l" t="t" r="r" b="b"/>
            <a:pathLst>
              <a:path w="1" h="60">
                <a:moveTo>
                  <a:pt x="0" y="59"/>
                </a:moveTo>
                <a:lnTo>
                  <a:pt x="0" y="0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9040" y="21099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GENI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7800" y="2438280"/>
            <a:ext cx="151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CLO DE V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71080" y="4017960"/>
            <a:ext cx="86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.DE 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6480" y="3997440"/>
            <a:ext cx="1172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76840" y="5950080"/>
            <a:ext cx="98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1080" y="5950080"/>
            <a:ext cx="1062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63880" y="5950080"/>
            <a:ext cx="1399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10520" y="4194000"/>
            <a:ext cx="1529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6560" y="4437000"/>
            <a:ext cx="81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73680" y="3492360"/>
            <a:ext cx="1340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ER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6680" y="2076480"/>
            <a:ext cx="1084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DE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81640" y="3997440"/>
            <a:ext cx="190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ASTECI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65000" y="4221000"/>
            <a:ext cx="91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P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4920" y="4424400"/>
            <a:ext cx="937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ICI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80" y="6480"/>
            <a:ext cx="9131040" cy="684504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8320" y="1415880"/>
            <a:ext cx="96840" cy="4391280"/>
          </a:xfrm>
          <a:custGeom>
            <a:avLst/>
            <a:gdLst/>
            <a:ahLst/>
            <a:rect l="l" t="t" r="r" b="b"/>
            <a:pathLst>
              <a:path w="61" h="2766">
                <a:moveTo>
                  <a:pt x="0" y="0"/>
                </a:moveTo>
                <a:lnTo>
                  <a:pt x="0" y="2765"/>
                </a:lnTo>
                <a:lnTo>
                  <a:pt x="60" y="2765"/>
                </a:lnTo>
                <a:lnTo>
                  <a:pt x="6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DEPENDENCIA   DE  LAS  INTERFACE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ASTEC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RA  Y  CALIDAD  EN  EL  ABASTECIMIENTO  DE RE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AS  PRODUCIDAS  POR  MALA 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RA  EN  LA  ENTREGA  DEL  EQUIPO  ACORD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UPUESTOS  Y 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O  DE  LOS  INFORMES  DE  COSTOS  Y  PRESUPUESTOS  QUE  LE  CONVENGA  A  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CION,  MOTIVACI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GENI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CIPACION  EN  EL  DESARROLLO  DE  LOS  PROYECTOS   DE  I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OS  DE  MANTENCION  EN  LOS   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IMPORTANCIA  DE  LA  MANO  DE  OBRA</a:t>
            </a:r>
            <a:br>
              <a:rPr sz="2400"/>
            </a:b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(Etica, reflexión, diagnóstico)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RA  Y  CALIDAD  EN  LOS  TRA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ION   EN  EL  CAMBIO  DE  REPUEST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ISIS  DE  FA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ODO  Y  CONTENIDO  EN  LOS  TRABAJ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GNO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RTEZA  Y 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33720" y="-380880"/>
            <a:ext cx="470988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PRODUCTIVIDAD</a:t>
            </a:r>
            <a:br>
              <a:rPr sz="2000"/>
            </a:b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VOLUMEN   DE  INFORMAC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  DE  PRODUCTIVIDAD  DE  LA  MANO  DE  OBRA  (Muestreos  de  Trabajo) (30 A 40%  es lo que se encuentra habitua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LUMEN   DE  INFOR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 DE  EQUIPOS  EN  EL  INVENTARIO  (Historia de  trabajos  de  mantención,  de  fallas,  y  de  costos;  Planes  de Mantención  Preven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  DE  OT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21:53:42Z</dcterms:created>
  <dc:creator>Ernesto Gramsch Sanjinés</dc:creator>
  <dc:description>transparencias en power point del seminario ADMINISTRACION DEL MANTENIMIENTO,
INCLUYE ALGUNAS LAMINAS EN NEGRO Y EN COLORES</dc:description>
  <dc:language>en-US</dc:language>
  <cp:lastModifiedBy>Ernesto Gramsch</cp:lastModifiedBy>
  <cp:lastPrinted>2000-05-25T14:36:25Z</cp:lastPrinted>
  <dcterms:modified xsi:type="dcterms:W3CDTF">2002-05-04T02:35:32Z</dcterms:modified>
  <cp:revision>76</cp:revision>
  <dc:subject/>
  <dc:title>ADMINISTRACION  DEL  MANTENIMIENTO</dc:title>
</cp:coreProperties>
</file>