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.docx" ContentType="application/vnd.openxmlformats-officedocument.wordprocessingml.documen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240E-5D24-44BE-BBCE-9FCFB6A9811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"/>
          <p:cNvSpPr/>
          <p:nvPr/>
        </p:nvSpPr>
        <p:spPr>
          <a:xfrm>
            <a:off x="3886200" y="936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3886200" y="870444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0" y="870444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0" y="936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60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8994-999B-4CBD-862F-C4B5D63A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F6A7-4C5E-43DD-B374-42AA768E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BA32-FAC2-4647-8B77-DEF01255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76C8-3779-4031-980D-5F55D39C2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1E76-38D8-4613-A9C8-84AC0112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F8DA-D97B-4D31-8B0D-52D5766A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FF93-E64A-4163-A86E-5C94F51E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A6CE-1673-4FAD-99B9-F7330FE1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EC23-F970-4297-AA9F-60A4A573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9499-CD61-4500-AB60-F5A6D48C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DA05-BDFE-4D51-88B9-2EACCBB5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F822-5D66-4912-95C9-89C50B4D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B0C3-7BAA-4974-A62A-95FBF051DC03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09680" y="-457200"/>
            <a:ext cx="10515600" cy="6815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00" y="-23760"/>
            <a:ext cx="4743720" cy="31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GESTION  MODERNA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MANTENIMIENT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MINERO  E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000" y="5638680"/>
            <a:ext cx="647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G. ERNESTO GRAMSCH SANJ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6" name=""/>
          <p:cNvGraphicFramePr/>
          <p:nvPr/>
        </p:nvGraphicFramePr>
        <p:xfrm>
          <a:off x="533520" y="263520"/>
          <a:ext cx="6858000" cy="507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63520"/>
                    <a:ext cx="685800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8" name=""/>
          <p:cNvSpPr/>
          <p:nvPr/>
        </p:nvSpPr>
        <p:spPr>
          <a:xfrm>
            <a:off x="365040" y="5375160"/>
            <a:ext cx="74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AN MINERIA:  desde   75.000 ton de Cobre fino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 de 100 MUS al año   a 70 c/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9" name=""/>
          <p:cNvGraphicFramePr/>
          <p:nvPr/>
        </p:nvGraphicFramePr>
        <p:xfrm>
          <a:off x="533520" y="452520"/>
          <a:ext cx="7162560" cy="470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2520"/>
                    <a:ext cx="7162560" cy="47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1" name=""/>
          <p:cNvSpPr/>
          <p:nvPr/>
        </p:nvSpPr>
        <p:spPr>
          <a:xfrm>
            <a:off x="605160" y="5222880"/>
            <a:ext cx="736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8  DE  15  EMPRESAS     (53 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DOTACION DE PERSONAL  DE   MANTENC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PERA EL  20 %    DE  LA DOTACION  TO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2" name=""/>
          <p:cNvGraphicFramePr/>
          <p:nvPr/>
        </p:nvGraphicFramePr>
        <p:xfrm>
          <a:off x="762120" y="228600"/>
          <a:ext cx="7315200" cy="493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"/>
                    <a:ext cx="7315200" cy="49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4" name=""/>
          <p:cNvSpPr/>
          <p:nvPr/>
        </p:nvSpPr>
        <p:spPr>
          <a:xfrm>
            <a:off x="602640" y="5146560"/>
            <a:ext cx="769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6  DE  15  EMPRESAS     (40 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GASTO DE MANTENCION  SUPERA EL 10 %   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LAS VEN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5" name=""/>
          <p:cNvGraphicFramePr/>
          <p:nvPr/>
        </p:nvGraphicFramePr>
        <p:xfrm>
          <a:off x="609480" y="168120"/>
          <a:ext cx="8229600" cy="501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8120"/>
                    <a:ext cx="822960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7" name=""/>
          <p:cNvSpPr/>
          <p:nvPr/>
        </p:nvSpPr>
        <p:spPr>
          <a:xfrm>
            <a:off x="771840" y="5334120"/>
            <a:ext cx="793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7  DE  15  EMPRESAS     (47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GASTO DE MANTENCION  SUPERA EL 20 % DE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S  DE  P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8" name=""/>
          <p:cNvGraphicFramePr/>
          <p:nvPr/>
        </p:nvGraphicFramePr>
        <p:xfrm>
          <a:off x="846000" y="299880"/>
          <a:ext cx="7320240" cy="48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299880"/>
                    <a:ext cx="7320240" cy="48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0" name=""/>
          <p:cNvSpPr/>
          <p:nvPr/>
        </p:nvSpPr>
        <p:spPr>
          <a:xfrm>
            <a:off x="289080" y="4994280"/>
            <a:ext cx="873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10  DE  15  EMPRESAS     (66 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S  DEL  20 % DEL GASTO DE MANTENCION  SE EJEC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  CONTRATISTA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>
            <a:off x="615960" y="1454040"/>
            <a:ext cx="2813040" cy="1892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33520" y="4273560"/>
            <a:ext cx="2736720" cy="18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124080" y="2819520"/>
            <a:ext cx="2813040" cy="18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950080" y="1454040"/>
            <a:ext cx="2654280" cy="1892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5873760" y="4273560"/>
            <a:ext cx="2654280" cy="18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73200" y="2163600"/>
            <a:ext cx="2687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imes New Roman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943600" y="2209680"/>
            <a:ext cx="27241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9900"/>
                </a:solidFill>
                <a:latin typeface="Times New Roman"/>
              </a:rPr>
              <a:t>MANTEN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082560" y="4983120"/>
            <a:ext cx="2010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imes New Roman"/>
              </a:rPr>
              <a:t>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273840" y="3276720"/>
            <a:ext cx="26204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33"/>
                </a:solidFill>
                <a:latin typeface="Times New Roman"/>
              </a:rPr>
              <a:t>LOGRO  DE 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33"/>
                </a:solidFill>
                <a:latin typeface="Times New Roman"/>
              </a:rPr>
              <a:t>CONTINUIDAD 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33"/>
                </a:solidFill>
                <a:latin typeface="Times New Roman"/>
              </a:rPr>
              <a:t>FUN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36400" y="5105520"/>
            <a:ext cx="2756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imes New Roman"/>
              </a:rPr>
              <a:t>DISPON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5715000" y="304776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H="1" flipV="1">
            <a:off x="2971800" y="304776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H="1">
            <a:off x="2971800" y="434340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562720" y="4419720"/>
            <a:ext cx="5331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MODELO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DEL  MANTEN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6" name=""/>
          <p:cNvGraphicFramePr/>
          <p:nvPr/>
        </p:nvGraphicFramePr>
        <p:xfrm>
          <a:off x="3048120" y="1290600"/>
          <a:ext cx="1828800" cy="9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290600"/>
                    <a:ext cx="182880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8" name=""/>
          <p:cNvGraphicFramePr/>
          <p:nvPr/>
        </p:nvGraphicFramePr>
        <p:xfrm>
          <a:off x="6450120" y="2514600"/>
          <a:ext cx="1726920" cy="102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50120" y="2514600"/>
                    <a:ext cx="172692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0" name=""/>
          <p:cNvSpPr/>
          <p:nvPr/>
        </p:nvSpPr>
        <p:spPr>
          <a:xfrm>
            <a:off x="7451280" y="760320"/>
            <a:ext cx="132192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TOCK 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EPUE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ntidad  y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3353040" y="1754280"/>
            <a:ext cx="319968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319360" y="2360520"/>
            <a:ext cx="12196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LI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P,  MC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P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095880" y="341316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394240" y="1217520"/>
            <a:ext cx="2911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ONFIABILIDAD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s-ES_tradnl" sz="1600" spc="-1" strike="noStrike">
                <a:solidFill>
                  <a:srgbClr val="000000"/>
                </a:solidFill>
                <a:latin typeface="Roman"/>
              </a:rPr>
              <a:t>(t)  FAL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1840" y="1295640"/>
            <a:ext cx="533376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323880" y="3122640"/>
            <a:ext cx="249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NTE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</a:t>
            </a:r>
            <a:r>
              <a:rPr b="1" lang="es-ES_tradnl" sz="1600" spc="-1" strike="noStrike">
                <a:solidFill>
                  <a:srgbClr val="000000"/>
                </a:solidFill>
                <a:latin typeface="Roman"/>
              </a:rPr>
              <a:t>t)  REPAR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270880" y="1446120"/>
            <a:ext cx="150336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ARQUE 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QU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ECES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ARA   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8" name=""/>
          <p:cNvGraphicFramePr/>
          <p:nvPr/>
        </p:nvGraphicFramePr>
        <p:xfrm>
          <a:off x="457200" y="1724040"/>
          <a:ext cx="990720" cy="51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1724040"/>
                    <a:ext cx="99072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0" name=""/>
          <p:cNvGraphicFramePr/>
          <p:nvPr/>
        </p:nvGraphicFramePr>
        <p:xfrm>
          <a:off x="228600" y="2409840"/>
          <a:ext cx="990720" cy="51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2409840"/>
                    <a:ext cx="99072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2" name=""/>
          <p:cNvGraphicFramePr/>
          <p:nvPr/>
        </p:nvGraphicFramePr>
        <p:xfrm>
          <a:off x="990720" y="2638440"/>
          <a:ext cx="990360" cy="512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2638440"/>
                    <a:ext cx="9903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4" name=""/>
          <p:cNvSpPr/>
          <p:nvPr/>
        </p:nvSpPr>
        <p:spPr>
          <a:xfrm>
            <a:off x="64080" y="3274920"/>
            <a:ext cx="2321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QUIPO  DE  RESER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antidad  y  ub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994800" y="4265640"/>
            <a:ext cx="209016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Tamaño  del  Ta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Equip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Dotación  de Pers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Ga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Terc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H="1">
            <a:off x="8001000" y="1600200"/>
            <a:ext cx="533520" cy="83808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334120" y="5146560"/>
            <a:ext cx="1657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TOCK 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PAR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955320" y="6475320"/>
            <a:ext cx="4930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ALLERES  DE  REPARACION  DE  COMPON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5302080" y="5073480"/>
            <a:ext cx="1492560" cy="82584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6229080" y="4267080"/>
            <a:ext cx="533160" cy="762120"/>
          </a:xfrm>
          <a:prstGeom prst="line">
            <a:avLst/>
          </a:prstGeom>
          <a:ln w="50760">
            <a:solidFill>
              <a:srgbClr val="114f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863960" y="6197760"/>
            <a:ext cx="615960" cy="196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816520" y="6197760"/>
            <a:ext cx="577800" cy="177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597720" y="6178680"/>
            <a:ext cx="691920" cy="196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4724280" y="5657760"/>
            <a:ext cx="457200" cy="457200"/>
          </a:xfrm>
          <a:prstGeom prst="line">
            <a:avLst/>
          </a:prstGeom>
          <a:ln w="12600">
            <a:solidFill>
              <a:srgbClr val="cf0e3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H="1" flipV="1">
            <a:off x="6769080" y="5838840"/>
            <a:ext cx="558720" cy="324000"/>
          </a:xfrm>
          <a:prstGeom prst="line">
            <a:avLst/>
          </a:prstGeom>
          <a:ln w="12600">
            <a:solidFill>
              <a:srgbClr val="cf0e3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7397640" y="692280"/>
            <a:ext cx="1359000" cy="113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17320" y="4929120"/>
            <a:ext cx="2026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NVERSION  E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QUIPOS  D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EMPLA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entabilidad 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asa  de  Descu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480" y="4654440"/>
            <a:ext cx="3035160" cy="1282680"/>
          </a:xfrm>
          <a:custGeom>
            <a:avLst/>
            <a:gdLst>
              <a:gd name="textAreaLeft" fmla="*/ 692640 w 3035160"/>
              <a:gd name="textAreaRight" fmla="*/ 2342520 w 3035160"/>
              <a:gd name="textAreaTop" fmla="*/ 292680 h 1282680"/>
              <a:gd name="textAreaBottom" fmla="*/ 990000 h 12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H="1" flipV="1">
            <a:off x="609480" y="3047760"/>
            <a:ext cx="152640" cy="1904760"/>
          </a:xfrm>
          <a:prstGeom prst="line">
            <a:avLst/>
          </a:prstGeom>
          <a:ln w="50760">
            <a:solidFill>
              <a:srgbClr val="8901f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2104920" y="2908080"/>
            <a:ext cx="819360" cy="1726920"/>
          </a:xfrm>
          <a:prstGeom prst="line">
            <a:avLst/>
          </a:prstGeom>
          <a:ln w="50760">
            <a:solidFill>
              <a:srgbClr val="8901f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035880" y="4494240"/>
            <a:ext cx="2931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EVENCIÓN  DE  RIESG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2" name=""/>
          <p:cNvGraphicFramePr/>
          <p:nvPr/>
        </p:nvGraphicFramePr>
        <p:xfrm>
          <a:off x="4606920" y="3765600"/>
          <a:ext cx="557280" cy="730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06920" y="3765600"/>
                    <a:ext cx="5572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4" name=""/>
          <p:cNvGraphicFramePr/>
          <p:nvPr/>
        </p:nvGraphicFramePr>
        <p:xfrm>
          <a:off x="3581280" y="3859200"/>
          <a:ext cx="908280" cy="649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0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81280" y="3859200"/>
                    <a:ext cx="9082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6" name=""/>
          <p:cNvGraphicFramePr/>
          <p:nvPr/>
        </p:nvGraphicFramePr>
        <p:xfrm>
          <a:off x="5113440" y="3454560"/>
          <a:ext cx="449280" cy="1352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0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13440" y="3454560"/>
                    <a:ext cx="44928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8" name=""/>
          <p:cNvSpPr/>
          <p:nvPr/>
        </p:nvSpPr>
        <p:spPr>
          <a:xfrm>
            <a:off x="3124080" y="990720"/>
            <a:ext cx="1981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1051920" y="3984480"/>
            <a:ext cx="1791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OLITICA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REEMPLAZO  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OVERHA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3300"/>
                </a:solidFill>
                <a:latin typeface="Times New Roman"/>
              </a:rPr>
              <a:t>Clasificación de las actividades de  manten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Según el grado de prev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Corre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Preven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tenimiento Preventivo sistem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tenimiento Predi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Según el grado de programación de las actividad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de emer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preven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correctivo program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correctivo no program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tros trabaj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3300"/>
                </a:solidFill>
                <a:latin typeface="Times New Roman"/>
              </a:rPr>
              <a:t>Trabajos de  manten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spe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ju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m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rv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paración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ubr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"/>
          <p:cNvSpPr/>
          <p:nvPr/>
        </p:nvSpPr>
        <p:spPr>
          <a:xfrm flipH="1">
            <a:off x="2440080" y="2211480"/>
            <a:ext cx="1141200" cy="220824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440080" y="4343400"/>
            <a:ext cx="3351240" cy="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 flipV="1">
            <a:off x="3583080" y="2211480"/>
            <a:ext cx="2131920" cy="213192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957960" y="1477800"/>
            <a:ext cx="58755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nsamiento como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veedores + compradores + 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elementos fundam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compleme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65640" y="4373640"/>
            <a:ext cx="2858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lución integral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liente.  Producto espe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o estandar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698000" y="4449600"/>
            <a:ext cx="3748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sicionamiento del mej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.  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Costo mas baj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para 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49160" y="365040"/>
            <a:ext cx="495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YECTO “DELTA”   DEL  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8788320" cy="69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141840" y="220680"/>
            <a:ext cx="8996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ORES  QUE  CONTRIBUYEN  A  LA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Según  la  Norma  Francesa  AFNOR  x 60-5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5080" y="3078000"/>
            <a:ext cx="22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819520" y="1297080"/>
            <a:ext cx="0" cy="4570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4879440" y="1141560"/>
            <a:ext cx="4002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STRICCIONES   DE OPT I M IZA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938840" y="2436840"/>
            <a:ext cx="128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OGIS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566880" y="2970360"/>
            <a:ext cx="1265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OLI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461640" y="2970360"/>
            <a:ext cx="1334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243760" y="4494240"/>
            <a:ext cx="1929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ANTE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4482360" y="5713560"/>
            <a:ext cx="1782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NFI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5694840" y="1469880"/>
            <a:ext cx="2780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sto  de  adquis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Costo  de  explo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Costo  de  no  dispon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555000" y="3375000"/>
            <a:ext cx="2795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Niveles de mante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Mant. Correctiva / Preven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Reordenam.  del inv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305040" y="3298680"/>
            <a:ext cx="251388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Docum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Pers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Capaci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Materiales de Manten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Nivel de inv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5160240" y="4898880"/>
            <a:ext cx="2725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Facilidades de diagnós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Acces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Facilidades para el desar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398480" y="6041880"/>
            <a:ext cx="46382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Arquitec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Perfil  de  la  mi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Tasa  de  Fallas  y  duración  de  los  compo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820960" y="129528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H="1">
            <a:off x="2820600" y="2590920"/>
            <a:ext cx="19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H="1">
            <a:off x="2820960" y="46483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H="1">
            <a:off x="2820600" y="5867280"/>
            <a:ext cx="15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889520" y="1079640"/>
            <a:ext cx="3936960" cy="35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4889520" y="2374920"/>
            <a:ext cx="134604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511440" y="2901960"/>
            <a:ext cx="1359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330960" y="2901960"/>
            <a:ext cx="1511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194440" y="4508640"/>
            <a:ext cx="2031840" cy="279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432320" y="5727600"/>
            <a:ext cx="1879560" cy="279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5486400" y="144936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505320" y="320184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324480" y="327816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5181480" y="480204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419720" y="602136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"/>
          <p:cNvSpPr/>
          <p:nvPr/>
        </p:nvSpPr>
        <p:spPr>
          <a:xfrm>
            <a:off x="527760" y="166680"/>
            <a:ext cx="81252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MPOS  RELACIONADOS  CON  MANTE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  GESTION  DE  LAS  MAQU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408480" y="1325520"/>
            <a:ext cx="2416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.  TIEMPO 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33520" y="2011320"/>
            <a:ext cx="8413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.1  TIEMPO  NECESARIO                         1.2  TIEMPO  NO  NECES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3000" y="2741760"/>
            <a:ext cx="1815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1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FECTIV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806200" y="2665440"/>
            <a:ext cx="18158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FECTIV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092200" y="2741760"/>
            <a:ext cx="1815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2.1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TENCIAL 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7149600" y="2620800"/>
            <a:ext cx="1815840" cy="11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2.2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TENCIAL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H="1">
            <a:off x="1754280" y="1677960"/>
            <a:ext cx="1674720" cy="30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792760" y="1601640"/>
            <a:ext cx="1370160" cy="37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119160" y="4876920"/>
            <a:ext cx="2090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.1.1.2  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 ESP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119160" y="3962520"/>
            <a:ext cx="2090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.1.1.1  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NCION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6320" y="3583080"/>
            <a:ext cx="0" cy="15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77760" y="4268520"/>
            <a:ext cx="7452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77760" y="5105520"/>
            <a:ext cx="7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967760" y="4037040"/>
            <a:ext cx="1815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PIO  DE  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102920" y="4037040"/>
            <a:ext cx="2688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2   TIEMPO 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  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R   CAUSAS  EXTER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978120" y="5484960"/>
            <a:ext cx="20962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1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NO DETEC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LA  FA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033720" y="5484960"/>
            <a:ext cx="18507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2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ESPERA  P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ANTEN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015880" y="5484960"/>
            <a:ext cx="20412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3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PIO  DE  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R  MANTEN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148520" y="5560920"/>
            <a:ext cx="18507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4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REPOSI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L  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H="1">
            <a:off x="991800" y="2363760"/>
            <a:ext cx="53172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897280" y="2363760"/>
            <a:ext cx="60804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H="1">
            <a:off x="5792760" y="236376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316640" y="2440080"/>
            <a:ext cx="68436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>
            <a:off x="2744640" y="3735360"/>
            <a:ext cx="53208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192560" y="3735360"/>
            <a:ext cx="98892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1754280" y="4802040"/>
            <a:ext cx="76032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820960" y="4802040"/>
            <a:ext cx="106524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430440" y="4878360"/>
            <a:ext cx="2208240" cy="5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811680" y="4878360"/>
            <a:ext cx="396072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"/>
          <p:cNvSpPr/>
          <p:nvPr/>
        </p:nvSpPr>
        <p:spPr>
          <a:xfrm>
            <a:off x="527040" y="166680"/>
            <a:ext cx="8364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MPOS  RELACIONADOS  CON  MANTE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   GESTION  DE  LAS  MAQU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725560" y="1325520"/>
            <a:ext cx="3856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  TIEMPO  DE  MANTEN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 flipH="1">
            <a:off x="1754280" y="1677960"/>
            <a:ext cx="1674720" cy="30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792760" y="1601640"/>
            <a:ext cx="1370160" cy="37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33520" y="2011320"/>
            <a:ext cx="8413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1  Tiempo de Mantención                             2.2  Tiempo de Man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ventiva                                                           corr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63360" y="3078000"/>
            <a:ext cx="4999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1.1 Tiempo de               2.1.2  Tiemp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ntención                      Man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stemática                       Condiciona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104760" y="4419720"/>
            <a:ext cx="896004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.1.1.1              2.1.1.2               2.1.2.1            2.1.2.2                 2.2.1                       2.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tivo de         Anexo  de          Activo  de      Anexo  de           Activo  de               Anexo  de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antención     mantención       mantención     mantención         mantención             mante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istemática       sistemática        condicional     condicional         correctiva                correc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logística                                 -  logística           -  ubicac.falla          - administr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preparación                            -  preparación      -  diagnóstico          - logí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reparación           - téc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verificación         - prep.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 flipH="1">
            <a:off x="1144080" y="2668680"/>
            <a:ext cx="684360" cy="5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2211480" y="2668680"/>
            <a:ext cx="1065240" cy="45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flipH="1">
            <a:off x="534960" y="40402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373040" y="40402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H="1">
            <a:off x="3430080" y="4040280"/>
            <a:ext cx="22716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116240" y="4116240"/>
            <a:ext cx="379440" cy="3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flipH="1">
            <a:off x="6249600" y="2744640"/>
            <a:ext cx="988920" cy="167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697880" y="2744640"/>
            <a:ext cx="684000" cy="167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5" name=""/>
          <p:cNvGraphicFramePr/>
          <p:nvPr/>
        </p:nvGraphicFramePr>
        <p:xfrm>
          <a:off x="304920" y="609480"/>
          <a:ext cx="3657600" cy="55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36576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"/>
          <p:cNvSpPr/>
          <p:nvPr/>
        </p:nvSpPr>
        <p:spPr>
          <a:xfrm>
            <a:off x="433440" y="544680"/>
            <a:ext cx="844848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BAJO DE GRUPO Nª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TEGRACION DEL MANTENIMIENTO DENTRO DEL SISTEMA DE LA EMPRESA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 las empresas representadas en el Grup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 grado de coordinación existe  entre  Operaciones y Mantención?      BUENO ...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R......    MALO......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ractica la relación  Cliente - Servidor   SI......NO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 se detecta la satisfacción  del Client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 reclamos  u  observaciones verbales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 reclamos u  observaciones formales.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medio de indicadores que lleva mantención..................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medio de indicado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lleva operaciones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é  indicadores?   mencione uno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 el  Diagrama adjunto llamado  “Tiempos relacionados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tención  y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stión  de  las  Máquinas”   indique  los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s  que  se dan  hoy  en su empresa  para una máqui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ìtica de la plan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que el valor  de la hora de detención:  USA $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e el valor del item 1.1.2  “Tiempo efectivo de no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onibilida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que el ahorro posible mejorando los tiempos de no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on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47440" y="258840"/>
            <a:ext cx="395100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6840" y="1461960"/>
            <a:ext cx="718164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FNOR  NF  X  60-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junto de acciones que permiten conservar 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tablecer un bien a un estado espec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 a una situación tal  que pueda asegurar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rvicio determinad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2520" y="3747960"/>
            <a:ext cx="780804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S  38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binación de todas las acciones técnicas 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ministrativas asociadas tendientes a conservar 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tem o restablecerlo a un estado tal que pueda re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función requerid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ta:  la función requerida puede ser definida c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condición d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47440" y="258840"/>
            <a:ext cx="395100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4320" y="1461960"/>
            <a:ext cx="82393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IL  - STD  -  721 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das  las  acciones  necesarias para conservar un í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un estado especificado o restablecerlo a é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8800" y="3062160"/>
            <a:ext cx="883368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RGANIZACION EUROPEA DE  MANTEN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ción empresarial a la que se encomienda el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tante  de las instalaciones así como el conjunto de 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rabajos de reparación y revisión necesarios para garant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funcionamiento regular y el buen estado de conserv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las instalaciones productivas, servicios e instru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los establecimiento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5920" y="396720"/>
            <a:ext cx="873468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sta hace poco se dec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El  OBJETIVO   DE  MANTENCION  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DISPONIBILIDAD  al Costo mín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Hoy, el MANTENIMIENTO</a:t>
            </a:r>
            <a:r>
              <a:rPr b="0" lang="es-ES_tradnl" sz="2800" spc="-1" strike="noStrike">
                <a:solidFill>
                  <a:srgbClr val="ccccff"/>
                </a:solidFill>
                <a:latin typeface="Times New Roman"/>
              </a:rPr>
              <a:t>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be  integrar otros  aspec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rendimiento de la activ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integridad del med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eficacia energé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calidad del producto y del servicio a lo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3300"/>
                </a:solidFill>
                <a:latin typeface="Times New Roman"/>
              </a:rPr>
              <a:t>El   rendimiento  de  la función  mantenimiento  tiene relación  con cinco áreas de  gest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mo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pacidad de re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lexi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29120" y="101520"/>
            <a:ext cx="75841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700" spc="-1" strike="noStrike">
                <a:solidFill>
                  <a:srgbClr val="ff0000"/>
                </a:solidFill>
                <a:latin typeface="Times New Roman"/>
              </a:rPr>
              <a:t>CONTROL   OPERACIONAL   DE   LA    PLAN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31600" y="520560"/>
            <a:ext cx="21312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7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0" lang="es-ES_tradnl" sz="2700" spc="-1" strike="noStrike">
                <a:solidFill>
                  <a:srgbClr val="ff0000"/>
                </a:solidFill>
                <a:latin typeface="Times New Roman"/>
              </a:rPr>
              <a:t>C. O .P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34240" y="393876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34240" y="397656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34240" y="40147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922720" y="40528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21280" y="40784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21280" y="411624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909760" y="41544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897160" y="41925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96080" y="421812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884560" y="42559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872320" y="42940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859000" y="43196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846400" y="4357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833800" y="43830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820840" y="4421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808240" y="444672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795640" y="448452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70440" y="4510080"/>
            <a:ext cx="237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757480" y="4548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744880" y="45734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719680" y="4611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694480" y="4637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681160" y="46623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656320" y="47005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30760" y="4726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617800" y="47512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592240" y="477684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567400" y="480204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41840" y="4827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516640" y="4853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491080" y="4878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65880" y="49039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427360" y="492912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402160" y="49546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376960" y="49798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338440" y="50054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313240" y="5030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288040" y="5043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249520" y="50688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223960" y="508176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186160" y="51069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160960" y="511956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122800" y="51451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084640" y="515772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046480" y="51832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021280" y="5195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983120" y="520848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944960" y="52214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906800" y="52340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868640" y="52466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843440" y="5259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805280" y="52722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767120" y="52848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728960" y="52974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690800" y="53085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640400" y="5310360"/>
            <a:ext cx="489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601880" y="53211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563720" y="53229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525920" y="53341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487760" y="53355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449600" y="53467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41144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361040" y="53467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32252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28436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24620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208400" y="53467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157280" y="53467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4119480" y="53352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081320" y="53341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4043160" y="5322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005000" y="53211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3966840" y="53103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928680" y="53085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3890880" y="52970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852720" y="52844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814560" y="52718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776400" y="52588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3738240" y="52462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3700080" y="52336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662280" y="52214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637080" y="52081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598560" y="51955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3560400" y="5182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522600" y="515772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3497400" y="51447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458880" y="5119200"/>
            <a:ext cx="363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433680" y="51066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3395520" y="508176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3370320" y="5068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3331800" y="504360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3306240" y="503028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3281400" y="50054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3242880" y="49798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3218040" y="49546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192480" y="49291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166560" y="490392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3141720" y="4878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3116160" y="4853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090960" y="4827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3065400" y="480168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3040200" y="47768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3014640" y="47512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2989440" y="4726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2976120" y="47005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951280" y="466236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2925720" y="4637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2912760" y="46116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2887560" y="457344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2874600" y="4548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862000" y="450972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2836800" y="448416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2823840" y="444636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811600" y="442116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2798280" y="43830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2785680" y="4357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773080" y="43192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2760840" y="42940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759040" y="42559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2747520" y="421776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2734920" y="41925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733840" y="415440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2722320" y="41162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720880" y="407808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720880" y="40528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720880" y="40147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2709360" y="39765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708280" y="393840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708280" y="39002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709720" y="38620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720880" y="38368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720880" y="37987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720880" y="376056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722680" y="372240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733840" y="36972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735280" y="36590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747880" y="36208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759040" y="35956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760840" y="3557520"/>
            <a:ext cx="1080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773440" y="35193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786040" y="3494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798640" y="34556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811600" y="3430080"/>
            <a:ext cx="1080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824200" y="33922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836800" y="3367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862360" y="33289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874960" y="33037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87560" y="3278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913120" y="32400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925720" y="3214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951280" y="31892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976480" y="315108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989440" y="31258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014640" y="31003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040200" y="30751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065400" y="30495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090960" y="3024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116160" y="2998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141720" y="297288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166920" y="294804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192480" y="29224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218040" y="28972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243240" y="287172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281400" y="28587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306600" y="2833200"/>
            <a:ext cx="241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332160" y="280836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370320" y="27957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395520" y="27702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433680" y="2757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459240" y="27320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497400" y="2719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522600" y="27068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560760" y="26812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598920" y="26683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637080" y="26553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662280" y="26427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700440" y="26301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738600" y="26175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776760" y="2604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814920" y="25920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852720" y="25794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90880" y="25779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929040" y="25671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967200" y="25538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05360" y="25527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043520" y="25412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8132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1948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157640" y="252864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08400" y="252720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4656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8472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32288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61040" y="252720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180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49600" y="25290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8776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2592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64080" y="2541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02240" y="25527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40400" y="255420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91160" y="25671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29320" y="25779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67120" y="25797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5280" y="25923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43440" y="26049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69000" y="2617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06800" y="26305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44960" y="26431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83120" y="26557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021280" y="26686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046840" y="26812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84640" y="27068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22800" y="27194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60960" y="27320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86520" y="2757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24320" y="277020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249880" y="27957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288040" y="2808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13240" y="283356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8800" y="28591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76960" y="28717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02160" y="28972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27720" y="29224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65880" y="29480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91080" y="297324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16640" y="2998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41840" y="3024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67400" y="30495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92600" y="307512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18160" y="31003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30760" y="31258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56320" y="315108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81520" y="3189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694480" y="3214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719680" y="324000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45240" y="3278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57840" y="33037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70440" y="332892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96000" y="33670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808600" y="33926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21200" y="343044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834160" y="345600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46760" y="3494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59360" y="35193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72320" y="3557520"/>
            <a:ext cx="1080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84920" y="35956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96080" y="36212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97520" y="36590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10120" y="36972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21280" y="372276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21280" y="376092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23080" y="37987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34240" y="38368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34240" y="38624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34240" y="390060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17560" y="2801880"/>
            <a:ext cx="1209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17560" y="2992320"/>
            <a:ext cx="133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18280" y="3182760"/>
            <a:ext cx="1533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E  LA  PLANTA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17560" y="3360600"/>
            <a:ext cx="375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51280" y="3492360"/>
            <a:ext cx="267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630760" y="34923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95480" y="1170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95480" y="11826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083960" y="1193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8252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071720" y="12063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069920" y="1208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058400" y="1219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57320" y="1220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1045800" y="1233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033200" y="1244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020240" y="1246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1007640" y="1257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995040" y="1258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969840" y="1270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956880" y="1271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944280" y="1282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919080" y="12826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906120" y="1284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880560" y="12952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867960" y="1295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843120" y="1297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817560" y="1308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804600" y="1308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779400" y="13096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75420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72864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70344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67788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26760" y="132228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576360" y="13334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525600" y="13334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474840" y="132192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4928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23360" y="132084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9852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7296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347760" y="1309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34440" y="1308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309600" y="1308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284040" y="1296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271080" y="1295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246240" y="12952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232920" y="12837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08080" y="12826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194760" y="1282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169920" y="1271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57320" y="127008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144000" y="1258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131400" y="1257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118800" y="1245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105840" y="1244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93240" y="1233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92160" y="1220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80640" y="1219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68400" y="12078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660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55080" y="1193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4000" y="11822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4000" y="11696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4000" y="11570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544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66600" y="1144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66600" y="1131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400" y="11304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000" y="1118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9360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20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19160" y="109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176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144360" y="1080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57320" y="10796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169920" y="10681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512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08080" y="1055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3328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6240" y="1054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71440" y="1042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404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960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34800" y="1029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4776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7296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852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3720" y="10288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49280" y="10173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4840" y="10159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25600" y="10159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6360" y="10159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27120" y="10159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77880" y="1017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34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86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5420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7940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04960" y="1030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756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4312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68320" y="1042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80920" y="10540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90648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19080" y="10555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4464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57240" y="106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69840" y="1079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995400" y="1081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00800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020600" y="1093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03356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04616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058760" y="1119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71720" y="11318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082520" y="1144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08432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95480" y="1157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530440" y="1068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30440" y="1081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251892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17840" y="10936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250632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49372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2480760" y="1119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2468160" y="1131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2455560" y="1143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2443320" y="11444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243000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241740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2391840" y="115740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2379240" y="1168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2366640" y="1170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341440" y="1181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2316240" y="11826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303640" y="11937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2278080" y="1193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252160" y="11937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2239560" y="11955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221472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218916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2163240" y="12063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2138400" y="1208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2112840" y="12193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206172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201096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96020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90944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1884240" y="12193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1859040" y="12078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183348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180828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1794960" y="1206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1770120" y="11955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1744560" y="1193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719360" y="1193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1706040" y="1193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flipV="1">
            <a:off x="1681200" y="1182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1668600" y="11811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1643040" y="1169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1630080" y="1168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1617840" y="11570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160452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157968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 flipV="1">
            <a:off x="1566360" y="1144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1553760" y="1143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1541160" y="1131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1539720" y="1118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52892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flipV="1">
            <a:off x="151560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 flipV="1">
            <a:off x="1503000" y="109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1501920" y="1080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flipV="1">
            <a:off x="1490400" y="1068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1488960" y="1055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49076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1501920" y="1042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501920" y="1029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503360" y="10288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1514520" y="10173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51596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1528920" y="10044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1541520" y="99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54120" y="9907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566720" y="979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1579680" y="9669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04880" y="9651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17840" y="9651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1630440" y="953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43040" y="952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1668600" y="9410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81200" y="939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706400" y="939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1719360" y="928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744560" y="927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770120" y="927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9532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1808280" y="915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83348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85904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88424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0980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6056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1132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6208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11284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13840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163600" y="9144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189160" y="915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14720" y="927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23992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252520" y="927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78080" y="9288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303640" y="9399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316240" y="939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341440" y="941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367000" y="952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79600" y="954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392200" y="9651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17760" y="9651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430360" y="9669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443320" y="97956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55920" y="9907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468520" y="992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481120" y="1003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492280" y="1004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49408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06680" y="1017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19280" y="1030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530440" y="10429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530440" y="1055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76840" y="1004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876840" y="1017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3865320" y="1030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3852360" y="1042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851280" y="1055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383976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3827160" y="106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814920" y="10796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3801600" y="1081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378900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3776400" y="1093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376344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3738600" y="11066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372600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3712680" y="11174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687840" y="1119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3675240" y="11304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3649680" y="1131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623760" y="1143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611160" y="1143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3586320" y="1144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356076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3534840" y="11556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351000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348444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345924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3408480" y="115740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3357720" y="116856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306240" y="116856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 flipV="1">
            <a:off x="3255480" y="115704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323064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20508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317988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15432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314136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3116160" y="1144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3090960" y="1143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3065400" y="1143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3052440" y="1131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3027240" y="1130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3014280" y="1118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2989440" y="11174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2976120" y="11174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296352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295092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flipV="1">
            <a:off x="2925720" y="1093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91276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 flipV="1">
            <a:off x="2900520" y="10807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2887200" y="10796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2886120" y="1068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287460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862000" y="1055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2860560" y="1042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84904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847960" y="1029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2836440" y="1017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2835360" y="1004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2836800" y="99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2847960" y="9792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2849400" y="9669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2862360" y="953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874960" y="952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2886120" y="9410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887560" y="939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2900520" y="9284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91312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2925720" y="915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951280" y="914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2963880" y="902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976480" y="9018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989440" y="8902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014640" y="888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027240" y="888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3052800" y="8780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06540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09096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11616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3141720" y="864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5432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7988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20508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23064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3255840" y="85212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306600" y="85104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357720" y="8510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408480" y="85248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45924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48444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51000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535200" y="86364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560760" y="865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58632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611520" y="876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624120" y="87624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649680" y="8780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675240" y="8888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687840" y="888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713040" y="890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726000" y="9018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738600" y="903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763800" y="914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776760" y="915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78936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801960" y="928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14920" y="9399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827520" y="941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840120" y="952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51280" y="954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852720" y="9651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863880" y="9669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65680" y="979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76840" y="992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146240" y="4014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146240" y="40273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1134720" y="4038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133640" y="40402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1122120" y="40514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120680" y="4052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1109160" y="4065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1096560" y="40766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1083960" y="40784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1071720" y="40892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1058400" y="4091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1045800" y="4102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1033200" y="4103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1008000" y="41148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995040" y="41148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982800" y="41162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957240" y="412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944280" y="4129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919080" y="4140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893880" y="4140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880560" y="414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85572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83016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80496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779400" y="4154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75420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72864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677520" y="416556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626760" y="416556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576360" y="416556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525600" y="416556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50004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47484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449280" y="4154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423360" y="41529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410760" y="4152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8592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 flipV="1">
            <a:off x="360360" y="4141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347400" y="4140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22200" y="4140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 flipV="1">
            <a:off x="297000" y="4128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283680" y="412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 flipV="1">
            <a:off x="258840" y="4115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246240" y="41148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232920" y="41148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220320" y="41032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194760" y="41022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 flipV="1">
            <a:off x="182160" y="4090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169560" y="4089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157320" y="407844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144000" y="4065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131400" y="4052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118800" y="4039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17360" y="4026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flipV="1">
            <a:off x="105840" y="4014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104760" y="4001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06200" y="4000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117360" y="3989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117360" y="39762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19160" y="39751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130320" y="39636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31760" y="3962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144360" y="3951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157320" y="393876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9920" y="3936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82520" y="39254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95120" y="39243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220680" y="3912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33280" y="3911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46240" y="39002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58840" y="38988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84040" y="38872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97000" y="3886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22200" y="3886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47760" y="3874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6036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8592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11120" y="3873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423720" y="386208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4928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7484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0004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25600" y="38606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6360" y="38606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27120" y="386064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77880" y="386064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2864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5420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7940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04960" y="3862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016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5572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80920" y="3873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93880" y="3875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919080" y="3886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944640" y="3886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957240" y="3887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982800" y="38988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995400" y="3900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008000" y="3911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033560" y="3913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046160" y="3924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058760" y="3925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071720" y="39369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084320" y="39387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096920" y="3949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109520" y="3951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122480" y="3963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135080" y="3976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146240" y="3989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146240" y="4002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23800" y="2616120"/>
            <a:ext cx="1258920" cy="700200"/>
          </a:xfrm>
          <a:custGeom>
            <a:avLst/>
            <a:gdLst/>
            <a:ahLst/>
            <a:rect l="l" t="t" r="r" b="b"/>
            <a:pathLst>
              <a:path w="793" h="441">
                <a:moveTo>
                  <a:pt x="0" y="0"/>
                </a:moveTo>
                <a:lnTo>
                  <a:pt x="792" y="0"/>
                </a:lnTo>
                <a:lnTo>
                  <a:pt x="792" y="440"/>
                </a:lnTo>
                <a:lnTo>
                  <a:pt x="0" y="44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61960" y="5397480"/>
            <a:ext cx="1495440" cy="776160"/>
          </a:xfrm>
          <a:custGeom>
            <a:avLst/>
            <a:gdLst/>
            <a:ahLst/>
            <a:rect l="l" t="t" r="r" b="b"/>
            <a:pathLst>
              <a:path w="849" h="489">
                <a:moveTo>
                  <a:pt x="0" y="0"/>
                </a:moveTo>
                <a:lnTo>
                  <a:pt x="848" y="0"/>
                </a:lnTo>
                <a:lnTo>
                  <a:pt x="848" y="488"/>
                </a:lnTo>
                <a:lnTo>
                  <a:pt x="0" y="488"/>
                </a:lnTo>
                <a:lnTo>
                  <a:pt x="0" y="0"/>
                </a:lnTo>
              </a:path>
            </a:pathLst>
          </a:custGeom>
          <a:solidFill>
            <a:srgbClr val="cee17d"/>
          </a:solidFill>
          <a:ln cap="rnd"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835360" y="6019920"/>
            <a:ext cx="1258920" cy="763560"/>
          </a:xfrm>
          <a:custGeom>
            <a:avLst/>
            <a:gdLst/>
            <a:ahLst/>
            <a:rect l="l" t="t" r="r" b="b"/>
            <a:pathLst>
              <a:path w="793" h="481">
                <a:moveTo>
                  <a:pt x="0" y="0"/>
                </a:moveTo>
                <a:lnTo>
                  <a:pt x="792" y="0"/>
                </a:lnTo>
                <a:lnTo>
                  <a:pt x="792" y="480"/>
                </a:lnTo>
                <a:lnTo>
                  <a:pt x="0" y="48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17960" y="5842080"/>
            <a:ext cx="1258920" cy="763560"/>
          </a:xfrm>
          <a:custGeom>
            <a:avLst/>
            <a:gdLst/>
            <a:ahLst/>
            <a:rect l="l" t="t" r="r" b="b"/>
            <a:pathLst>
              <a:path w="793" h="481">
                <a:moveTo>
                  <a:pt x="0" y="0"/>
                </a:moveTo>
                <a:lnTo>
                  <a:pt x="792" y="0"/>
                </a:lnTo>
                <a:lnTo>
                  <a:pt x="792" y="480"/>
                </a:lnTo>
                <a:lnTo>
                  <a:pt x="0" y="48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734160" y="5727600"/>
            <a:ext cx="1258920" cy="763560"/>
          </a:xfrm>
          <a:custGeom>
            <a:avLst/>
            <a:gdLst/>
            <a:ahLst/>
            <a:rect l="l" t="t" r="r" b="b"/>
            <a:pathLst>
              <a:path w="793" h="481">
                <a:moveTo>
                  <a:pt x="0" y="0"/>
                </a:moveTo>
                <a:lnTo>
                  <a:pt x="792" y="0"/>
                </a:lnTo>
                <a:lnTo>
                  <a:pt x="792" y="480"/>
                </a:lnTo>
                <a:lnTo>
                  <a:pt x="0" y="48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8880480" y="50436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880480" y="50688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8880480" y="509436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8868960" y="511956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867880" y="514512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8856360" y="517032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8844120" y="51958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8830800" y="5221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8818200" y="52466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8805600" y="5272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8792640" y="5284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8780040" y="53103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8755200" y="5335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8741880" y="534816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8717040" y="53737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8704440" y="53989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8678880" y="5411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8652960" y="542448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8628120" y="54500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8602560" y="5462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8577360" y="5475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8551800" y="5487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8526600" y="55008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8501040" y="5513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8462880" y="55260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8437680" y="5537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8412120" y="55389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8373960" y="55515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834876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8310240" y="5562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828504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8246880" y="5562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822168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8183520" y="55627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815832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8119800" y="5562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 flipV="1">
            <a:off x="8094600" y="55512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8056440" y="553896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8031240" y="5537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 flipV="1">
            <a:off x="8005680" y="5525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 flipV="1">
            <a:off x="7980480" y="5513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 flipV="1">
            <a:off x="7941960" y="55004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 flipV="1">
            <a:off x="7916760" y="5487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 flipV="1">
            <a:off x="7891560" y="5474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 flipV="1">
            <a:off x="7866000" y="54622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 flipV="1">
            <a:off x="7840800" y="54500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7827480" y="54244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 flipV="1">
            <a:off x="7802640" y="54115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7777080" y="5398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7764120" y="53737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7738560" y="5347800"/>
            <a:ext cx="241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7725960" y="5335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7701120" y="5310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7687800" y="5284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 flipV="1">
            <a:off x="7675200" y="5271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 flipV="1">
            <a:off x="7662600" y="52466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 flipV="1">
            <a:off x="7649640" y="5221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7637040" y="51958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7635960" y="516996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7624440" y="51451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7623000" y="511920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 flipV="1">
            <a:off x="7612200" y="509436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7610400" y="50688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7610400" y="50436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7610400" y="50180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7610400" y="49928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7612200" y="49672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7623000" y="49291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7624800" y="4916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635960" y="489060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7637400" y="48657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7650000" y="48402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7662960" y="48150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7675560" y="4789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7688160" y="4764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7701120" y="47509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7726320" y="47260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7738920" y="470052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7764480" y="4687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7777080" y="46749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7802640" y="46497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827840" y="4636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7840800" y="46245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7866000" y="45990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7891560" y="4586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7916760" y="4573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7942320" y="45604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980480" y="4559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8005680" y="4547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8031240" y="45356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056440" y="453384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8094600" y="4522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120160" y="45212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8158320" y="4509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183520" y="450864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8221680" y="4508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247240" y="45086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285040" y="4508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310600" y="45100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8348760" y="4521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373960" y="452268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412120" y="4533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8437680" y="45356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462880" y="45482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8501040" y="4559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8526600" y="4560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8551800" y="4573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8577360" y="4586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8602560" y="45990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628120" y="46245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653320" y="463716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8678880" y="46497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8704440" y="46753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8717040" y="46879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8742240" y="47005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755200" y="4726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8780400" y="47512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8793000" y="4764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8805960" y="4789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8818560" y="48150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831160" y="48402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8844120" y="486576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8856720" y="489096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8867880" y="4916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869320" y="49291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8880480" y="49672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880480" y="49928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880480" y="50180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861240" y="2933640"/>
            <a:ext cx="27000" cy="90720"/>
          </a:xfrm>
          <a:custGeom>
            <a:avLst/>
            <a:gdLst/>
            <a:ahLst/>
            <a:rect l="l" t="t" r="r" b="b"/>
            <a:pathLst>
              <a:path w="17" h="57">
                <a:moveTo>
                  <a:pt x="0" y="0"/>
                </a:moveTo>
                <a:lnTo>
                  <a:pt x="16" y="0"/>
                </a:lnTo>
                <a:lnTo>
                  <a:pt x="16" y="56"/>
                </a:lnTo>
                <a:lnTo>
                  <a:pt x="0" y="5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848640" y="2959200"/>
            <a:ext cx="1220760" cy="547560"/>
          </a:xfrm>
          <a:custGeom>
            <a:avLst/>
            <a:gdLst/>
            <a:ahLst/>
            <a:rect l="l" t="t" r="r" b="b"/>
            <a:pathLst>
              <a:path w="769" h="345">
                <a:moveTo>
                  <a:pt x="0" y="0"/>
                </a:moveTo>
                <a:lnTo>
                  <a:pt x="768" y="0"/>
                </a:lnTo>
                <a:lnTo>
                  <a:pt x="768" y="344"/>
                </a:lnTo>
                <a:lnTo>
                  <a:pt x="0" y="34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394400" y="3365640"/>
            <a:ext cx="1221120" cy="636480"/>
          </a:xfrm>
          <a:custGeom>
            <a:avLst/>
            <a:gdLst/>
            <a:ahLst/>
            <a:rect l="l" t="t" r="r" b="b"/>
            <a:pathLst>
              <a:path w="769" h="401">
                <a:moveTo>
                  <a:pt x="0" y="0"/>
                </a:moveTo>
                <a:lnTo>
                  <a:pt x="768" y="0"/>
                </a:lnTo>
                <a:lnTo>
                  <a:pt x="768" y="400"/>
                </a:lnTo>
                <a:lnTo>
                  <a:pt x="0" y="40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108080" y="1233360"/>
            <a:ext cx="0" cy="95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476360" y="1131840"/>
            <a:ext cx="0" cy="77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517840" y="1131840"/>
            <a:ext cx="0" cy="83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2517840" y="1906560"/>
            <a:ext cx="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476360" y="1944720"/>
            <a:ext cx="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2506320" y="1995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 flipV="1">
            <a:off x="2493720" y="1982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2492280" y="1969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92160" y="1195560"/>
            <a:ext cx="0" cy="9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5440" y="2097000"/>
            <a:ext cx="4932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06200" y="2135160"/>
            <a:ext cx="25272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60360" y="2236680"/>
            <a:ext cx="227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88960" y="2262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601560" y="2261880"/>
            <a:ext cx="2145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817560" y="2223720"/>
            <a:ext cx="11268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932040" y="2198160"/>
            <a:ext cx="997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1033560" y="2160360"/>
            <a:ext cx="6192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1096920" y="214740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835360" y="1055520"/>
            <a:ext cx="0" cy="79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876840" y="1055520"/>
            <a:ext cx="0" cy="79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836800" y="1817640"/>
            <a:ext cx="7452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913120" y="1906560"/>
            <a:ext cx="30312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3218040" y="2021040"/>
            <a:ext cx="315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3535200" y="1855800"/>
            <a:ext cx="30348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3840120" y="1817640"/>
            <a:ext cx="6192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515960" y="19954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528920" y="2033640"/>
            <a:ext cx="489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579680" y="2058840"/>
            <a:ext cx="22680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1808280" y="2134800"/>
            <a:ext cx="379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2189160" y="1995480"/>
            <a:ext cx="30312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2494080" y="1969560"/>
            <a:ext cx="363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6494040" y="1258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492960" y="1271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492960" y="1284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492960" y="1297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6481440" y="1309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480000" y="13222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6469200" y="133524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6455880" y="1347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454800" y="1360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6443280" y="1371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6430680" y="1373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6418440" y="13860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6405120" y="1398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6392520" y="1409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6379920" y="1411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6366960" y="1422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6354360" y="14241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6341760" y="14367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6329520" y="144792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6316200" y="1449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6291360" y="14605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6278040" y="1461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6265440" y="14731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6240600" y="14731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6227280" y="1474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H="1">
            <a:off x="620244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6189840" y="148608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616428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615132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612612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611316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08796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607500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6049440" y="14860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603684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601200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599868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 flipV="1">
            <a:off x="5973840" y="1474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5961240" y="147312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5935680" y="14731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 flipV="1">
            <a:off x="5922720" y="1461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5909760" y="1460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 flipV="1">
            <a:off x="5897160" y="1449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H="1">
            <a:off x="5872320" y="14479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 flipV="1">
            <a:off x="5859000" y="1436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 flipV="1">
            <a:off x="5846400" y="14241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5833800" y="1422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 flipV="1">
            <a:off x="5820840" y="1410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5808240" y="1409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 flipV="1">
            <a:off x="5795640" y="1398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5783400" y="13856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 flipV="1">
            <a:off x="5770080" y="1372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5757480" y="1360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 flipV="1">
            <a:off x="5744880" y="1347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5743440" y="133524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5732640" y="13219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5730840" y="13093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5730840" y="1296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H="1">
            <a:off x="5719320" y="1295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5718240" y="1283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5718240" y="1271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5718240" y="1258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5718240" y="1245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V="1">
            <a:off x="5718240" y="1233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5718240" y="1220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5719680" y="1207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573084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5730840" y="11822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5732640" y="11696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5745240" y="1157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5757840" y="1144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5769000" y="1131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5770440" y="1118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78340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579600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5808600" y="109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82120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5834160" y="1080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5846760" y="1068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85936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5872320" y="1055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89752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5910120" y="1042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92308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93568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5961240" y="102996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9738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999040" y="10288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01200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6037200" y="1017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049800" y="101592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07536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087960" y="10159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11352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126120" y="10159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15168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164280" y="1017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189840" y="102888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2024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227640" y="10288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240600" y="1030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26580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27840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291360" y="10429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31656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329520" y="10555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4212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354720" y="106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367320" y="1081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38028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392880" y="1093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40548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41844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431040" y="1119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443640" y="1131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454800" y="1144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456240" y="1157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469200" y="11685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480000" y="1170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81800" y="1182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49296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492960" y="1208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492960" y="1220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492960" y="12333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494400" y="1246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 flipV="1">
            <a:off x="6303960" y="1690200"/>
            <a:ext cx="13824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 flipV="1">
            <a:off x="6265800" y="16776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 flipV="1">
            <a:off x="6214680" y="1652760"/>
            <a:ext cx="493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H="1" flipV="1">
            <a:off x="6138720" y="1601280"/>
            <a:ext cx="7488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 flipV="1">
            <a:off x="6100560" y="15886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H="1" flipV="1">
            <a:off x="6087600" y="1525680"/>
            <a:ext cx="1116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 flipV="1">
            <a:off x="6062760" y="15123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6062760" y="1386000"/>
            <a:ext cx="2376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6087960" y="1360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6100920" y="1297080"/>
            <a:ext cx="871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6189840" y="1271520"/>
            <a:ext cx="745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6265800" y="12585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303960" y="1258920"/>
            <a:ext cx="3538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659640" y="12715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684840" y="129708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735600" y="130968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761160" y="1335240"/>
            <a:ext cx="6192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6811560" y="1424160"/>
            <a:ext cx="1116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6773760" y="156384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6760800" y="1589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H="1">
            <a:off x="6684840" y="1601640"/>
            <a:ext cx="7488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6608520" y="1652760"/>
            <a:ext cx="745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6570360" y="16779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6443640" y="1690560"/>
            <a:ext cx="12528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 flipV="1">
            <a:off x="6608520" y="1893600"/>
            <a:ext cx="1760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H="1" flipV="1">
            <a:off x="6558120" y="1855440"/>
            <a:ext cx="489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 flipV="1">
            <a:off x="6506640" y="184284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 flipV="1">
            <a:off x="6481800" y="18176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H="1" flipV="1">
            <a:off x="6405120" y="1728360"/>
            <a:ext cx="7452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6405480" y="1589040"/>
            <a:ext cx="2376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V="1">
            <a:off x="6431040" y="15638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6469200" y="15505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6481800" y="1487520"/>
            <a:ext cx="745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6558120" y="1474560"/>
            <a:ext cx="745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6634080" y="14616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659640" y="1461960"/>
            <a:ext cx="328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989760" y="1474920"/>
            <a:ext cx="6192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053120" y="151272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7078680" y="1525680"/>
            <a:ext cx="100080" cy="1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7155000" y="1639800"/>
            <a:ext cx="2376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7053120" y="1766880"/>
            <a:ext cx="10008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6989760" y="1855800"/>
            <a:ext cx="619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6951600" y="18684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6786720" y="1893960"/>
            <a:ext cx="163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 flipV="1">
            <a:off x="6989400" y="2109960"/>
            <a:ext cx="1508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 flipV="1">
            <a:off x="6951600" y="20966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 flipV="1">
            <a:off x="6913440" y="20718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 flipV="1">
            <a:off x="6888240" y="2058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6849720" y="20336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 flipV="1">
            <a:off x="6760800" y="1931760"/>
            <a:ext cx="87480" cy="9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6761160" y="1805040"/>
            <a:ext cx="1116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6773760" y="1716120"/>
            <a:ext cx="11268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6888240" y="1690200"/>
            <a:ext cx="489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6939000" y="1677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977160" y="1677960"/>
            <a:ext cx="379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358040" y="1690560"/>
            <a:ext cx="4932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408800" y="17287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446960" y="1741320"/>
            <a:ext cx="7452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H="1">
            <a:off x="7497720" y="1843200"/>
            <a:ext cx="2376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7396200" y="1969920"/>
            <a:ext cx="10008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7357680" y="20588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7319880" y="20718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7205400" y="2097000"/>
            <a:ext cx="112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7142040" y="2109960"/>
            <a:ext cx="619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H="1" flipV="1">
            <a:off x="7319880" y="2312640"/>
            <a:ext cx="163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 flipV="1">
            <a:off x="7281720" y="2287080"/>
            <a:ext cx="367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H="1" flipV="1">
            <a:off x="7243560" y="22744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H="1" flipV="1">
            <a:off x="7205400" y="22618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 flipV="1">
            <a:off x="7180200" y="22366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H="1" flipV="1">
            <a:off x="7103880" y="2147400"/>
            <a:ext cx="7452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7104240" y="1995120"/>
            <a:ext cx="1080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V="1">
            <a:off x="7116840" y="19825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7155000" y="1969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7180200" y="1906560"/>
            <a:ext cx="619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7243920" y="1893600"/>
            <a:ext cx="619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7307280" y="18684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332840" y="1868400"/>
            <a:ext cx="36648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701120" y="18939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726320" y="1906560"/>
            <a:ext cx="619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790040" y="1969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827840" y="1982880"/>
            <a:ext cx="237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853400" y="20210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7853040" y="2058840"/>
            <a:ext cx="1116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7814880" y="2185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7790040" y="219852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7738560" y="2236680"/>
            <a:ext cx="493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7687800" y="2262240"/>
            <a:ext cx="493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7598880" y="2287440"/>
            <a:ext cx="8748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7561080" y="23130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7484760" y="2324160"/>
            <a:ext cx="7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8232840" y="2287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8232840" y="2300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8221320" y="2313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220240" y="23256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8220240" y="2338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8208720" y="2351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8207280" y="2363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8195760" y="2376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H="1">
            <a:off x="8183160" y="2389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8170560" y="2401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8158320" y="24145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8156520" y="2427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H="1">
            <a:off x="8145000" y="2438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H="1">
            <a:off x="8132400" y="2440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8119800" y="2452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H="1">
            <a:off x="8106840" y="2463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8082000" y="24652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8069400" y="2476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8056080" y="24782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flipH="1">
            <a:off x="8043480" y="24890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8018640" y="2490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8005320" y="2502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H="1">
            <a:off x="7992720" y="25034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7967160" y="25146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795456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794196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7916760" y="2516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H="1">
            <a:off x="7903800" y="2527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7878240" y="25272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7853400" y="2527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H="1">
            <a:off x="7840800" y="25272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H="1">
            <a:off x="7815240" y="2527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H="1">
            <a:off x="7802280" y="2527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H="1">
            <a:off x="7777080" y="2527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7764120" y="2527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H="1" flipV="1">
            <a:off x="7738560" y="251568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772596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7701120" y="2514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768780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H="1" flipV="1">
            <a:off x="7675200" y="2503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7649640" y="2502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H="1" flipV="1">
            <a:off x="7637040" y="2490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7624440" y="24890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 flipV="1">
            <a:off x="7612200" y="247824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7586640" y="24764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 flipV="1">
            <a:off x="7573680" y="2464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7561440" y="24638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 flipV="1">
            <a:off x="7548120" y="2452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H="1" flipV="1">
            <a:off x="7535520" y="2439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7522920" y="2438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 flipV="1">
            <a:off x="7509960" y="24267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7508880" y="2414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H="1" flipV="1">
            <a:off x="7497360" y="2401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 flipV="1">
            <a:off x="7484760" y="2388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 flipV="1">
            <a:off x="7472520" y="23760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H="1" flipV="1">
            <a:off x="7459200" y="2363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7458120" y="23508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7458120" y="2338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 flipV="1">
            <a:off x="7446600" y="2325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7445520" y="23126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7445520" y="23000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7445520" y="2287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7445520" y="2274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7445520" y="2261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7446960" y="2249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7458120" y="22363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7458120" y="2223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7459560" y="2211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7472520" y="219816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7483320" y="2185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485120" y="2184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7497720" y="2172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7508880" y="21603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V="1">
            <a:off x="7510320" y="2147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523280" y="2146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7535880" y="2134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7548480" y="2122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561440" y="21207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7574040" y="21099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586640" y="2108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7612200" y="20966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624800" y="2095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7637400" y="2084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650000" y="20829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7675560" y="20714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688160" y="2070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701120" y="2070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7726320" y="205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738920" y="20574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764480" y="205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777708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802640" y="205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81524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7840800" y="20574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85340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878600" y="20574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904160" y="205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91676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942320" y="2058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954920" y="2070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967520" y="2070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993080" y="207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8005680" y="2082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8018640" y="2084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8043840" y="2095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8056440" y="2097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8069400" y="21081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8082000" y="21099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8107200" y="2120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8120160" y="2122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132760" y="2135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8145360" y="2146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8156520" y="2147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8158320" y="21607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8170920" y="217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8183520" y="2184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8194680" y="21859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8196120" y="2198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8207280" y="2211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8209080" y="2224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8220240" y="22366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8220240" y="224964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8221680" y="2262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8232840" y="22748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H="1">
            <a:off x="6392880" y="1042920"/>
            <a:ext cx="117936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392880" y="11048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H="1">
            <a:off x="6760800" y="1042920"/>
            <a:ext cx="81108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7358040" y="1055520"/>
            <a:ext cx="163440" cy="67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561440" y="1055520"/>
            <a:ext cx="137880" cy="87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V="1">
            <a:off x="7699320" y="1868400"/>
            <a:ext cx="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701120" y="1868400"/>
            <a:ext cx="36360" cy="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599240" y="1068480"/>
            <a:ext cx="557280" cy="10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88920" y="1066680"/>
            <a:ext cx="966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550520" y="952560"/>
            <a:ext cx="837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933640" y="939960"/>
            <a:ext cx="776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HISTO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819160" y="1193760"/>
            <a:ext cx="649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QUI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820960" y="1384200"/>
            <a:ext cx="823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808360" y="162576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435680" y="125748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STALAC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435320" y="1447920"/>
            <a:ext cx="1015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QUINA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536840" y="1587600"/>
            <a:ext cx="90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VEHICU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511280" y="1790640"/>
            <a:ext cx="8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NO 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702080" y="1917720"/>
            <a:ext cx="535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OB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8160" y="1320840"/>
            <a:ext cx="963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T.  PR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6680" y="1498680"/>
            <a:ext cx="100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MPONE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20" y="1638360"/>
            <a:ext cx="906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SUB CONJ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90720" y="186696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54160" y="2006640"/>
            <a:ext cx="703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ERMI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54080" y="3886200"/>
            <a:ext cx="97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GRA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533880" y="2629080"/>
            <a:ext cx="878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32440" y="2768760"/>
            <a:ext cx="655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32800" y="2921040"/>
            <a:ext cx="109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34960" y="3073320"/>
            <a:ext cx="1078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   PRODUC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04760" y="4040280"/>
            <a:ext cx="0" cy="88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133640" y="4052880"/>
            <a:ext cx="0" cy="86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81000" y="4890960"/>
            <a:ext cx="493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31760" y="4954680"/>
            <a:ext cx="22716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360360" y="5018040"/>
            <a:ext cx="455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817560" y="4928760"/>
            <a:ext cx="23976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1058760" y="4916160"/>
            <a:ext cx="748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1135080" y="489060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158840" y="489096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H="1">
            <a:off x="1135080" y="49165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4080" y="4152960"/>
            <a:ext cx="1120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90360" y="4356000"/>
            <a:ext cx="100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SUB-CONJU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6320" y="4648320"/>
            <a:ext cx="776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79360" y="4788000"/>
            <a:ext cx="558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46120" y="5380200"/>
            <a:ext cx="1512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DMINISTR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46120" y="5583240"/>
            <a:ext cx="97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47200" y="5786280"/>
            <a:ext cx="1477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895840" y="6121440"/>
            <a:ext cx="94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894040" y="6273720"/>
            <a:ext cx="738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895480" y="6413400"/>
            <a:ext cx="94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915080" y="6012000"/>
            <a:ext cx="121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GENI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744960" y="5816520"/>
            <a:ext cx="117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NTABILIDAD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718320" y="6045120"/>
            <a:ext cx="966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Y  FINANZ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045120" y="4851360"/>
            <a:ext cx="90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STOS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110280" y="5041800"/>
            <a:ext cx="1006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DUC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921280" y="4381560"/>
            <a:ext cx="11592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0" y="0"/>
                </a:moveTo>
                <a:lnTo>
                  <a:pt x="72" y="40"/>
                </a:lnTo>
                <a:lnTo>
                  <a:pt x="40" y="48"/>
                </a:lnTo>
                <a:lnTo>
                  <a:pt x="32" y="7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986440" y="4459320"/>
            <a:ext cx="35388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645240" y="527220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153200" y="5613480"/>
            <a:ext cx="11592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72" y="72"/>
                </a:moveTo>
                <a:lnTo>
                  <a:pt x="0" y="32"/>
                </a:lnTo>
                <a:lnTo>
                  <a:pt x="32" y="32"/>
                </a:lnTo>
                <a:lnTo>
                  <a:pt x="32" y="0"/>
                </a:lnTo>
                <a:lnTo>
                  <a:pt x="72" y="7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850080" y="5297400"/>
            <a:ext cx="353880" cy="36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7709040" y="4648320"/>
            <a:ext cx="931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NEJO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7645320" y="4813200"/>
            <a:ext cx="10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TER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7726320" y="5079960"/>
            <a:ext cx="10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671600" y="5029200"/>
            <a:ext cx="128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ICIAR, / VERIF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7811640" y="5156280"/>
            <a:ext cx="943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RASLAD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7886880" y="5359320"/>
            <a:ext cx="599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L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33520" y="2933640"/>
            <a:ext cx="109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959520" y="3089160"/>
            <a:ext cx="581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J.I.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7329240" y="3568680"/>
            <a:ext cx="1274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RANSPORTI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7467480" y="3726000"/>
            <a:ext cx="732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J . I . 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797200" y="3200400"/>
            <a:ext cx="141120" cy="90360"/>
          </a:xfrm>
          <a:custGeom>
            <a:avLst/>
            <a:gdLst/>
            <a:ahLst/>
            <a:rect l="l" t="t" r="r" b="b"/>
            <a:pathLst>
              <a:path w="89" h="57">
                <a:moveTo>
                  <a:pt x="88" y="48"/>
                </a:moveTo>
                <a:lnTo>
                  <a:pt x="0" y="56"/>
                </a:lnTo>
                <a:lnTo>
                  <a:pt x="24" y="32"/>
                </a:lnTo>
                <a:lnTo>
                  <a:pt x="16" y="0"/>
                </a:lnTo>
                <a:lnTo>
                  <a:pt x="88" y="4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808280" y="2986200"/>
            <a:ext cx="102708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803240" y="3086280"/>
            <a:ext cx="663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854360" y="325116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855800" y="3378240"/>
            <a:ext cx="97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GRA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108080" y="4406760"/>
            <a:ext cx="128520" cy="77760"/>
          </a:xfrm>
          <a:custGeom>
            <a:avLst/>
            <a:gdLst/>
            <a:ahLst/>
            <a:rect l="l" t="t" r="r" b="b"/>
            <a:pathLst>
              <a:path w="81" h="49">
                <a:moveTo>
                  <a:pt x="0" y="40"/>
                </a:moveTo>
                <a:lnTo>
                  <a:pt x="72" y="0"/>
                </a:lnTo>
                <a:lnTo>
                  <a:pt x="64" y="32"/>
                </a:lnTo>
                <a:lnTo>
                  <a:pt x="80" y="48"/>
                </a:lnTo>
                <a:lnTo>
                  <a:pt x="0" y="4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606760" y="4076640"/>
            <a:ext cx="128520" cy="90720"/>
          </a:xfrm>
          <a:custGeom>
            <a:avLst/>
            <a:gdLst/>
            <a:ahLst/>
            <a:rect l="l" t="t" r="r" b="b"/>
            <a:pathLst>
              <a:path w="81" h="57">
                <a:moveTo>
                  <a:pt x="80" y="8"/>
                </a:moveTo>
                <a:lnTo>
                  <a:pt x="8" y="56"/>
                </a:lnTo>
                <a:lnTo>
                  <a:pt x="16" y="24"/>
                </a:lnTo>
                <a:lnTo>
                  <a:pt x="0" y="0"/>
                </a:lnTo>
                <a:lnTo>
                  <a:pt x="80" y="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1211400" y="4115880"/>
            <a:ext cx="1420560" cy="34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746440" y="4559400"/>
            <a:ext cx="128520" cy="115920"/>
          </a:xfrm>
          <a:custGeom>
            <a:avLst/>
            <a:gdLst/>
            <a:ahLst/>
            <a:rect l="l" t="t" r="r" b="b"/>
            <a:pathLst>
              <a:path w="81" h="73">
                <a:moveTo>
                  <a:pt x="80" y="0"/>
                </a:moveTo>
                <a:lnTo>
                  <a:pt x="32" y="72"/>
                </a:lnTo>
                <a:lnTo>
                  <a:pt x="32" y="40"/>
                </a:lnTo>
                <a:lnTo>
                  <a:pt x="0" y="24"/>
                </a:lnTo>
                <a:lnTo>
                  <a:pt x="8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692360" y="5295960"/>
            <a:ext cx="128520" cy="102960"/>
          </a:xfrm>
          <a:custGeom>
            <a:avLst/>
            <a:gdLst/>
            <a:ahLst/>
            <a:rect l="l" t="t" r="r" b="b"/>
            <a:pathLst>
              <a:path w="81" h="65">
                <a:moveTo>
                  <a:pt x="0" y="64"/>
                </a:moveTo>
                <a:lnTo>
                  <a:pt x="48" y="0"/>
                </a:lnTo>
                <a:lnTo>
                  <a:pt x="48" y="32"/>
                </a:lnTo>
                <a:lnTo>
                  <a:pt x="80" y="48"/>
                </a:lnTo>
                <a:lnTo>
                  <a:pt x="0" y="6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H="1">
            <a:off x="1769760" y="4624560"/>
            <a:ext cx="1027080" cy="722160"/>
          </a:xfrm>
          <a:prstGeom prst="line">
            <a:avLst/>
          </a:prstGeom>
          <a:ln w="38160">
            <a:solidFill>
              <a:srgbClr val="cc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828440" y="4686480"/>
            <a:ext cx="95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STADO 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638720" y="4902120"/>
            <a:ext cx="1337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LAS  ORDENES 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096640" y="5118120"/>
            <a:ext cx="753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76440" y="2273400"/>
            <a:ext cx="77760" cy="128520"/>
          </a:xfrm>
          <a:custGeom>
            <a:avLst/>
            <a:gdLst/>
            <a:ahLst/>
            <a:rect l="l" t="t" r="r" b="b"/>
            <a:pathLst>
              <a:path w="49" h="81">
                <a:moveTo>
                  <a:pt x="24" y="0"/>
                </a:moveTo>
                <a:lnTo>
                  <a:pt x="48" y="72"/>
                </a:lnTo>
                <a:lnTo>
                  <a:pt x="24" y="56"/>
                </a:lnTo>
                <a:lnTo>
                  <a:pt x="0" y="80"/>
                </a:lnTo>
                <a:lnTo>
                  <a:pt x="24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89040" y="2552760"/>
            <a:ext cx="77760" cy="115920"/>
          </a:xfrm>
          <a:custGeom>
            <a:avLst/>
            <a:gdLst/>
            <a:ahLst/>
            <a:rect l="l" t="t" r="r" b="b"/>
            <a:pathLst>
              <a:path w="49" h="73">
                <a:moveTo>
                  <a:pt x="24" y="72"/>
                </a:moveTo>
                <a:lnTo>
                  <a:pt x="0" y="0"/>
                </a:lnTo>
                <a:lnTo>
                  <a:pt x="24" y="16"/>
                </a:lnTo>
                <a:lnTo>
                  <a:pt x="48" y="0"/>
                </a:lnTo>
                <a:lnTo>
                  <a:pt x="24" y="7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16040" y="2363760"/>
            <a:ext cx="1116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146240" y="2197080"/>
            <a:ext cx="128520" cy="90360"/>
          </a:xfrm>
          <a:custGeom>
            <a:avLst/>
            <a:gdLst/>
            <a:ahLst/>
            <a:rect l="l" t="t" r="r" b="b"/>
            <a:pathLst>
              <a:path w="81" h="57">
                <a:moveTo>
                  <a:pt x="0" y="0"/>
                </a:moveTo>
                <a:lnTo>
                  <a:pt x="80" y="8"/>
                </a:lnTo>
                <a:lnTo>
                  <a:pt x="56" y="24"/>
                </a:lnTo>
                <a:lnTo>
                  <a:pt x="64" y="5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051000" y="2933640"/>
            <a:ext cx="141480" cy="90720"/>
          </a:xfrm>
          <a:custGeom>
            <a:avLst/>
            <a:gdLst/>
            <a:ahLst/>
            <a:rect l="l" t="t" r="r" b="b"/>
            <a:pathLst>
              <a:path w="89" h="57">
                <a:moveTo>
                  <a:pt x="88" y="56"/>
                </a:moveTo>
                <a:lnTo>
                  <a:pt x="0" y="48"/>
                </a:lnTo>
                <a:lnTo>
                  <a:pt x="32" y="32"/>
                </a:lnTo>
                <a:lnTo>
                  <a:pt x="24" y="0"/>
                </a:lnTo>
                <a:lnTo>
                  <a:pt x="88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236600" y="2236680"/>
            <a:ext cx="1865520" cy="74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403360" y="2070000"/>
            <a:ext cx="128880" cy="115920"/>
          </a:xfrm>
          <a:custGeom>
            <a:avLst/>
            <a:gdLst/>
            <a:ahLst/>
            <a:rect l="l" t="t" r="r" b="b"/>
            <a:pathLst>
              <a:path w="81" h="73">
                <a:moveTo>
                  <a:pt x="0" y="0"/>
                </a:moveTo>
                <a:lnTo>
                  <a:pt x="80" y="24"/>
                </a:lnTo>
                <a:lnTo>
                  <a:pt x="48" y="40"/>
                </a:lnTo>
                <a:lnTo>
                  <a:pt x="48" y="7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267000" y="2717640"/>
            <a:ext cx="115920" cy="103320"/>
          </a:xfrm>
          <a:custGeom>
            <a:avLst/>
            <a:gdLst/>
            <a:ahLst/>
            <a:rect l="l" t="t" r="r" b="b"/>
            <a:pathLst>
              <a:path w="73" h="65">
                <a:moveTo>
                  <a:pt x="72" y="64"/>
                </a:moveTo>
                <a:lnTo>
                  <a:pt x="0" y="40"/>
                </a:lnTo>
                <a:lnTo>
                  <a:pt x="24" y="24"/>
                </a:lnTo>
                <a:lnTo>
                  <a:pt x="32" y="0"/>
                </a:lnTo>
                <a:lnTo>
                  <a:pt x="72" y="6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481120" y="2135160"/>
            <a:ext cx="824040" cy="62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673440" y="1981080"/>
            <a:ext cx="90360" cy="128880"/>
          </a:xfrm>
          <a:custGeom>
            <a:avLst/>
            <a:gdLst/>
            <a:ahLst/>
            <a:rect l="l" t="t" r="r" b="b"/>
            <a:pathLst>
              <a:path w="57" h="81">
                <a:moveTo>
                  <a:pt x="0" y="0"/>
                </a:moveTo>
                <a:lnTo>
                  <a:pt x="56" y="64"/>
                </a:lnTo>
                <a:lnTo>
                  <a:pt x="24" y="56"/>
                </a:lnTo>
                <a:lnTo>
                  <a:pt x="8" y="8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13040" y="2071800"/>
            <a:ext cx="201600" cy="5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546360" y="5207040"/>
            <a:ext cx="90720" cy="128520"/>
          </a:xfrm>
          <a:custGeom>
            <a:avLst/>
            <a:gdLst/>
            <a:ahLst/>
            <a:rect l="l" t="t" r="r" b="b"/>
            <a:pathLst>
              <a:path w="57" h="81">
                <a:moveTo>
                  <a:pt x="56" y="0"/>
                </a:moveTo>
                <a:lnTo>
                  <a:pt x="48" y="80"/>
                </a:lnTo>
                <a:lnTo>
                  <a:pt x="32" y="48"/>
                </a:lnTo>
                <a:lnTo>
                  <a:pt x="0" y="56"/>
                </a:lnTo>
                <a:lnTo>
                  <a:pt x="56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203640" y="5931000"/>
            <a:ext cx="90360" cy="128520"/>
          </a:xfrm>
          <a:custGeom>
            <a:avLst/>
            <a:gdLst/>
            <a:ahLst/>
            <a:rect l="l" t="t" r="r" b="b"/>
            <a:pathLst>
              <a:path w="57" h="81">
                <a:moveTo>
                  <a:pt x="0" y="80"/>
                </a:moveTo>
                <a:lnTo>
                  <a:pt x="16" y="0"/>
                </a:lnTo>
                <a:lnTo>
                  <a:pt x="24" y="24"/>
                </a:lnTo>
                <a:lnTo>
                  <a:pt x="56" y="24"/>
                </a:lnTo>
                <a:lnTo>
                  <a:pt x="0" y="8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3242880" y="5284800"/>
            <a:ext cx="35388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968720" y="5219640"/>
            <a:ext cx="11592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0" y="0"/>
                </a:moveTo>
                <a:lnTo>
                  <a:pt x="72" y="40"/>
                </a:lnTo>
                <a:lnTo>
                  <a:pt x="40" y="48"/>
                </a:lnTo>
                <a:lnTo>
                  <a:pt x="32" y="7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425920" y="5740560"/>
            <a:ext cx="115920" cy="115560"/>
          </a:xfrm>
          <a:custGeom>
            <a:avLst/>
            <a:gdLst/>
            <a:ahLst/>
            <a:rect l="l" t="t" r="r" b="b"/>
            <a:pathLst>
              <a:path w="73" h="73">
                <a:moveTo>
                  <a:pt x="72" y="72"/>
                </a:moveTo>
                <a:lnTo>
                  <a:pt x="0" y="32"/>
                </a:lnTo>
                <a:lnTo>
                  <a:pt x="24" y="32"/>
                </a:lnTo>
                <a:lnTo>
                  <a:pt x="32" y="0"/>
                </a:lnTo>
                <a:lnTo>
                  <a:pt x="72" y="7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033880" y="5297400"/>
            <a:ext cx="430200" cy="49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895480" y="3568680"/>
            <a:ext cx="2455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PREPARAR  / DESPACHAR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893680" y="3720960"/>
            <a:ext cx="1867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GRAM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895480" y="3873600"/>
            <a:ext cx="21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ESTADO MOVIM.  MATER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896200" y="4013280"/>
            <a:ext cx="1614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DATOS DEL PRO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898360" y="4165560"/>
            <a:ext cx="247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ESTABLECER   PARAMETR. PROC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2895840" y="4317840"/>
            <a:ext cx="2013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SEGUIMIENTO  AL PRO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896920" y="4457880"/>
            <a:ext cx="2516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MONITOREO DE LA PRODUCCION  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895120" y="4610160"/>
            <a:ext cx="140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L INVENTARI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441240" y="4788000"/>
            <a:ext cx="1065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RENDIMI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516000" y="698400"/>
            <a:ext cx="215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ONITOREO   DE  LOS CENTR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710120" y="914400"/>
            <a:ext cx="954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 TRA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032520" y="3514680"/>
            <a:ext cx="10461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SECU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032160" y="3679920"/>
            <a:ext cx="7520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DIAR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032160" y="3844800"/>
            <a:ext cx="9104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PROGRAM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032520" y="3997440"/>
            <a:ext cx="7704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ESTAD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032520" y="4162320"/>
            <a:ext cx="10033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DEL EQUIP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645240" y="2057400"/>
            <a:ext cx="77760" cy="128520"/>
          </a:xfrm>
          <a:custGeom>
            <a:avLst/>
            <a:gdLst/>
            <a:ahLst/>
            <a:rect l="l" t="t" r="r" b="b"/>
            <a:pathLst>
              <a:path w="49" h="81">
                <a:moveTo>
                  <a:pt x="48" y="0"/>
                </a:moveTo>
                <a:lnTo>
                  <a:pt x="48" y="80"/>
                </a:lnTo>
                <a:lnTo>
                  <a:pt x="32" y="56"/>
                </a:lnTo>
                <a:lnTo>
                  <a:pt x="0" y="64"/>
                </a:lnTo>
                <a:lnTo>
                  <a:pt x="48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6342120" y="2147400"/>
            <a:ext cx="353880" cy="139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696000" y="3403440"/>
            <a:ext cx="128520" cy="90720"/>
          </a:xfrm>
          <a:custGeom>
            <a:avLst/>
            <a:gdLst/>
            <a:ahLst/>
            <a:rect l="l" t="t" r="r" b="b"/>
            <a:pathLst>
              <a:path w="81" h="57">
                <a:moveTo>
                  <a:pt x="80" y="0"/>
                </a:moveTo>
                <a:lnTo>
                  <a:pt x="24" y="56"/>
                </a:lnTo>
                <a:lnTo>
                  <a:pt x="32" y="24"/>
                </a:lnTo>
                <a:lnTo>
                  <a:pt x="0" y="16"/>
                </a:lnTo>
                <a:lnTo>
                  <a:pt x="8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6570720" y="3443400"/>
            <a:ext cx="17604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572240" y="4648320"/>
            <a:ext cx="128880" cy="77760"/>
          </a:xfrm>
          <a:custGeom>
            <a:avLst/>
            <a:gdLst/>
            <a:ahLst/>
            <a:rect l="l" t="t" r="r" b="b"/>
            <a:pathLst>
              <a:path w="81" h="49">
                <a:moveTo>
                  <a:pt x="80" y="48"/>
                </a:moveTo>
                <a:lnTo>
                  <a:pt x="0" y="48"/>
                </a:lnTo>
                <a:lnTo>
                  <a:pt x="24" y="32"/>
                </a:lnTo>
                <a:lnTo>
                  <a:pt x="16" y="0"/>
                </a:lnTo>
                <a:lnTo>
                  <a:pt x="80" y="4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786720" y="4408560"/>
            <a:ext cx="823680" cy="2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896080" y="3860640"/>
            <a:ext cx="128520" cy="78120"/>
          </a:xfrm>
          <a:custGeom>
            <a:avLst/>
            <a:gdLst/>
            <a:ahLst/>
            <a:rect l="l" t="t" r="r" b="b"/>
            <a:pathLst>
              <a:path w="81" h="49">
                <a:moveTo>
                  <a:pt x="0" y="32"/>
                </a:moveTo>
                <a:lnTo>
                  <a:pt x="80" y="0"/>
                </a:lnTo>
                <a:lnTo>
                  <a:pt x="64" y="24"/>
                </a:lnTo>
                <a:lnTo>
                  <a:pt x="80" y="48"/>
                </a:lnTo>
                <a:lnTo>
                  <a:pt x="0" y="3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H="1">
            <a:off x="5999040" y="3887640"/>
            <a:ext cx="1000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8267040" y="6386400"/>
            <a:ext cx="78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IG.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rot="1980000">
            <a:off x="5797080" y="1585440"/>
            <a:ext cx="21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RUPOS  DE  TA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/>
          <p:nvPr/>
        </p:nvSpPr>
        <p:spPr>
          <a:xfrm>
            <a:off x="2673360" y="1682640"/>
            <a:ext cx="3263760" cy="311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758960" y="920880"/>
            <a:ext cx="5092560" cy="4635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066680" y="2057400"/>
            <a:ext cx="181620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279440" y="708120"/>
            <a:ext cx="1459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RPOR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035080" y="5973840"/>
            <a:ext cx="446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NCEPTO   DE  SISTEMA 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143000" y="2133720"/>
            <a:ext cx="1448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838800" y="3886200"/>
            <a:ext cx="107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896920" y="5486400"/>
            <a:ext cx="275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ERVICIOS EX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248520" y="1523880"/>
            <a:ext cx="121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EOGRAF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685800" y="3809880"/>
            <a:ext cx="13716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V="1">
            <a:off x="6095880" y="1446840"/>
            <a:ext cx="1371600" cy="53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1143000" y="609120"/>
            <a:ext cx="1676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955960" y="2833560"/>
            <a:ext cx="247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ccccff"/>
                </a:solidFill>
                <a:latin typeface="Times New Roman"/>
              </a:rPr>
              <a:t>MANTEN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224880" y="152388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ABASTECI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829880" y="327672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971800" y="4495680"/>
            <a:ext cx="204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715000" y="2362320"/>
            <a:ext cx="175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INGENI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638680" y="3581280"/>
            <a:ext cx="212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CONTRAL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895480" y="5410080"/>
            <a:ext cx="281952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/>
          <p:nvPr/>
        </p:nvSpPr>
        <p:spPr>
          <a:xfrm>
            <a:off x="380880" y="304920"/>
            <a:ext cx="8542440" cy="23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cc99"/>
                </a:solidFill>
                <a:latin typeface="Times New Roman"/>
              </a:rPr>
              <a:t>Temas  de  Permanente  Actu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DUCCION  =   OPERACIONES  +  MANTE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Relación Cliente - Serv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60800" y="2743200"/>
            <a:ext cx="6780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 DE  MANTENCION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20  A  40 %    de  los  costos  dir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68360" y="4495680"/>
            <a:ext cx="59943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ERTEZA    DE  FUNCION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gro de la Continuidad de Marc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0" name=""/>
          <p:cNvGraphicFramePr/>
          <p:nvPr/>
        </p:nvGraphicFramePr>
        <p:xfrm>
          <a:off x="7467480" y="2971800"/>
          <a:ext cx="1146240" cy="10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971800"/>
                    <a:ext cx="114624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2" name=""/>
          <p:cNvGraphicFramePr/>
          <p:nvPr/>
        </p:nvGraphicFramePr>
        <p:xfrm>
          <a:off x="5791320" y="1828800"/>
          <a:ext cx="1606320" cy="90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828800"/>
                    <a:ext cx="160632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4" name=""/>
          <p:cNvGraphicFramePr/>
          <p:nvPr/>
        </p:nvGraphicFramePr>
        <p:xfrm rot="10800000">
          <a:off x="6553080" y="4572000"/>
          <a:ext cx="2210040" cy="16574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4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 rot="10800000">
                    <a:off x="6553080" y="4572000"/>
                    <a:ext cx="221004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03:13:44Z</dcterms:created>
  <dc:creator>Ernesto Gramsch</dc:creator>
  <dc:description/>
  <dc:language>en-US</dc:language>
  <cp:lastModifiedBy>Ernesto Gramsch</cp:lastModifiedBy>
  <dcterms:modified xsi:type="dcterms:W3CDTF">2004-03-23T18:38:53Z</dcterms:modified>
  <cp:revision>10</cp:revision>
  <dc:subject/>
  <dc:title>Presentación de PowerPoint</dc:title>
</cp:coreProperties>
</file>