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.docx" ContentType="application/vnd.openxmlformats-officedocument.wordprocessingml.documen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A134-AF74-4842-8CC1-593ACA1D94C7}" type="slidenum"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"/>
          <p:cNvSpPr/>
          <p:nvPr/>
        </p:nvSpPr>
        <p:spPr>
          <a:xfrm>
            <a:off x="388620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388620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0" y="8704440"/>
            <a:ext cx="2971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0" y="9360"/>
            <a:ext cx="297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1"/>
          <p:cNvSpPr>
            <a:spLocks noGrp="1"/>
          </p:cNvSpPr>
          <p:nvPr>
            <p:ph type="sldImg"/>
          </p:nvPr>
        </p:nvSpPr>
        <p:spPr>
          <a:xfrm>
            <a:off x="1152360" y="693720"/>
            <a:ext cx="4553280" cy="3414600"/>
          </a:xfrm>
          <a:prstGeom prst="rect">
            <a:avLst/>
          </a:prstGeom>
          <a:ln w="0">
            <a:noFill/>
          </a:ln>
        </p:spPr>
      </p:sp>
      <p:sp>
        <p:nvSpPr>
          <p:cNvPr id="1603" name="PlaceHolder 2"/>
          <p:cNvSpPr>
            <a:spLocks noGrp="1"/>
          </p:cNvSpPr>
          <p:nvPr>
            <p:ph type="body"/>
          </p:nvPr>
        </p:nvSpPr>
        <p:spPr>
          <a:xfrm>
            <a:off x="914400" y="4357440"/>
            <a:ext cx="502920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214-6A22-4CF0-8460-ACE8B807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B028-9D28-46FA-A8F7-3DDFAD0C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8C2B-161B-400E-B81F-AC623C580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4E1-B83F-482F-B03B-9F651068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C304-87E3-4610-A69C-518F5F65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421-04CA-4CA5-BD3F-0C9F84A3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5934-E697-4F6B-BFED-025EE3CD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B14E-3BFB-4E2D-8951-B72028A3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E1E-4AD0-4224-9EC2-15219ACA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D7A1-7D39-4063-862C-E64B30AE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DC0B-97DA-4704-AE35-194F09D3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518-5BEA-4E4D-A5C7-1CC87AC3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0D82-E903-4560-AE2B-5E025A0304BB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-457200"/>
            <a:ext cx="10515600" cy="6815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600" y="-23760"/>
            <a:ext cx="4743720" cy="31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GESTION  MODERNA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ANTENIMIENT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MINERO  E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ff3300"/>
                </a:solidFill>
                <a:latin typeface="Times New Roman"/>
              </a:rPr>
              <a:t>INDUSTRI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000" y="5638680"/>
            <a:ext cx="647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RE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NG. ERNESTO GRAMSCH SANJ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6" name=""/>
          <p:cNvGraphicFramePr/>
          <p:nvPr/>
        </p:nvGraphicFramePr>
        <p:xfrm>
          <a:off x="533520" y="263520"/>
          <a:ext cx="6858000" cy="507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63520"/>
                    <a:ext cx="6858000" cy="50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8" name=""/>
          <p:cNvSpPr/>
          <p:nvPr/>
        </p:nvSpPr>
        <p:spPr>
          <a:xfrm>
            <a:off x="365040" y="5375160"/>
            <a:ext cx="74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RAN MINERIA:  desde   75.000 ton de Cobre fino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entas de 100 MUS al año   a 70 c/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9" name=""/>
          <p:cNvGraphicFramePr/>
          <p:nvPr/>
        </p:nvGraphicFramePr>
        <p:xfrm>
          <a:off x="533520" y="452520"/>
          <a:ext cx="716256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2520"/>
                    <a:ext cx="716256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"/>
          <p:cNvSpPr/>
          <p:nvPr/>
        </p:nvSpPr>
        <p:spPr>
          <a:xfrm>
            <a:off x="605160" y="5222880"/>
            <a:ext cx="736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8  DE  15  EMPRESAS     (53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DOTACION DE PERSONAL  DE   MANTEN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PERA EL  20 %    DE  LA DOTACION  TOT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2" name=""/>
          <p:cNvGraphicFramePr/>
          <p:nvPr/>
        </p:nvGraphicFramePr>
        <p:xfrm>
          <a:off x="762120" y="228600"/>
          <a:ext cx="731520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"/>
                    <a:ext cx="731520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4" name=""/>
          <p:cNvSpPr/>
          <p:nvPr/>
        </p:nvSpPr>
        <p:spPr>
          <a:xfrm>
            <a:off x="602640" y="5146560"/>
            <a:ext cx="769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6  DE  15  EMPRESAS     (40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10 %   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LAS VENT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5" name=""/>
          <p:cNvGraphicFramePr/>
          <p:nvPr/>
        </p:nvGraphicFramePr>
        <p:xfrm>
          <a:off x="609480" y="168120"/>
          <a:ext cx="8229600" cy="501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8120"/>
                    <a:ext cx="8229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7" name=""/>
          <p:cNvSpPr/>
          <p:nvPr/>
        </p:nvSpPr>
        <p:spPr>
          <a:xfrm>
            <a:off x="771840" y="5334120"/>
            <a:ext cx="793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7  DE  15  EMPRESAS     (47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L GASTO DE MANTENCION  SUPERA EL 20 %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STOS  DE  PRO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8" name=""/>
          <p:cNvGraphicFramePr/>
          <p:nvPr/>
        </p:nvGraphicFramePr>
        <p:xfrm>
          <a:off x="846000" y="299880"/>
          <a:ext cx="7320240" cy="481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299880"/>
                    <a:ext cx="7320240" cy="48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0" name=""/>
          <p:cNvSpPr/>
          <p:nvPr/>
        </p:nvSpPr>
        <p:spPr>
          <a:xfrm>
            <a:off x="289080" y="4994280"/>
            <a:ext cx="873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 10  DE  15  EMPRESAS     (66 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S  DEL  20 % DEL GASTO DE MANTENCION  SE EJ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 CONTRATISTA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"/>
          <p:cNvSpPr/>
          <p:nvPr/>
        </p:nvSpPr>
        <p:spPr>
          <a:xfrm>
            <a:off x="615960" y="1454040"/>
            <a:ext cx="281304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33520" y="4273560"/>
            <a:ext cx="273672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124080" y="2819520"/>
            <a:ext cx="281304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950080" y="1454040"/>
            <a:ext cx="2654280" cy="1892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873760" y="4273560"/>
            <a:ext cx="2654280" cy="18921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673200" y="2163600"/>
            <a:ext cx="2687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CONFI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943600" y="2209680"/>
            <a:ext cx="27241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9900"/>
                </a:solidFill>
                <a:latin typeface="Times New Roman"/>
              </a:rPr>
              <a:t>MANTEN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082560" y="4983120"/>
            <a:ext cx="201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SEGU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73840" y="3276720"/>
            <a:ext cx="26204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LOGRO  DE 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CONTINUIDAD 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33"/>
                </a:solidFill>
                <a:latin typeface="Times New Roman"/>
              </a:rPr>
              <a:t>FUN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36400" y="5105520"/>
            <a:ext cx="2756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9900"/>
                </a:solidFill>
                <a:latin typeface="Times New Roman"/>
              </a:rPr>
              <a:t>DISPON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V="1">
            <a:off x="57150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H="1" flipV="1">
            <a:off x="2971800" y="304776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971800" y="4343400"/>
            <a:ext cx="457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62720" y="4419720"/>
            <a:ext cx="5331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MODELO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 DEL  MANTENI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6" name=""/>
          <p:cNvGraphicFramePr/>
          <p:nvPr/>
        </p:nvGraphicFramePr>
        <p:xfrm>
          <a:off x="3048120" y="1290600"/>
          <a:ext cx="1828800" cy="9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290600"/>
                    <a:ext cx="1828800" cy="9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8" name=""/>
          <p:cNvGraphicFramePr/>
          <p:nvPr/>
        </p:nvGraphicFramePr>
        <p:xfrm>
          <a:off x="6450120" y="2514600"/>
          <a:ext cx="1726920" cy="102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50120" y="2514600"/>
                    <a:ext cx="172692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0" name=""/>
          <p:cNvSpPr/>
          <p:nvPr/>
        </p:nvSpPr>
        <p:spPr>
          <a:xfrm>
            <a:off x="7451280" y="760320"/>
            <a:ext cx="132192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ntidad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353040" y="1754280"/>
            <a:ext cx="31996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19360" y="2360520"/>
            <a:ext cx="12196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,  M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P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095880" y="3413160"/>
            <a:ext cx="297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RE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5394240" y="1217520"/>
            <a:ext cx="2911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FIABILIDAD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(t)  FALL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1840" y="1295640"/>
            <a:ext cx="5333760" cy="2285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323880" y="3122640"/>
            <a:ext cx="249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</a:t>
            </a:r>
            <a:r>
              <a:rPr b="1" lang="es-ES_tradnl" sz="1600" spc="-1" strike="noStrike">
                <a:solidFill>
                  <a:srgbClr val="000000"/>
                </a:solidFill>
                <a:latin typeface="Roman"/>
              </a:rPr>
              <a:t>t)  REPAR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2270880" y="1446120"/>
            <a:ext cx="15033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QUE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EC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ARA   L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8" name=""/>
          <p:cNvGraphicFramePr/>
          <p:nvPr/>
        </p:nvGraphicFramePr>
        <p:xfrm>
          <a:off x="457200" y="1724040"/>
          <a:ext cx="990720" cy="51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7240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0" name=""/>
          <p:cNvGraphicFramePr/>
          <p:nvPr/>
        </p:nvGraphicFramePr>
        <p:xfrm>
          <a:off x="228600" y="2409840"/>
          <a:ext cx="990720" cy="51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409840"/>
                    <a:ext cx="99072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2" name=""/>
          <p:cNvGraphicFramePr/>
          <p:nvPr/>
        </p:nvGraphicFramePr>
        <p:xfrm>
          <a:off x="990720" y="2638440"/>
          <a:ext cx="990360" cy="51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990720" y="2638440"/>
                    <a:ext cx="990360" cy="51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4" name=""/>
          <p:cNvSpPr/>
          <p:nvPr/>
        </p:nvSpPr>
        <p:spPr>
          <a:xfrm>
            <a:off x="64080" y="3274920"/>
            <a:ext cx="2321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QUIPO  DE  RESER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Cantidad  y  ubi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994800" y="4265640"/>
            <a:ext cx="209016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amaño  del  Ta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Equip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Dotación  de Pers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Ga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- Ter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8001000" y="1600200"/>
            <a:ext cx="533520" cy="838080"/>
          </a:xfrm>
          <a:prstGeom prst="line">
            <a:avLst/>
          </a:prstGeom>
          <a:ln w="50760">
            <a:solidFill>
              <a:srgbClr val="114ff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334120" y="5146560"/>
            <a:ext cx="1657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TOCK 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PAR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955320" y="6475320"/>
            <a:ext cx="4930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ALLERES  DE  REPARACION  DE 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302080" y="5073480"/>
            <a:ext cx="1492560" cy="825840"/>
          </a:xfrm>
          <a:prstGeom prst="rect">
            <a:avLst/>
          </a:prstGeom>
          <a:noFill/>
          <a:ln w="507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 flipH="1">
            <a:off x="6229080" y="4267080"/>
            <a:ext cx="533160" cy="762120"/>
          </a:xfrm>
          <a:prstGeom prst="line">
            <a:avLst/>
          </a:prstGeom>
          <a:ln w="50760">
            <a:solidFill>
              <a:srgbClr val="114ff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4863960" y="6197760"/>
            <a:ext cx="61596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816520" y="6197760"/>
            <a:ext cx="577800" cy="1774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6597720" y="6178680"/>
            <a:ext cx="691920" cy="19656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4724280" y="5657760"/>
            <a:ext cx="457200" cy="4572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 flipV="1">
            <a:off x="6769080" y="5838840"/>
            <a:ext cx="558720" cy="324000"/>
          </a:xfrm>
          <a:prstGeom prst="line">
            <a:avLst/>
          </a:prstGeom>
          <a:ln w="12600">
            <a:solidFill>
              <a:srgbClr val="cf0e3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7640" y="692280"/>
            <a:ext cx="135900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17320" y="4929120"/>
            <a:ext cx="20260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VERSION  E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QUIPOS  D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EMPLAZ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Rentabilidad 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Tasa  de 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480" y="4654440"/>
            <a:ext cx="3035160" cy="1282680"/>
          </a:xfrm>
          <a:custGeom>
            <a:avLst/>
            <a:gdLst>
              <a:gd name="textAreaLeft" fmla="*/ 692640 w 3035160"/>
              <a:gd name="textAreaRight" fmla="*/ 2342520 w 3035160"/>
              <a:gd name="textAreaTop" fmla="*/ 292680 h 1282680"/>
              <a:gd name="textAreaBottom" fmla="*/ 99000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 flipH="1" flipV="1">
            <a:off x="609480" y="3047760"/>
            <a:ext cx="152640" cy="190476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2104920" y="2908080"/>
            <a:ext cx="819360" cy="1726920"/>
          </a:xfrm>
          <a:prstGeom prst="line">
            <a:avLst/>
          </a:prstGeom>
          <a:ln w="50760">
            <a:solidFill>
              <a:srgbClr val="8901f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3035880" y="4494240"/>
            <a:ext cx="2931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PREVENCIÓN  DE  RIESG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4606920" y="3765600"/>
          <a:ext cx="557280" cy="730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606920" y="3765600"/>
                    <a:ext cx="5572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4" name=""/>
          <p:cNvGraphicFramePr/>
          <p:nvPr/>
        </p:nvGraphicFramePr>
        <p:xfrm>
          <a:off x="3581280" y="3859200"/>
          <a:ext cx="908280" cy="6494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0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81280" y="3859200"/>
                    <a:ext cx="9082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5113440" y="3454560"/>
          <a:ext cx="449280" cy="13525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50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13440" y="3454560"/>
                    <a:ext cx="44928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8" name=""/>
          <p:cNvSpPr/>
          <p:nvPr/>
        </p:nvSpPr>
        <p:spPr>
          <a:xfrm>
            <a:off x="3124080" y="990720"/>
            <a:ext cx="1981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1051920" y="3984480"/>
            <a:ext cx="1791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OLITICA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REEMPLAZO  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OVERHA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Clasificación de las actividade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ev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ventivo sistem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tenimiento Predi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Según el grado de programación de las actividade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de emer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preven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antenimiento correctivo no progra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tros trabaj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Trabajos de  manteni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pe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ju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m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aració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ubr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 flipH="1">
            <a:off x="2440080" y="2211480"/>
            <a:ext cx="1141200" cy="2208240"/>
          </a:xfrm>
          <a:prstGeom prst="line">
            <a:avLst/>
          </a:prstGeom>
          <a:ln w="507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440080" y="4343400"/>
            <a:ext cx="3351240" cy="0"/>
          </a:xfrm>
          <a:prstGeom prst="line">
            <a:avLst/>
          </a:prstGeom>
          <a:ln w="507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583080" y="2211480"/>
            <a:ext cx="2131920" cy="213192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57960" y="1477800"/>
            <a:ext cx="5875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ensamiento como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veedores + compradores +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elemento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65640" y="4373640"/>
            <a:ext cx="285804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lución integral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liente.  Producto espe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estandar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698000" y="4449600"/>
            <a:ext cx="3748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icionamiento del mej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.  </a:t>
            </a:r>
            <a:r>
              <a:rPr b="0" lang="es-ES_tradnl" sz="2000" spc="-1" strike="noStrike">
                <a:solidFill>
                  <a:srgbClr val="ccccff"/>
                </a:solidFill>
                <a:latin typeface="Times New Roman"/>
              </a:rPr>
              <a:t>Costo mas ba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para 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49160" y="365040"/>
            <a:ext cx="4953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YECTO “DELTA”   DEL  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8788320" cy="69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141840" y="220680"/>
            <a:ext cx="89967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ORES  QUE  CONTRIBUYEN  A  LA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Según  la  Norma  Francesa  AFNOR  x 60-50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5080" y="3078000"/>
            <a:ext cx="2241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2819520" y="1297080"/>
            <a:ext cx="0" cy="45702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879440" y="1141560"/>
            <a:ext cx="4002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STRICCIONES   DE OPT I M IZA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938840" y="2436840"/>
            <a:ext cx="1287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GIS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66880" y="2970360"/>
            <a:ext cx="1265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OLI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461640" y="2970360"/>
            <a:ext cx="1334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243760" y="4494240"/>
            <a:ext cx="1929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482360" y="5713560"/>
            <a:ext cx="1782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ONFI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5694840" y="1469880"/>
            <a:ext cx="2780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- 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sto  de  adqui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explo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osto  de  no  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555000" y="3375000"/>
            <a:ext cx="2795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es de mante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nt. Correctiva / Preven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Reordenam.  del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5040" y="3298680"/>
            <a:ext cx="251388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Documen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Capaci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Materiales de Manten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Nivel de inven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5160240" y="4898880"/>
            <a:ext cx="27255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de diagnóst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cces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Facilidades para el desa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398480" y="6041880"/>
            <a:ext cx="46382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Arquitec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Perfil  de  la  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-  Tasa  de  Fallas  y  duración  de  los  compon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820960" y="1295280"/>
            <a:ext cx="205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H="1">
            <a:off x="2820600" y="2590920"/>
            <a:ext cx="190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H="1">
            <a:off x="2820960" y="4648320"/>
            <a:ext cx="2208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2820600" y="5867280"/>
            <a:ext cx="1522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889520" y="1079640"/>
            <a:ext cx="3936960" cy="35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4889520" y="2374920"/>
            <a:ext cx="13460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3511440" y="2901960"/>
            <a:ext cx="13590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6330960" y="2901960"/>
            <a:ext cx="1511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194440" y="4508640"/>
            <a:ext cx="203184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432320" y="5727600"/>
            <a:ext cx="1879560" cy="279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486400" y="1449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505320" y="32018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324480" y="3278160"/>
            <a:ext cx="0" cy="10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5181480" y="4802040"/>
            <a:ext cx="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19720" y="6021360"/>
            <a:ext cx="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527760" y="166680"/>
            <a:ext cx="8125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408480" y="1325520"/>
            <a:ext cx="241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  TIEMPO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33520" y="2011320"/>
            <a:ext cx="8413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.1  TIEMPO  NECESARIO                         1.2  TIEMPO  NO  NECES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30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2806200" y="2665440"/>
            <a:ext cx="18158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FECTIV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092200" y="274176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1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149600" y="2620800"/>
            <a:ext cx="181584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2.2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TENCIAL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119160" y="4876920"/>
            <a:ext cx="2090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2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ESP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19160" y="3962520"/>
            <a:ext cx="20905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.1.1.1  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UNCION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320" y="3583080"/>
            <a:ext cx="0" cy="15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 flipV="1">
            <a:off x="77760" y="4268520"/>
            <a:ext cx="7452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7760" y="510552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1967760" y="4037040"/>
            <a:ext cx="1815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102920" y="4037040"/>
            <a:ext cx="26888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2   TIEMPO 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NO  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 CAUSAS  EXTER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978120" y="5484960"/>
            <a:ext cx="20962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1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NO DETEC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LA 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033720" y="548496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2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ESPERA  P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015880" y="5484960"/>
            <a:ext cx="204120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3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PIO  DE  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R  MANTEN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148520" y="5560920"/>
            <a:ext cx="18507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1.2 .1.4  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DE  REPOSIC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L   SERV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H="1">
            <a:off x="991800" y="2363760"/>
            <a:ext cx="53172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897280" y="2363760"/>
            <a:ext cx="6080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5792760" y="236376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16640" y="2440080"/>
            <a:ext cx="68436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2744640" y="3735360"/>
            <a:ext cx="53208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192560" y="3735360"/>
            <a:ext cx="98892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1754280" y="4802040"/>
            <a:ext cx="76032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2820960" y="4802040"/>
            <a:ext cx="106524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430440" y="4878360"/>
            <a:ext cx="22082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3811680" y="4878360"/>
            <a:ext cx="3960720" cy="60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"/>
          <p:cNvSpPr/>
          <p:nvPr/>
        </p:nvSpPr>
        <p:spPr>
          <a:xfrm>
            <a:off x="527040" y="166680"/>
            <a:ext cx="83642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IEMPOS  RELACIONADOS  CON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   GESTION  DE  LAS  MAQUIN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2725560" y="1325520"/>
            <a:ext cx="385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  TIEMPO  DE  MANTEN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 flipH="1">
            <a:off x="1754280" y="1677960"/>
            <a:ext cx="167472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792760" y="1601640"/>
            <a:ext cx="137016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533520" y="2011320"/>
            <a:ext cx="8413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  Tiempo de Mantención                             2.2  Tiempo de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ventiva                                                           corr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3360" y="3078000"/>
            <a:ext cx="49993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2.1.1 Tiempo de               2.1.2  Tiemp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tención                      Mant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stemática                       Condicion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04760" y="4419720"/>
            <a:ext cx="896004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2.1.1.1              2.1.1.2               2.1.2.1            2.1.2.2                 2.2.1                       2.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Activo de         Anexo  de          Activo  de      Anexo  de           Activo  de               Anexo  de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ntención     mantención       mantención     mantención         mantención             manten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sistemática       sistemática        condicional     condicional         correctiva                correc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logística                                 -  logística           -  ubicac.falla          - administ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preparación                            -  preparación      -  diagnóstico          - logís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reparación           - téc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-  verificación         - prep.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flipH="1">
            <a:off x="1144080" y="2668680"/>
            <a:ext cx="68436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211480" y="2668680"/>
            <a:ext cx="106524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>
            <a:off x="53496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73040" y="4040280"/>
            <a:ext cx="37944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3430080" y="4040280"/>
            <a:ext cx="22716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4116240" y="4116240"/>
            <a:ext cx="379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6249600" y="2744640"/>
            <a:ext cx="98892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7697880" y="2744640"/>
            <a:ext cx="684000" cy="167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5" name=""/>
          <p:cNvGraphicFramePr/>
          <p:nvPr/>
        </p:nvGraphicFramePr>
        <p:xfrm>
          <a:off x="304920" y="609480"/>
          <a:ext cx="3657600" cy="55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3657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"/>
          <p:cNvSpPr/>
          <p:nvPr/>
        </p:nvSpPr>
        <p:spPr>
          <a:xfrm>
            <a:off x="433440" y="544680"/>
            <a:ext cx="844848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BAJO DE GRUPO Nª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NTEGRACION DEL MANTENIMIENTO DENTRO DEL SISTEMA DE LA EMPRESA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las empresas representadas en el Grup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 grado de coordinación existe  entre  Operaciones y Mantención?      BUENO ...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R......    MALO....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actica la relación  Cliente - Servidor   SI......NO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o  se detecta la satisfacción  del Client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 u  observaciones verbales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 reclamos u  observaciones formales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que lleva mantención..................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edio de indicad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leva operaciones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é  indicadores?   mencione uno.......................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-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 el  Diagrama adjunto llamado  “Tiempos relacionad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nción  y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stión  de  las  Máquinas”   indique  los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mpos  que  se dan  hoy  en su empresa  para una máquin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ìtica de la plan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que el valor  de la hora de detención:  USA $..............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cule el valor del item 1.1.2  “Tiempo efectivo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que el ahorro posible mejorando los tiempos de no 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oni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6840" y="1461960"/>
            <a:ext cx="718164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FNOR  NF  X  60-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junto de acciones que permiten conservar 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tablecer un bien a un estado especifi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 a una situación tal  que pueda asegurar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ervicio determinado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2520" y="3747960"/>
            <a:ext cx="780804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S  38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binación de todas las acciones técnicas 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ministrativas asociadas tendientes a conservar 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tem o restablecerlo a un estado tal que pueda real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función requerid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ta:  la función requerida puede ser definida c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una condición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47440" y="258840"/>
            <a:ext cx="3951000" cy="11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4320" y="1461960"/>
            <a:ext cx="82393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MIL  - STD  -  721 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odas  las  acciones  necesarias para conservar un í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un estado especificado o restablecerlo a é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8800" y="3062160"/>
            <a:ext cx="8833680" cy="30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ORGANIZACION EUROPEA DE  MANTENI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empresarial a la que se encomienda e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stante  de las instalaciones así como el conjunto de l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bajos de reparación y revisión necesarios para garantiz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funcionamiento regular y el buen estado de conserv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as instalaciones productivas, servicios e instru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los establecimient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5920" y="396720"/>
            <a:ext cx="87346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sta hace poco se decí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El  OBJETIVO   DE  MANTENCION  e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DISPONIBILIDAD  al Costo mín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Hoy, el MANTENIMIENTO</a:t>
            </a:r>
            <a:r>
              <a:rPr b="0" lang="es-ES_tradnl" sz="2800" spc="-1" strike="noStrike">
                <a:solidFill>
                  <a:srgbClr val="ccccff"/>
                </a:solidFill>
                <a:latin typeface="Times New Roman"/>
              </a:rPr>
              <a:t>,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be  integrar otros  aspect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ndimiento de la activ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segu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integridad del medio amb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eficacia energé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calidad del producto y del servicio a lo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3300"/>
                </a:solidFill>
                <a:latin typeface="Times New Roman"/>
              </a:rPr>
              <a:t>El   rendimiento  de  la función  mantenimiento  tiene relación  con cinco áreas de  gest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pacidad de rea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lexi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29120" y="101520"/>
            <a:ext cx="758412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ONTROL   OPERACIONAL   DE   LA    PLANT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31600" y="520560"/>
            <a:ext cx="2131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es-ES_tradnl" sz="2700" spc="-1" strike="noStrike">
                <a:solidFill>
                  <a:srgbClr val="ff0000"/>
                </a:solidFill>
                <a:latin typeface="Times New Roman"/>
              </a:rPr>
              <a:t>C. O .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34240" y="3938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34240" y="397656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424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922720" y="4052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21280" y="4078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21280" y="411624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909760" y="41544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89716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96080" y="42181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5884560" y="4255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87232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859000" y="4319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84640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83380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820840" y="4421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808240" y="4446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5795640" y="44845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70440" y="45100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75748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744880" y="45734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719680" y="4611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569448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5681160" y="4662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5656320" y="4700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563076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5617800" y="47512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592240" y="47768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567400" y="48020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54184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51664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49108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65880" y="49039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427360" y="49291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40216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376960" y="4979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338440" y="50054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13240" y="5030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88040" y="5043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249520" y="50688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223960" y="508176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186160" y="5106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60960" y="5119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122800" y="5145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08464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046480" y="5183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5021280" y="519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983120" y="52084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94496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906800" y="5234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868640" y="52466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843440" y="525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805280" y="5272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4767120" y="52848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728960" y="52974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69080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640400" y="5310360"/>
            <a:ext cx="489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60188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563720" y="5322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5259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487760" y="5335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44496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1144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4361040" y="53467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32252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28436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4246200" y="5346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208400" y="5346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157280" y="53467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119480" y="53352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081320" y="53341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4043160" y="5322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005000" y="53211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966840" y="53103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928680" y="53085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890880" y="52970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3852720" y="5284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814560" y="5271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776400" y="5258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738240" y="52462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700080" y="5233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662280" y="52214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637080" y="520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98560" y="5195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560400" y="5182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522600" y="515772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497400" y="5144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3458880" y="511920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3433680" y="5106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395520" y="508176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370320" y="506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331800" y="504360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306240" y="50302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3281400" y="50054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3242880" y="49798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218040" y="4954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192480" y="4929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166560" y="49039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3141720" y="487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3116160" y="4853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090960" y="48276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065400" y="48016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3040200" y="47768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3014640" y="4751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298944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 flipV="1">
            <a:off x="297612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951280" y="466236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2925720" y="4637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912760" y="46116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2887560" y="457344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2874600" y="4548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862000" y="450972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2836800" y="44841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823840" y="44463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2811600" y="44211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2798280" y="4383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2785680" y="4357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773080" y="4319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2760840" y="42940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759040" y="42559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747520" y="421776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734920" y="41925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733840" y="415440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2722320" y="41162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720880" y="407808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2720880" y="4052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20880" y="4014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709360" y="39765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708280" y="39384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2708280" y="3900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709720" y="38620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72088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720880" y="37987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720880" y="37605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2722680" y="37224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33840" y="36972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3528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2747880" y="36208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2759040" y="35956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276084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277344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278604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798640" y="3455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811600" y="3430080"/>
            <a:ext cx="1080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824200" y="33922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836800" y="3367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62360" y="33289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87496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87560" y="32781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913120" y="324000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92572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951280" y="31892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976480" y="315108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98944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014640" y="31003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3040200" y="30751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3065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9096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11616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41720" y="297288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166920" y="294804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92480" y="29224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321804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243240" y="287172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3281400" y="28587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3306600" y="28332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3332160" y="280836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3370320" y="27957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3395520" y="27702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433680" y="2757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459240" y="27320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3497400" y="2719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260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56076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598920" y="26683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637080" y="2655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662280" y="2642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3700440" y="26301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738600" y="26175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776760" y="2604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14920" y="2592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852720" y="25794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90880" y="25779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392904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3967200" y="2553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0536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4043520" y="25412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0813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11948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157640" y="25286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08400" y="252720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4656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8472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2288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61040" y="252720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11800" y="252720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49600" y="2529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8776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25920" y="25401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64080" y="2541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02240" y="25527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640400" y="25542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91160" y="25671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29320" y="257796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67120" y="25797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805280" y="25923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843440" y="260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69000" y="2617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06800" y="26305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44960" y="26431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83120" y="2655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1280" y="2668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046840" y="26812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84640" y="270684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22800" y="27194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0960" y="2732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186520" y="275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24320" y="277020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49880" y="2795760"/>
            <a:ext cx="363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88040" y="2808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13240" y="283356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8800" y="28591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76960" y="2871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02160" y="28972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27720" y="292248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65880" y="29480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91080" y="297324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516640" y="2998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41840" y="3024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67400" y="30495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92600" y="30751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18160" y="31003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0760" y="31258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56320" y="315108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681520" y="3189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694480" y="32148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719680" y="324000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45240" y="3278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57840" y="330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70440" y="33289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6000" y="3367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08600" y="33926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21200" y="343044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834160" y="345600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46760" y="34941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9360" y="351936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72320" y="3557520"/>
            <a:ext cx="1080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4920" y="35956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96080" y="36212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97520" y="365904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10120" y="3697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21280" y="372276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21280" y="376092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23080" y="37987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934240" y="38368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34240" y="386244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34240" y="39006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17560" y="2801880"/>
            <a:ext cx="1209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17560" y="2992320"/>
            <a:ext cx="133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18280" y="3182760"/>
            <a:ext cx="1533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  LA  PLANT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17560" y="3360600"/>
            <a:ext cx="3754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51280" y="3492360"/>
            <a:ext cx="2678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630760" y="349236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9548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95480" y="1182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08396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8252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071720" y="12063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992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105840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5732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1045800" y="1233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103320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102024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00764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995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969840" y="1270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956880" y="1271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94428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919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906120" y="1284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880560" y="12952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86796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843120" y="1297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81756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80460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779400" y="13096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75420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7286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70344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6778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626760" y="13222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636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25600" y="13334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474840" y="132192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44928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423360" y="13208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9852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72960" y="1320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347760" y="1309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34440" y="1308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09600" y="1308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284040" y="1296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7108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46240" y="12952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232920" y="1283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08080" y="12826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194760" y="1282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169920" y="1271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57320" y="1270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144000" y="1258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131400" y="1257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 flipV="1">
            <a:off x="118800" y="1245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105840" y="1244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93240" y="123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9216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80640" y="1219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8400" y="12078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660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508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400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4000" y="1169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4000" y="1157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544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6600" y="1144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666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40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00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93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20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11916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1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443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73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169920" y="10681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5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20808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332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6240" y="1054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7144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8404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960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34800" y="1029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477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296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9852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3720" y="10288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49280" y="1017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84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560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6360" y="101592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7120" y="10159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78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3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86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42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794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0496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756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4312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6832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80920" y="1054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90648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19080" y="1055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94464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5724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69840" y="1079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9954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008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206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3356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04616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058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1720" y="11318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08252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843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95480" y="1157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530440" y="1068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30440" y="1081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251892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517840" y="1093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H="1">
            <a:off x="25063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24937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48076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46816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24555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2443320" y="1144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24300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241740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2391840" y="115740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37924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2366640" y="1170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341440" y="1181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2316240" y="1182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2303640" y="1193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227808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252160" y="11937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>
            <a:off x="2239560" y="11955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221472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18916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2163240" y="1206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138400" y="1208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21128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206172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201096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196020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1909440" y="121932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1884240" y="12193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1859040" y="1207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18334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808280" y="1206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1794960" y="1206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770120" y="1195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7445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719360" y="1193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1706040" y="1193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 flipV="1">
            <a:off x="1681200" y="1182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668600" y="1181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1643040" y="1169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1630080" y="1168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1617840" y="1157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160452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15796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 flipV="1">
            <a:off x="156636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15537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 flipV="1">
            <a:off x="154116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539720" y="1118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152892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flipV="1">
            <a:off x="15156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15030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1501920" y="1080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149040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488960" y="1055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907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150192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50192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50336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514520" y="1017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5159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1528920" y="10044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154152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541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1566720" y="97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1579680" y="966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60488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17840" y="965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3044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3040" y="952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1668600" y="9410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8120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70640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1719360" y="928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74456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7701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7953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80828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83348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8590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842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90980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6056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01132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62080" y="91440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11284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138400" y="914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163600" y="914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89160" y="915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214720" y="927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2399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52520" y="927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278080" y="928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30364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316240" y="939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341440" y="941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6700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79600" y="954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392200" y="9651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41776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3036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443320" y="9795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455920" y="9907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468520" y="992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81120" y="1003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49228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4940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06680" y="1017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1928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30440" y="1042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53044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876840" y="1004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876840" y="1017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865320" y="1030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852360" y="1042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851280" y="1055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38397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382716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3814920" y="10796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380160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7890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377640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376344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3738600" y="1106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37260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371268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687840" y="1119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675240" y="1130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3649680" y="1131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623760" y="1143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611160" y="1143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3586320" y="1144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56076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534840" y="1155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351000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34844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34592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3408480" y="115740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3357720" y="1168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>
            <a:off x="3306240" y="1168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3255480" y="11570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323064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2050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17988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3154320" y="1155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H="1">
            <a:off x="3141360" y="1155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 flipV="1">
            <a:off x="3116160" y="1144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309096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3065400" y="1143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052440" y="1131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3027240" y="1130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 flipV="1">
            <a:off x="301428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2989440" y="1117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976120" y="1117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96352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2950920" y="1104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 flipV="1">
            <a:off x="2925720" y="1093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91276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2900520" y="108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887200" y="1079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886120" y="1068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87460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 flipV="1">
            <a:off x="2862000" y="105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2860560" y="1042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284904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847960" y="1029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283644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2835360" y="1004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2836800" y="99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2847960" y="979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2849400" y="966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862360" y="95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7496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V="1">
            <a:off x="2886120" y="941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887560" y="939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900520" y="9284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1312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925720" y="915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5128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963880" y="902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6480" y="901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2989440" y="890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014640" y="888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272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V="1">
            <a:off x="3052800" y="8780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6540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0909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11616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3141720" y="864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5432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1798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20508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2306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3255840" y="85212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306600" y="8510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357720" y="8510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408480" y="852480"/>
            <a:ext cx="489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4592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48444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510000" y="863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35200" y="8636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560760" y="865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586320" y="876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611520" y="876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624120" y="87624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649680" y="878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75240" y="888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687840" y="888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13040" y="890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726000" y="901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738600" y="903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63800" y="914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76760" y="915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789360" y="927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01960" y="928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4920" y="939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827520" y="941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840120" y="952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851280" y="954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852720" y="9651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863880" y="9669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65680" y="979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76840" y="992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146240" y="4014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146240" y="4027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134720" y="4038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33640" y="4040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1122120" y="40514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20680" y="4052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1109160" y="4065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1096560" y="40766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1083960" y="40784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1071720" y="40892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58400" y="4091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1045800" y="4102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1033200" y="41036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1008000" y="4114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99504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982800" y="4116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957240" y="412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944280" y="4129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9190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9388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880560" y="414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8557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8301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80496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79400" y="415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75420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>
            <a:off x="7286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67752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626760" y="416556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57636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525600" y="416556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000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474840" y="41655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449280" y="4154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423360" y="415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410760" y="415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85920" y="41529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360360" y="4141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47400" y="4140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22200" y="41403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297000" y="4128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H="1">
            <a:off x="283680" y="412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58840" y="4115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H="1">
            <a:off x="246240" y="4114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232920" y="41148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 flipV="1">
            <a:off x="220320" y="4103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194760" y="4102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182160" y="4090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169560" y="4089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157320" y="40784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 flipV="1">
            <a:off x="144000" y="406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H="1" flipV="1">
            <a:off x="131400" y="405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 flipV="1">
            <a:off x="118800" y="4039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17360" y="4026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 flipV="1">
            <a:off x="105840" y="4014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104760" y="4001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6200" y="4000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117360" y="3989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117360" y="39762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19160" y="3975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130320" y="3963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31760" y="3962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144360" y="3951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57320" y="393876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9920" y="3936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82520" y="3925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5120" y="39243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220680" y="3912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33280" y="3911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46240" y="39002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58840" y="38988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284040" y="3887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2970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2220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47760" y="3874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603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859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111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3720" y="38620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4928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748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000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560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6360" y="3860640"/>
            <a:ext cx="4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2712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77880" y="3860640"/>
            <a:ext cx="4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2864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542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79400" y="3860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04960" y="3862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83016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55720" y="3873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880920" y="3873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893880" y="3875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919080" y="3886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944640" y="3886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57240" y="3887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982800" y="38988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995400" y="3900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008000" y="39117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033560" y="3913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046160" y="3924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058760" y="3925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71720" y="39369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84320" y="39387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1096920" y="3949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1109520" y="3951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122480" y="3963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135080" y="3976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146240" y="3989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146240" y="4002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23800" y="2616120"/>
            <a:ext cx="1258920" cy="700200"/>
          </a:xfrm>
          <a:custGeom>
            <a:avLst/>
            <a:gdLst/>
            <a:ahLst/>
            <a:rect l="l" t="t" r="r" b="b"/>
            <a:pathLst>
              <a:path w="793" h="441">
                <a:moveTo>
                  <a:pt x="0" y="0"/>
                </a:moveTo>
                <a:lnTo>
                  <a:pt x="792" y="0"/>
                </a:lnTo>
                <a:lnTo>
                  <a:pt x="792" y="440"/>
                </a:lnTo>
                <a:lnTo>
                  <a:pt x="0" y="44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561960" y="5397480"/>
            <a:ext cx="1495440" cy="776160"/>
          </a:xfrm>
          <a:custGeom>
            <a:avLst/>
            <a:gdLst/>
            <a:ahLst/>
            <a:rect l="l" t="t" r="r" b="b"/>
            <a:pathLst>
              <a:path w="849" h="489">
                <a:moveTo>
                  <a:pt x="0" y="0"/>
                </a:moveTo>
                <a:lnTo>
                  <a:pt x="848" y="0"/>
                </a:lnTo>
                <a:lnTo>
                  <a:pt x="848" y="488"/>
                </a:lnTo>
                <a:lnTo>
                  <a:pt x="0" y="488"/>
                </a:lnTo>
                <a:lnTo>
                  <a:pt x="0" y="0"/>
                </a:lnTo>
              </a:path>
            </a:pathLst>
          </a:custGeom>
          <a:solidFill>
            <a:srgbClr val="cee17d"/>
          </a:solidFill>
          <a:ln cap="rnd"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835360" y="601992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17960" y="584208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734160" y="5727600"/>
            <a:ext cx="1258920" cy="763560"/>
          </a:xfrm>
          <a:custGeom>
            <a:avLst/>
            <a:gdLst/>
            <a:ahLst/>
            <a:rect l="l" t="t" r="r" b="b"/>
            <a:pathLst>
              <a:path w="793" h="481">
                <a:moveTo>
                  <a:pt x="0" y="0"/>
                </a:moveTo>
                <a:lnTo>
                  <a:pt x="792" y="0"/>
                </a:lnTo>
                <a:lnTo>
                  <a:pt x="792" y="480"/>
                </a:lnTo>
                <a:lnTo>
                  <a:pt x="0" y="48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888048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88048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880480" y="509436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868960" y="51195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867880" y="514512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>
            <a:off x="8856360" y="517032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8844120" y="51958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H="1">
            <a:off x="883080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H="1">
            <a:off x="88182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805600" y="527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879264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H="1">
            <a:off x="8780040" y="53103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8755200" y="5335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8741880" y="53481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H="1">
            <a:off x="8717040" y="53737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8704440" y="5398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8678880" y="5411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8652960" y="54244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862812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8602560" y="5462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8577360" y="54752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8551800" y="5487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8526600" y="55008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8501040" y="5513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8462880" y="55260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843768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8412120" y="5538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8373960" y="5551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834876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H="1">
            <a:off x="831024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828504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flipH="1">
            <a:off x="824688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822168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8183520" y="556272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8158320" y="55627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8119800" y="556272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 flipV="1">
            <a:off x="8094600" y="55512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8056440" y="5538960"/>
            <a:ext cx="36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8031240" y="5537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8005680" y="55256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80480" y="5513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 flipV="1">
            <a:off x="7941960" y="55004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H="1" flipV="1">
            <a:off x="7916760" y="5487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 flipH="1" flipV="1">
            <a:off x="7891560" y="5474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 flipV="1">
            <a:off x="7866000" y="5462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 flipV="1">
            <a:off x="7840800" y="54500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7827480" y="54244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 flipV="1">
            <a:off x="7802640" y="5411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7777080" y="5398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7764120" y="53737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7738560" y="5347800"/>
            <a:ext cx="241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7725960" y="5335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7701120" y="53103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7687800" y="52848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H="1" flipV="1">
            <a:off x="7675200" y="527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flipH="1" flipV="1">
            <a:off x="7662600" y="52466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7649640" y="5221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7637040" y="51958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V="1">
            <a:off x="7635960" y="5169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7624440" y="51451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7623000" y="51192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 flipV="1">
            <a:off x="7612200" y="50943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V="1">
            <a:off x="7610400" y="50688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7610400" y="504360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761040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761040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 flipV="1">
            <a:off x="7612200" y="496728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7623000" y="4929120"/>
            <a:ext cx="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7624800" y="4916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635960" y="489060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7637400" y="486576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765000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76629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76755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768816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7701120" y="4750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V="1">
            <a:off x="7726320" y="472608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7738920" y="470052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 flipV="1">
            <a:off x="7764480" y="4687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7777080" y="4674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 flipV="1">
            <a:off x="780264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827840" y="4636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 flipV="1">
            <a:off x="784080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786600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V="1">
            <a:off x="7891560" y="458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916760" y="45730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V="1">
            <a:off x="7942320" y="4560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8048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8005680" y="45478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803124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056440" y="45338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V="1">
            <a:off x="8094600" y="4522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120160" y="45212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8158320" y="4509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183520" y="4508640"/>
            <a:ext cx="3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22168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8247240" y="45086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285040" y="45086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10600" y="45100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8760" y="45212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73960" y="452268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412120" y="45338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437680" y="453564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462880" y="45482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8501040" y="4559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8526600" y="456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8551800" y="45734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577360" y="4586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8602560" y="45990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8628120" y="46245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653320" y="463716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678880" y="464976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8704440" y="46753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8717040" y="4687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8742240" y="470052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8755200" y="47260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8780400" y="47512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8793000" y="47642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8805960" y="4789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8818560" y="48150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831160" y="484020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844120" y="4865760"/>
            <a:ext cx="1080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856720" y="4890960"/>
            <a:ext cx="111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8867880" y="4916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869320" y="4929120"/>
            <a:ext cx="111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8880480" y="496728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880480" y="49928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880480" y="5018040"/>
            <a:ext cx="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861240" y="2933640"/>
            <a:ext cx="27000" cy="90720"/>
          </a:xfrm>
          <a:custGeom>
            <a:avLst/>
            <a:gdLst/>
            <a:ahLst/>
            <a:rect l="l" t="t" r="r" b="b"/>
            <a:pathLst>
              <a:path w="17" h="57">
                <a:moveTo>
                  <a:pt x="0" y="0"/>
                </a:moveTo>
                <a:lnTo>
                  <a:pt x="16" y="0"/>
                </a:lnTo>
                <a:lnTo>
                  <a:pt x="16" y="56"/>
                </a:lnTo>
                <a:lnTo>
                  <a:pt x="0" y="5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848640" y="2959200"/>
            <a:ext cx="1220760" cy="547560"/>
          </a:xfrm>
          <a:custGeom>
            <a:avLst/>
            <a:gdLst/>
            <a:ahLst/>
            <a:rect l="l" t="t" r="r" b="b"/>
            <a:pathLst>
              <a:path w="769" h="345">
                <a:moveTo>
                  <a:pt x="0" y="0"/>
                </a:moveTo>
                <a:lnTo>
                  <a:pt x="768" y="0"/>
                </a:lnTo>
                <a:lnTo>
                  <a:pt x="768" y="344"/>
                </a:lnTo>
                <a:lnTo>
                  <a:pt x="0" y="34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394400" y="3365640"/>
            <a:ext cx="1221120" cy="636480"/>
          </a:xfrm>
          <a:custGeom>
            <a:avLst/>
            <a:gdLst/>
            <a:ahLst/>
            <a:rect l="l" t="t" r="r" b="b"/>
            <a:pathLst>
              <a:path w="769" h="401">
                <a:moveTo>
                  <a:pt x="0" y="0"/>
                </a:moveTo>
                <a:lnTo>
                  <a:pt x="768" y="0"/>
                </a:lnTo>
                <a:lnTo>
                  <a:pt x="768" y="400"/>
                </a:lnTo>
                <a:lnTo>
                  <a:pt x="0" y="40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108080" y="1233360"/>
            <a:ext cx="0" cy="95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1476360" y="1131840"/>
            <a:ext cx="0" cy="7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517840" y="11318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517840" y="190656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476360" y="1944720"/>
            <a:ext cx="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2506320" y="1995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93720" y="1982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2492280" y="1969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92160" y="1195560"/>
            <a:ext cx="0" cy="9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5440" y="209700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06200" y="2135160"/>
            <a:ext cx="2527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60360" y="2236680"/>
            <a:ext cx="227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8896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01560" y="2261880"/>
            <a:ext cx="2145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817560" y="2223720"/>
            <a:ext cx="11268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932040" y="2198160"/>
            <a:ext cx="99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1033560" y="216036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096920" y="214740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83536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876840" y="1055520"/>
            <a:ext cx="0" cy="79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836800" y="181764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2913120" y="1906560"/>
            <a:ext cx="30312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3218040" y="2021040"/>
            <a:ext cx="31572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3535200" y="1855800"/>
            <a:ext cx="30348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3840120" y="1817640"/>
            <a:ext cx="619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515960" y="199548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528920" y="2033640"/>
            <a:ext cx="489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579680" y="2058840"/>
            <a:ext cx="22680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1808280" y="213480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2189160" y="1995480"/>
            <a:ext cx="30312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2494080" y="1969560"/>
            <a:ext cx="363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6494040" y="1258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92960" y="12715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92960" y="1284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92960" y="129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H="1">
            <a:off x="6481440" y="1309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480000" y="13222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6469200" y="1335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6455880" y="1347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54800" y="1360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H="1">
            <a:off x="6443280" y="1371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H="1">
            <a:off x="6430680" y="1373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H="1">
            <a:off x="6418440" y="138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H="1">
            <a:off x="6405120" y="1398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639252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6379920" y="1411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636696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H="1">
            <a:off x="635436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6341760" y="143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6329520" y="14479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6316200" y="1449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6291360" y="14605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6278040" y="1461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6265440" y="14731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624060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6227280" y="147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620244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6189840" y="14860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616428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615132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612612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611316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608796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607500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6049440" y="148608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603684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6012000" y="14860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5998680" y="1486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5973840" y="1474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5961240" y="147312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5935680" y="14731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H="1" flipV="1">
            <a:off x="5922720" y="1461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5909760" y="14605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 flipV="1">
            <a:off x="5897160" y="1449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 flipH="1">
            <a:off x="5872320" y="1447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 flipV="1">
            <a:off x="5859000" y="1436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5846400" y="14241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>
            <a:off x="5833800" y="14223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H="1" flipV="1">
            <a:off x="5820840" y="1410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>
            <a:off x="5808240" y="1409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 flipH="1" flipV="1">
            <a:off x="5795640" y="1398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 flipV="1">
            <a:off x="5783400" y="1385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5770080" y="137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 flipV="1">
            <a:off x="5757480" y="136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5744880" y="1347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5743440" y="13352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 flipV="1">
            <a:off x="5732640" y="13219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 flipV="1">
            <a:off x="5730840" y="1309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5730840" y="1296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H="1">
            <a:off x="5719320" y="1295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5718240" y="128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V="1">
            <a:off x="5718240" y="1271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 flipV="1">
            <a:off x="5718240" y="1258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 flipV="1">
            <a:off x="5718240" y="12459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5718240" y="1233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5718240" y="122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5719680" y="1207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573084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5730840" y="11822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5732640" y="1169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5745240" y="1157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757840" y="114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5769000" y="113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770440" y="11188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78340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579600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5808600" y="109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82120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5834160" y="1080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846760" y="1068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585936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5872320" y="10551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89752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5910120" y="104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592308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935680" y="10414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961240" y="10299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9738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990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200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37200" y="1017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49800" y="101592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07536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08796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11352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26120" y="101592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151680" y="10159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164280" y="10177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89840" y="102888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202440" y="102888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227640" y="10288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240600" y="10303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2658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78400" y="1041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291360" y="10429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316560" y="10540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329520" y="1055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42120" y="10666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354720" y="106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367320" y="1081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380280" y="10922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392880" y="1093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405480" y="1106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6418440" y="1117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6431040" y="1119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443640" y="1131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6454800" y="1144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56240" y="115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469200" y="11685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80000" y="11700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6481800" y="11826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6492960" y="1195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492960" y="1208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492960" y="1220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492960" y="1233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494400" y="1246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H="1" flipV="1">
            <a:off x="6303960" y="1690200"/>
            <a:ext cx="13824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H="1" flipV="1">
            <a:off x="6265800" y="167760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 flipV="1">
            <a:off x="6214680" y="165276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6138720" y="160128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 flipV="1">
            <a:off x="6100560" y="15886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 flipV="1">
            <a:off x="6087600" y="1525680"/>
            <a:ext cx="111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 flipV="1">
            <a:off x="6062760" y="15123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6062760" y="13860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6087960" y="1360440"/>
            <a:ext cx="111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6100920" y="1297080"/>
            <a:ext cx="871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6189840" y="127152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265800" y="125856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03960" y="1258920"/>
            <a:ext cx="353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6659640" y="127152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684840" y="129708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35600" y="1309680"/>
            <a:ext cx="241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761160" y="1335240"/>
            <a:ext cx="6192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811560" y="1424160"/>
            <a:ext cx="11160" cy="13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6773760" y="156384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H="1">
            <a:off x="6760800" y="1589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H="1">
            <a:off x="6684840" y="1601640"/>
            <a:ext cx="74880" cy="4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H="1">
            <a:off x="6608520" y="1652760"/>
            <a:ext cx="745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 flipH="1">
            <a:off x="6570360" y="167796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 flipH="1">
            <a:off x="6443640" y="1690560"/>
            <a:ext cx="1252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 flipH="1" flipV="1">
            <a:off x="6608520" y="1893600"/>
            <a:ext cx="1760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6558120" y="1855440"/>
            <a:ext cx="489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 flipV="1">
            <a:off x="6506640" y="1842840"/>
            <a:ext cx="493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 flipV="1">
            <a:off x="6481800" y="181764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405120" y="172836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 flipV="1">
            <a:off x="6405480" y="1589040"/>
            <a:ext cx="23760" cy="13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6431040" y="15638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469200" y="1550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V="1">
            <a:off x="6481800" y="1487520"/>
            <a:ext cx="745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 flipV="1">
            <a:off x="6558120" y="1474560"/>
            <a:ext cx="745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V="1">
            <a:off x="6634080" y="14616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659640" y="1461960"/>
            <a:ext cx="328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989760" y="1474920"/>
            <a:ext cx="6192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053120" y="151272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078680" y="1525680"/>
            <a:ext cx="100080" cy="11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7155000" y="1639800"/>
            <a:ext cx="237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7053120" y="176688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6989760" y="18558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 flipH="1">
            <a:off x="6951600" y="18684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 flipH="1">
            <a:off x="6786720" y="189396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 flipV="1">
            <a:off x="6989400" y="2109960"/>
            <a:ext cx="15084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 flipH="1" flipV="1">
            <a:off x="6951600" y="209664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 flipH="1" flipV="1">
            <a:off x="691344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6888240" y="20584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6849720" y="2033640"/>
            <a:ext cx="363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6760800" y="1931760"/>
            <a:ext cx="87480" cy="99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6761160" y="1805040"/>
            <a:ext cx="111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6773760" y="1716120"/>
            <a:ext cx="11268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6888240" y="1690200"/>
            <a:ext cx="489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V="1">
            <a:off x="6939000" y="16776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977160" y="1677960"/>
            <a:ext cx="379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1690560"/>
            <a:ext cx="4932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7408800" y="1728720"/>
            <a:ext cx="367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7446960" y="1741320"/>
            <a:ext cx="7452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>
            <a:off x="7497720" y="1843200"/>
            <a:ext cx="2376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>
            <a:off x="7396200" y="1969920"/>
            <a:ext cx="10008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 flipH="1">
            <a:off x="7357680" y="205884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7319880" y="2071800"/>
            <a:ext cx="367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H="1">
            <a:off x="7205400" y="2097000"/>
            <a:ext cx="112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7142040" y="2109960"/>
            <a:ext cx="619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 flipV="1">
            <a:off x="7319880" y="2312640"/>
            <a:ext cx="16344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 flipH="1" flipV="1">
            <a:off x="7281720" y="2287080"/>
            <a:ext cx="3672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 flipH="1" flipV="1">
            <a:off x="7243560" y="22744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H="1" flipV="1">
            <a:off x="7205400" y="226188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 flipV="1">
            <a:off x="7180200" y="223668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 flipH="1" flipV="1">
            <a:off x="7103880" y="2147400"/>
            <a:ext cx="7452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7104240" y="1995120"/>
            <a:ext cx="10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7116840" y="19825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 flipV="1">
            <a:off x="7155000" y="19695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 flipV="1">
            <a:off x="718020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7243920" y="1893600"/>
            <a:ext cx="619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7307280" y="1868400"/>
            <a:ext cx="23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7332840" y="1868400"/>
            <a:ext cx="36648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701120" y="189396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26320" y="1906560"/>
            <a:ext cx="619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790040" y="1969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27840" y="1982880"/>
            <a:ext cx="237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7853400" y="2021040"/>
            <a:ext cx="111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7853040" y="2058840"/>
            <a:ext cx="11160" cy="12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7814880" y="218592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7790040" y="2198520"/>
            <a:ext cx="23760" cy="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7738560" y="223668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7687800" y="2262240"/>
            <a:ext cx="4932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7598880" y="2287440"/>
            <a:ext cx="8748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 flipH="1">
            <a:off x="7561080" y="2313000"/>
            <a:ext cx="363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>
            <a:off x="7484760" y="2324160"/>
            <a:ext cx="74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8232840" y="22874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8232840" y="23004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H="1">
            <a:off x="8221320" y="2313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8220240" y="23256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822024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8208720" y="2351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8207280" y="2363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8195760" y="23763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8183160" y="2389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H="1">
            <a:off x="8170560" y="2401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8158320" y="24145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156520" y="24271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814500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8132400" y="2440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8119800" y="24526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H="1">
            <a:off x="8106840" y="24638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8082000" y="246528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H="1">
            <a:off x="8069400" y="24764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8056080" y="24782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H="1">
            <a:off x="804348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8018640" y="24908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H="1">
            <a:off x="8005320" y="2502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7992720" y="2503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7967160" y="25146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79545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7941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7916760" y="251604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H="1">
            <a:off x="790380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7878240" y="25272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785340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7840800" y="25272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781524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780228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H="1">
            <a:off x="7777080" y="25272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 flipH="1">
            <a:off x="7764120" y="25272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 flipH="1" flipV="1">
            <a:off x="7738560" y="2515680"/>
            <a:ext cx="2412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H="1">
            <a:off x="772596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7701120" y="25146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 flipH="1">
            <a:off x="7687800" y="25146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 flipH="1" flipV="1">
            <a:off x="7675200" y="2503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 flipH="1">
            <a:off x="7649640" y="2502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 flipH="1" flipV="1">
            <a:off x="7637040" y="2490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7624440" y="248904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 flipH="1" flipV="1">
            <a:off x="7612200" y="2478240"/>
            <a:ext cx="1080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 flipH="1">
            <a:off x="7586640" y="247644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 flipH="1" flipV="1">
            <a:off x="7573680" y="24649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flipH="1">
            <a:off x="7561440" y="246384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H="1" flipV="1">
            <a:off x="7548120" y="2452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 flipV="1">
            <a:off x="7535520" y="24397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7522920" y="24382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 flipH="1" flipV="1">
            <a:off x="7509960" y="24267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7508880" y="24141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H="1" flipV="1">
            <a:off x="7497360" y="2401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H="1" flipV="1">
            <a:off x="7484760" y="2388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H="1" flipV="1">
            <a:off x="7472520" y="237600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H="1" flipV="1">
            <a:off x="7459200" y="2363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7458120" y="235080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7458120" y="233856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H="1" flipV="1">
            <a:off x="7446600" y="2325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7445520" y="23126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7445520" y="23000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7445520" y="22870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7445520" y="2274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7445520" y="22618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7446960" y="224964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7458120" y="22363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7458120" y="22237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7459560" y="22111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7472520" y="219816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7483320" y="21855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74851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7497720" y="21729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7508880" y="21603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 flipV="1">
            <a:off x="7510320" y="21474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752328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 flipV="1">
            <a:off x="7535880" y="2134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V="1">
            <a:off x="7548480" y="21222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61440" y="21207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V="1">
            <a:off x="7574040" y="2109960"/>
            <a:ext cx="111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86640" y="210816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7612200" y="209664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62480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7637400" y="20840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650000" y="208296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7675560" y="20714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68816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701120" y="20700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726320" y="20584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73892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76448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77708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80264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81524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7840800" y="205740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85340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878600" y="20574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904160" y="20574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916760" y="2057400"/>
            <a:ext cx="2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942320" y="20588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954920" y="207000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7967520" y="2070000"/>
            <a:ext cx="2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993080" y="20718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05680" y="20829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018640" y="208440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043840" y="20955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056440" y="209700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8069400" y="2108160"/>
            <a:ext cx="10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082000" y="2109960"/>
            <a:ext cx="2376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8107200" y="212076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20160" y="21225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8132760" y="213516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8145360" y="214632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8156520" y="214776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58320" y="2160720"/>
            <a:ext cx="1080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170920" y="21733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8183520" y="2184480"/>
            <a:ext cx="1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8194680" y="218592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8196120" y="219852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8207280" y="22114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8209080" y="222408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8220240" y="223668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8220240" y="2249640"/>
            <a:ext cx="0" cy="10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8221680" y="2262240"/>
            <a:ext cx="111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232840" y="2274840"/>
            <a:ext cx="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 flipH="1">
            <a:off x="6392880" y="1042920"/>
            <a:ext cx="117936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392880" y="1104840"/>
            <a:ext cx="3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6760800" y="1042920"/>
            <a:ext cx="811080" cy="31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H="1">
            <a:off x="7358040" y="1055520"/>
            <a:ext cx="163440" cy="67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561440" y="1055520"/>
            <a:ext cx="137880" cy="87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V="1">
            <a:off x="7699320" y="1868400"/>
            <a:ext cx="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701120" y="1868400"/>
            <a:ext cx="3636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599240" y="1068480"/>
            <a:ext cx="557280" cy="10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8920" y="106668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550520" y="952560"/>
            <a:ext cx="837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933640" y="93996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HISTO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819160" y="1193760"/>
            <a:ext cx="649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QU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820960" y="1384200"/>
            <a:ext cx="823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08360" y="16257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35680" y="1257480"/>
            <a:ext cx="1068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STALAC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435320" y="1447920"/>
            <a:ext cx="1015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QUINA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536840" y="158760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VEHICUL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1511280" y="1790640"/>
            <a:ext cx="805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O D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702080" y="1917720"/>
            <a:ext cx="53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OB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38160" y="1320840"/>
            <a:ext cx="963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.  PR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6680" y="1498680"/>
            <a:ext cx="100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20" y="163836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 CONJ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0720" y="1866960"/>
            <a:ext cx="936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54160" y="2006640"/>
            <a:ext cx="703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ERM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54080" y="388620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33880" y="2629080"/>
            <a:ext cx="878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532440" y="2768760"/>
            <a:ext cx="6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532800" y="2921040"/>
            <a:ext cx="1095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VENTA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34960" y="3073320"/>
            <a:ext cx="1078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  PRODUC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04760" y="4040280"/>
            <a:ext cx="0" cy="88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33640" y="4052880"/>
            <a:ext cx="0" cy="86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1000" y="4890960"/>
            <a:ext cx="4932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31760" y="4954680"/>
            <a:ext cx="227160" cy="87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360360" y="5018040"/>
            <a:ext cx="455760" cy="23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817560" y="4928760"/>
            <a:ext cx="239760" cy="8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1058760" y="4916160"/>
            <a:ext cx="748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1135080" y="4890600"/>
            <a:ext cx="2376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158840" y="4890960"/>
            <a:ext cx="0" cy="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H="1">
            <a:off x="1135080" y="4916520"/>
            <a:ext cx="2376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4080" y="4152960"/>
            <a:ext cx="1120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90360" y="4356000"/>
            <a:ext cx="1003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UB-CONJU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6320" y="4648320"/>
            <a:ext cx="776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79360" y="4788000"/>
            <a:ext cx="55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46120" y="5380200"/>
            <a:ext cx="1512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DMINISTR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546120" y="5583240"/>
            <a:ext cx="975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47200" y="5786280"/>
            <a:ext cx="14774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ANTEN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895840" y="6121440"/>
            <a:ext cx="94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894040" y="6273720"/>
            <a:ext cx="738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895480" y="6413400"/>
            <a:ext cx="94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915080" y="601200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GENI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744960" y="5816520"/>
            <a:ext cx="1177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NTABILIDAD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6718320" y="6045120"/>
            <a:ext cx="966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  FINANZ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6045120" y="4851360"/>
            <a:ext cx="902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STOS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110280" y="5041800"/>
            <a:ext cx="10065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DUC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921280" y="438156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986440" y="4459320"/>
            <a:ext cx="35388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645240" y="5272200"/>
            <a:ext cx="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153200" y="561348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32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850080" y="5297400"/>
            <a:ext cx="353880" cy="36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7709040" y="4648320"/>
            <a:ext cx="931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NEJO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645320" y="4813200"/>
            <a:ext cx="1084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726320" y="5079960"/>
            <a:ext cx="10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671600" y="5029200"/>
            <a:ext cx="128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INICIAR, / VER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811640" y="5156280"/>
            <a:ext cx="943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SLA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7886880" y="5359320"/>
            <a:ext cx="599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O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833520" y="2933640"/>
            <a:ext cx="109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959520" y="3089160"/>
            <a:ext cx="581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J.I.T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7329240" y="3568680"/>
            <a:ext cx="1274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NSPORT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7467480" y="3726000"/>
            <a:ext cx="732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J . I . 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797200" y="3200400"/>
            <a:ext cx="141120" cy="9036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48"/>
                </a:moveTo>
                <a:lnTo>
                  <a:pt x="0" y="56"/>
                </a:lnTo>
                <a:lnTo>
                  <a:pt x="24" y="32"/>
                </a:lnTo>
                <a:lnTo>
                  <a:pt x="16" y="0"/>
                </a:lnTo>
                <a:lnTo>
                  <a:pt x="88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808280" y="2986200"/>
            <a:ext cx="1027080" cy="26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803240" y="3086280"/>
            <a:ext cx="66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854360" y="3251160"/>
            <a:ext cx="276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855800" y="3378240"/>
            <a:ext cx="971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1108080" y="4406760"/>
            <a:ext cx="12852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40"/>
                </a:moveTo>
                <a:lnTo>
                  <a:pt x="72" y="0"/>
                </a:lnTo>
                <a:lnTo>
                  <a:pt x="64" y="32"/>
                </a:lnTo>
                <a:lnTo>
                  <a:pt x="80" y="48"/>
                </a:lnTo>
                <a:lnTo>
                  <a:pt x="0" y="4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2606760" y="40766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8"/>
                </a:moveTo>
                <a:lnTo>
                  <a:pt x="8" y="56"/>
                </a:lnTo>
                <a:lnTo>
                  <a:pt x="16" y="24"/>
                </a:lnTo>
                <a:lnTo>
                  <a:pt x="0" y="0"/>
                </a:lnTo>
                <a:lnTo>
                  <a:pt x="80" y="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V="1">
            <a:off x="1211400" y="4115880"/>
            <a:ext cx="1420560" cy="34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746440" y="4559400"/>
            <a:ext cx="12852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80" y="0"/>
                </a:moveTo>
                <a:lnTo>
                  <a:pt x="32" y="72"/>
                </a:lnTo>
                <a:lnTo>
                  <a:pt x="32" y="40"/>
                </a:lnTo>
                <a:lnTo>
                  <a:pt x="0" y="24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692360" y="5295960"/>
            <a:ext cx="128520" cy="102960"/>
          </a:xfrm>
          <a:custGeom>
            <a:avLst/>
            <a:gdLst/>
            <a:ahLst/>
            <a:rect l="l" t="t" r="r" b="b"/>
            <a:pathLst>
              <a:path w="81" h="65">
                <a:moveTo>
                  <a:pt x="0" y="64"/>
                </a:moveTo>
                <a:lnTo>
                  <a:pt x="48" y="0"/>
                </a:lnTo>
                <a:lnTo>
                  <a:pt x="48" y="32"/>
                </a:lnTo>
                <a:lnTo>
                  <a:pt x="80" y="48"/>
                </a:lnTo>
                <a:lnTo>
                  <a:pt x="0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flipH="1">
            <a:off x="1769760" y="4624560"/>
            <a:ext cx="1027080" cy="722160"/>
          </a:xfrm>
          <a:prstGeom prst="line">
            <a:avLst/>
          </a:prstGeom>
          <a:ln w="38160">
            <a:solidFill>
              <a:srgbClr val="cccc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828440" y="4686480"/>
            <a:ext cx="950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STADO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638720" y="4902120"/>
            <a:ext cx="1337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LAS  ORDENES  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96640" y="5118120"/>
            <a:ext cx="753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6440" y="2273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24" y="0"/>
                </a:moveTo>
                <a:lnTo>
                  <a:pt x="48" y="72"/>
                </a:lnTo>
                <a:lnTo>
                  <a:pt x="24" y="56"/>
                </a:lnTo>
                <a:lnTo>
                  <a:pt x="0" y="80"/>
                </a:lnTo>
                <a:lnTo>
                  <a:pt x="24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89040" y="2552760"/>
            <a:ext cx="77760" cy="115920"/>
          </a:xfrm>
          <a:custGeom>
            <a:avLst/>
            <a:gdLst/>
            <a:ahLst/>
            <a:rect l="l" t="t" r="r" b="b"/>
            <a:pathLst>
              <a:path w="49" h="73">
                <a:moveTo>
                  <a:pt x="24" y="72"/>
                </a:moveTo>
                <a:lnTo>
                  <a:pt x="0" y="0"/>
                </a:lnTo>
                <a:lnTo>
                  <a:pt x="24" y="16"/>
                </a:lnTo>
                <a:lnTo>
                  <a:pt x="48" y="0"/>
                </a:lnTo>
                <a:lnTo>
                  <a:pt x="24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16040" y="2363760"/>
            <a:ext cx="1116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1146240" y="2197080"/>
            <a:ext cx="128520" cy="90360"/>
          </a:xfrm>
          <a:custGeom>
            <a:avLst/>
            <a:gdLst/>
            <a:ahLst/>
            <a:rect l="l" t="t" r="r" b="b"/>
            <a:pathLst>
              <a:path w="81" h="57">
                <a:moveTo>
                  <a:pt x="0" y="0"/>
                </a:moveTo>
                <a:lnTo>
                  <a:pt x="80" y="8"/>
                </a:lnTo>
                <a:lnTo>
                  <a:pt x="56" y="24"/>
                </a:lnTo>
                <a:lnTo>
                  <a:pt x="64" y="5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3051000" y="2933640"/>
            <a:ext cx="141480" cy="907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8" y="56"/>
                </a:moveTo>
                <a:lnTo>
                  <a:pt x="0" y="48"/>
                </a:lnTo>
                <a:lnTo>
                  <a:pt x="32" y="32"/>
                </a:lnTo>
                <a:lnTo>
                  <a:pt x="24" y="0"/>
                </a:lnTo>
                <a:lnTo>
                  <a:pt x="88" y="5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1236600" y="2236680"/>
            <a:ext cx="1865520" cy="747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03360" y="2070000"/>
            <a:ext cx="128880" cy="115920"/>
          </a:xfrm>
          <a:custGeom>
            <a:avLst/>
            <a:gdLst/>
            <a:ahLst/>
            <a:rect l="l" t="t" r="r" b="b"/>
            <a:pathLst>
              <a:path w="81" h="73">
                <a:moveTo>
                  <a:pt x="0" y="0"/>
                </a:moveTo>
                <a:lnTo>
                  <a:pt x="80" y="24"/>
                </a:lnTo>
                <a:lnTo>
                  <a:pt x="48" y="40"/>
                </a:lnTo>
                <a:lnTo>
                  <a:pt x="48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267000" y="2717640"/>
            <a:ext cx="115920" cy="103320"/>
          </a:xfrm>
          <a:custGeom>
            <a:avLst/>
            <a:gdLst/>
            <a:ahLst/>
            <a:rect l="l" t="t" r="r" b="b"/>
            <a:pathLst>
              <a:path w="73" h="65">
                <a:moveTo>
                  <a:pt x="72" y="64"/>
                </a:moveTo>
                <a:lnTo>
                  <a:pt x="0" y="40"/>
                </a:lnTo>
                <a:lnTo>
                  <a:pt x="24" y="24"/>
                </a:lnTo>
                <a:lnTo>
                  <a:pt x="32" y="0"/>
                </a:lnTo>
                <a:lnTo>
                  <a:pt x="72" y="6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481120" y="2135160"/>
            <a:ext cx="824040" cy="620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673440" y="1981080"/>
            <a:ext cx="90360" cy="12888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0"/>
                </a:moveTo>
                <a:lnTo>
                  <a:pt x="56" y="64"/>
                </a:lnTo>
                <a:lnTo>
                  <a:pt x="24" y="56"/>
                </a:lnTo>
                <a:lnTo>
                  <a:pt x="8" y="8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713040" y="2071800"/>
            <a:ext cx="20160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546360" y="5207040"/>
            <a:ext cx="9072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56" y="0"/>
                </a:moveTo>
                <a:lnTo>
                  <a:pt x="48" y="80"/>
                </a:lnTo>
                <a:lnTo>
                  <a:pt x="32" y="48"/>
                </a:lnTo>
                <a:lnTo>
                  <a:pt x="0" y="56"/>
                </a:lnTo>
                <a:lnTo>
                  <a:pt x="5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203640" y="5931000"/>
            <a:ext cx="90360" cy="128520"/>
          </a:xfrm>
          <a:custGeom>
            <a:avLst/>
            <a:gdLst/>
            <a:ahLst/>
            <a:rect l="l" t="t" r="r" b="b"/>
            <a:pathLst>
              <a:path w="57" h="81">
                <a:moveTo>
                  <a:pt x="0" y="80"/>
                </a:moveTo>
                <a:lnTo>
                  <a:pt x="16" y="0"/>
                </a:lnTo>
                <a:lnTo>
                  <a:pt x="24" y="24"/>
                </a:lnTo>
                <a:lnTo>
                  <a:pt x="56" y="24"/>
                </a:lnTo>
                <a:lnTo>
                  <a:pt x="0" y="8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242880" y="5284800"/>
            <a:ext cx="353880" cy="6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968720" y="5219640"/>
            <a:ext cx="115920" cy="115920"/>
          </a:xfrm>
          <a:custGeom>
            <a:avLst/>
            <a:gdLst/>
            <a:ahLst/>
            <a:rect l="l" t="t" r="r" b="b"/>
            <a:pathLst>
              <a:path w="73" h="73">
                <a:moveTo>
                  <a:pt x="0" y="0"/>
                </a:moveTo>
                <a:lnTo>
                  <a:pt x="72" y="40"/>
                </a:lnTo>
                <a:lnTo>
                  <a:pt x="40" y="48"/>
                </a:lnTo>
                <a:lnTo>
                  <a:pt x="32" y="7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425920" y="5740560"/>
            <a:ext cx="115920" cy="115560"/>
          </a:xfrm>
          <a:custGeom>
            <a:avLst/>
            <a:gdLst/>
            <a:ahLst/>
            <a:rect l="l" t="t" r="r" b="b"/>
            <a:pathLst>
              <a:path w="73" h="73">
                <a:moveTo>
                  <a:pt x="72" y="72"/>
                </a:moveTo>
                <a:lnTo>
                  <a:pt x="0" y="32"/>
                </a:lnTo>
                <a:lnTo>
                  <a:pt x="24" y="32"/>
                </a:lnTo>
                <a:lnTo>
                  <a:pt x="32" y="0"/>
                </a:lnTo>
                <a:lnTo>
                  <a:pt x="72" y="7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033880" y="5297400"/>
            <a:ext cx="430200" cy="49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2895480" y="3568680"/>
            <a:ext cx="2455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PREPARAR  / DESPACHAR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2893680" y="3720960"/>
            <a:ext cx="18673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PROGRAM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895480" y="3873600"/>
            <a:ext cx="21952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DO MOVIM.  MATER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896200" y="4013280"/>
            <a:ext cx="1614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DATOS DE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898360" y="4165560"/>
            <a:ext cx="24724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ESTABLECER   PARAMETR. PROC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2895840" y="4317840"/>
            <a:ext cx="2013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SEGUIMIENTO  AL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2896920" y="4457880"/>
            <a:ext cx="2516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*  MONITOREO DE LA PRODUCCION  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2895120" y="4610160"/>
            <a:ext cx="140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L INVENTARI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441240" y="4788000"/>
            <a:ext cx="1065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RENDIMIE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516000" y="698400"/>
            <a:ext cx="2153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ONITOREO   DE  LOS CENTRO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10120" y="914400"/>
            <a:ext cx="954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 TRABAJ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032520" y="3514680"/>
            <a:ext cx="10461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SECUENC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6032160" y="3679920"/>
            <a:ext cx="7520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IARI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6032160" y="3844800"/>
            <a:ext cx="9104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PROGRAM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32520" y="3997440"/>
            <a:ext cx="77040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ESTAD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032520" y="4162320"/>
            <a:ext cx="10033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imes New Roman"/>
              </a:rPr>
              <a:t>DEL EQUIP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645240" y="2057400"/>
            <a:ext cx="77760" cy="128520"/>
          </a:xfrm>
          <a:custGeom>
            <a:avLst/>
            <a:gdLst/>
            <a:ahLst/>
            <a:rect l="l" t="t" r="r" b="b"/>
            <a:pathLst>
              <a:path w="49" h="81">
                <a:moveTo>
                  <a:pt x="48" y="0"/>
                </a:moveTo>
                <a:lnTo>
                  <a:pt x="48" y="80"/>
                </a:lnTo>
                <a:lnTo>
                  <a:pt x="32" y="56"/>
                </a:lnTo>
                <a:lnTo>
                  <a:pt x="0" y="64"/>
                </a:lnTo>
                <a:lnTo>
                  <a:pt x="48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6342120" y="2147400"/>
            <a:ext cx="353880" cy="1395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696000" y="3403440"/>
            <a:ext cx="128520" cy="90720"/>
          </a:xfrm>
          <a:custGeom>
            <a:avLst/>
            <a:gdLst/>
            <a:ahLst/>
            <a:rect l="l" t="t" r="r" b="b"/>
            <a:pathLst>
              <a:path w="81" h="57">
                <a:moveTo>
                  <a:pt x="80" y="0"/>
                </a:moveTo>
                <a:lnTo>
                  <a:pt x="24" y="56"/>
                </a:lnTo>
                <a:lnTo>
                  <a:pt x="32" y="24"/>
                </a:lnTo>
                <a:lnTo>
                  <a:pt x="0" y="16"/>
                </a:lnTo>
                <a:lnTo>
                  <a:pt x="8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 flipV="1">
            <a:off x="6570720" y="3443400"/>
            <a:ext cx="176040" cy="100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72240" y="4648320"/>
            <a:ext cx="128880" cy="77760"/>
          </a:xfrm>
          <a:custGeom>
            <a:avLst/>
            <a:gdLst/>
            <a:ahLst/>
            <a:rect l="l" t="t" r="r" b="b"/>
            <a:pathLst>
              <a:path w="81" h="49">
                <a:moveTo>
                  <a:pt x="80" y="48"/>
                </a:moveTo>
                <a:lnTo>
                  <a:pt x="0" y="48"/>
                </a:lnTo>
                <a:lnTo>
                  <a:pt x="24" y="32"/>
                </a:lnTo>
                <a:lnTo>
                  <a:pt x="16" y="0"/>
                </a:lnTo>
                <a:lnTo>
                  <a:pt x="80" y="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786720" y="4408560"/>
            <a:ext cx="823680" cy="290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896080" y="3860640"/>
            <a:ext cx="128520" cy="78120"/>
          </a:xfrm>
          <a:custGeom>
            <a:avLst/>
            <a:gdLst/>
            <a:ahLst/>
            <a:rect l="l" t="t" r="r" b="b"/>
            <a:pathLst>
              <a:path w="81" h="49">
                <a:moveTo>
                  <a:pt x="0" y="32"/>
                </a:moveTo>
                <a:lnTo>
                  <a:pt x="80" y="0"/>
                </a:lnTo>
                <a:lnTo>
                  <a:pt x="64" y="24"/>
                </a:lnTo>
                <a:lnTo>
                  <a:pt x="80" y="48"/>
                </a:lnTo>
                <a:lnTo>
                  <a:pt x="0" y="3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999040" y="3887640"/>
            <a:ext cx="1000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267040" y="638640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IG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rot="1980000">
            <a:off x="5797080" y="1585440"/>
            <a:ext cx="213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RUPOS  DE  T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/>
          <p:nvPr/>
        </p:nvSpPr>
        <p:spPr>
          <a:xfrm>
            <a:off x="2673360" y="1682640"/>
            <a:ext cx="3263760" cy="3111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758960" y="920880"/>
            <a:ext cx="5092560" cy="4635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066680" y="2057400"/>
            <a:ext cx="181620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279440" y="708120"/>
            <a:ext cx="1459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RPO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035080" y="5973840"/>
            <a:ext cx="4465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CEPTO   DE  SISTEMA 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143000" y="2133720"/>
            <a:ext cx="14482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38800" y="3886200"/>
            <a:ext cx="107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896920" y="5486400"/>
            <a:ext cx="275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ERVICIOS EXTERN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248520" y="1523880"/>
            <a:ext cx="121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GEOGRAF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V="1">
            <a:off x="685800" y="3809880"/>
            <a:ext cx="13716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 flipV="1">
            <a:off x="6095880" y="1446840"/>
            <a:ext cx="137160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1143000" y="609120"/>
            <a:ext cx="1676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55960" y="2833560"/>
            <a:ext cx="247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ccccff"/>
                </a:solidFill>
                <a:latin typeface="Times New Roman"/>
              </a:rPr>
              <a:t>MANTEN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24880" y="15238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ABASTEC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829880" y="327672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71800" y="449568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OPER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715000" y="2362320"/>
            <a:ext cx="175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INGENI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638680" y="3581280"/>
            <a:ext cx="212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NTRAL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cc99"/>
                </a:solidFill>
                <a:latin typeface="Times New Roman"/>
              </a:rPr>
              <a:t>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895480" y="5410080"/>
            <a:ext cx="281952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"/>
          <p:cNvSpPr/>
          <p:nvPr/>
        </p:nvSpPr>
        <p:spPr>
          <a:xfrm>
            <a:off x="380880" y="304920"/>
            <a:ext cx="8542440" cy="23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200" spc="-1" strike="noStrike">
                <a:solidFill>
                  <a:srgbClr val="00cc99"/>
                </a:solidFill>
                <a:latin typeface="Times New Roman"/>
              </a:rPr>
              <a:t>Temas  de  Permanente  Actu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DUCCION  =   OPERACIONES  +  MANTEN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Relación Cliente - Servi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60800" y="2743200"/>
            <a:ext cx="67806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STO  DE  MANTENCIO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s-ES_tradnl" sz="2800" spc="-1" strike="noStrike">
                <a:solidFill>
                  <a:srgbClr val="3333cc"/>
                </a:solidFill>
                <a:latin typeface="Times New Roman"/>
              </a:rPr>
              <a:t>20  A  40 %    de  los  costos  direc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60" y="4495680"/>
            <a:ext cx="59943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ERTEZA    DE  FUNCION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gro de la Continuidad de Marc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0" name=""/>
          <p:cNvGraphicFramePr/>
          <p:nvPr/>
        </p:nvGraphicFramePr>
        <p:xfrm>
          <a:off x="7467480" y="2971800"/>
          <a:ext cx="1146240" cy="10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2971800"/>
                    <a:ext cx="114624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2" name=""/>
          <p:cNvGraphicFramePr/>
          <p:nvPr/>
        </p:nvGraphicFramePr>
        <p:xfrm>
          <a:off x="5791320" y="1828800"/>
          <a:ext cx="1606320" cy="90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828800"/>
                    <a:ext cx="1606320" cy="90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4" name=""/>
          <p:cNvGraphicFramePr/>
          <p:nvPr/>
        </p:nvGraphicFramePr>
        <p:xfrm rot="10800000">
          <a:off x="6553080" y="4572000"/>
          <a:ext cx="2210040" cy="165744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43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6553080" y="4572000"/>
                    <a:ext cx="221004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03:13:44Z</dcterms:created>
  <dc:creator>Ernesto Gramsch</dc:creator>
  <dc:description/>
  <dc:language>en-US</dc:language>
  <cp:lastModifiedBy>Ernesto Gramsch</cp:lastModifiedBy>
  <dcterms:modified xsi:type="dcterms:W3CDTF">2004-03-23T18:38:53Z</dcterms:modified>
  <cp:revision>10</cp:revision>
  <dc:subject/>
  <dc:title>Presentación de PowerPoint</dc:title>
</cp:coreProperties>
</file>