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.docx" ContentType="application/vnd.openxmlformats-officedocument.wordprocessingml.documen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16F3-C687-4515-866A-973A40624890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"/>
          <p:cNvSpPr/>
          <p:nvPr/>
        </p:nvSpPr>
        <p:spPr>
          <a:xfrm>
            <a:off x="3886200" y="936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3886200" y="870444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0" y="870444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0" y="936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603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70FE-37DA-4710-B153-2F832FD26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A078-F15B-42E0-8365-16A919200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FE3B-F817-45A1-9189-7BC313135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826F-4183-4183-934C-4965CECFF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062D-8AB3-4E70-9C0F-CA9BC393E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6FC0-1FC8-4DE4-A32E-EB8CD35D5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6B13-A6CB-4124-9534-8A09C0A51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88BF-95C7-4568-A426-2ECC8BE71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CB87-C097-4642-9858-65A7E2DD3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6EE8-208F-4DCC-8E56-3E95C736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F207-CEBF-4B3A-AC7F-9C384363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E639-128B-4208-BD10-658425E5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020FA-FC4D-4DDB-A923-162A7D0055A2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5.wmf"/><Relationship Id="rId17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09680" y="-457200"/>
            <a:ext cx="10515600" cy="6815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600" y="-23760"/>
            <a:ext cx="4743720" cy="31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ff3300"/>
                </a:solidFill>
                <a:latin typeface="Times New Roman"/>
              </a:rPr>
              <a:t>GESTION  MODERNA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ff3300"/>
                </a:solidFill>
                <a:latin typeface="Times New Roman"/>
              </a:rPr>
              <a:t>D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ff3300"/>
                </a:solidFill>
                <a:latin typeface="Times New Roman"/>
              </a:rPr>
              <a:t>MANTENIMIENTO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ff3300"/>
                </a:solidFill>
                <a:latin typeface="Times New Roman"/>
              </a:rPr>
              <a:t>MINERO  E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ff3300"/>
                </a:solidFill>
                <a:latin typeface="Times New Roman"/>
              </a:rPr>
              <a:t>INDUSTRIA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000" y="5638680"/>
            <a:ext cx="647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REL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ING. ERNESTO GRAMSCH SANJ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6" name=""/>
          <p:cNvGraphicFramePr/>
          <p:nvPr/>
        </p:nvGraphicFramePr>
        <p:xfrm>
          <a:off x="533520" y="263520"/>
          <a:ext cx="6858000" cy="507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63520"/>
                    <a:ext cx="6858000" cy="507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8" name=""/>
          <p:cNvSpPr/>
          <p:nvPr/>
        </p:nvSpPr>
        <p:spPr>
          <a:xfrm>
            <a:off x="365040" y="5375160"/>
            <a:ext cx="745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RAN MINERIA:  desde   75.000 ton de Cobre fino a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ntas de 100 MUS al año   a 70 c/l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9" name=""/>
          <p:cNvGraphicFramePr/>
          <p:nvPr/>
        </p:nvGraphicFramePr>
        <p:xfrm>
          <a:off x="533520" y="452520"/>
          <a:ext cx="7162560" cy="4700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52520"/>
                    <a:ext cx="7162560" cy="47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1" name=""/>
          <p:cNvSpPr/>
          <p:nvPr/>
        </p:nvSpPr>
        <p:spPr>
          <a:xfrm>
            <a:off x="605160" y="5222880"/>
            <a:ext cx="736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  8  DE  15  EMPRESAS     (53  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DOTACION DE PERSONAL  DE   MANTENC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PERA EL  20 %    DE  LA DOTACION  TOT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2" name=""/>
          <p:cNvGraphicFramePr/>
          <p:nvPr/>
        </p:nvGraphicFramePr>
        <p:xfrm>
          <a:off x="762120" y="228600"/>
          <a:ext cx="7315200" cy="4937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8600"/>
                    <a:ext cx="7315200" cy="49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4" name=""/>
          <p:cNvSpPr/>
          <p:nvPr/>
        </p:nvSpPr>
        <p:spPr>
          <a:xfrm>
            <a:off x="602640" y="5146560"/>
            <a:ext cx="769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  6  DE  15  EMPRESAS     (40  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GASTO DE MANTENCION  SUPERA EL 10 %    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LOR DE LAS VENT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5" name=""/>
          <p:cNvGraphicFramePr/>
          <p:nvPr/>
        </p:nvGraphicFramePr>
        <p:xfrm>
          <a:off x="609480" y="168120"/>
          <a:ext cx="8229600" cy="5013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8120"/>
                    <a:ext cx="8229600" cy="50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7" name=""/>
          <p:cNvSpPr/>
          <p:nvPr/>
        </p:nvSpPr>
        <p:spPr>
          <a:xfrm>
            <a:off x="771840" y="5334120"/>
            <a:ext cx="793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  7  DE  15  EMPRESAS     (47 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GASTO DE MANTENCION  SUPERA EL 20 % DE 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ASTOS  DE  PRODU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8" name=""/>
          <p:cNvGraphicFramePr/>
          <p:nvPr/>
        </p:nvGraphicFramePr>
        <p:xfrm>
          <a:off x="846000" y="299880"/>
          <a:ext cx="7320240" cy="481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6000" y="299880"/>
                    <a:ext cx="7320240" cy="48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0" name=""/>
          <p:cNvSpPr/>
          <p:nvPr/>
        </p:nvSpPr>
        <p:spPr>
          <a:xfrm>
            <a:off x="289080" y="4994280"/>
            <a:ext cx="873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  10  DE  15  EMPRESAS     (66  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S  DEL  20 % DEL GASTO DE MANTENCION  SE EJEC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  CONTRATISTA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"/>
          <p:cNvSpPr/>
          <p:nvPr/>
        </p:nvSpPr>
        <p:spPr>
          <a:xfrm>
            <a:off x="615960" y="1454040"/>
            <a:ext cx="2813040" cy="1892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33520" y="4273560"/>
            <a:ext cx="2736720" cy="1892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3124080" y="2819520"/>
            <a:ext cx="2813040" cy="1892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5950080" y="1454040"/>
            <a:ext cx="2654280" cy="1892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5873760" y="4273560"/>
            <a:ext cx="2654280" cy="1892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673200" y="2163600"/>
            <a:ext cx="2687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9900"/>
                </a:solidFill>
                <a:latin typeface="Times New Roman"/>
              </a:rPr>
              <a:t>CONF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5943600" y="2209680"/>
            <a:ext cx="272412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9900"/>
                </a:solidFill>
                <a:latin typeface="Times New Roman"/>
              </a:rPr>
              <a:t>MANTENIBIL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082560" y="4983120"/>
            <a:ext cx="2010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9900"/>
                </a:solidFill>
                <a:latin typeface="Times New Roman"/>
              </a:rPr>
              <a:t>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273840" y="3276720"/>
            <a:ext cx="26204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33"/>
                </a:solidFill>
                <a:latin typeface="Times New Roman"/>
              </a:rPr>
              <a:t>LOGRO  DE  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33"/>
                </a:solidFill>
                <a:latin typeface="Times New Roman"/>
              </a:rPr>
              <a:t>CONTINUIDAD 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33"/>
                </a:solidFill>
                <a:latin typeface="Times New Roman"/>
              </a:rPr>
              <a:t>FUNCION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536400" y="5105520"/>
            <a:ext cx="2756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9900"/>
                </a:solidFill>
                <a:latin typeface="Times New Roman"/>
              </a:rPr>
              <a:t>DISPON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 flipV="1">
            <a:off x="5715000" y="304776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 flipH="1" flipV="1">
            <a:off x="2971800" y="304776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 flipH="1">
            <a:off x="2971800" y="4343400"/>
            <a:ext cx="4572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5562720" y="4419720"/>
            <a:ext cx="5331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MODELO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  DEL  MANTENI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6" name=""/>
          <p:cNvGraphicFramePr/>
          <p:nvPr/>
        </p:nvGraphicFramePr>
        <p:xfrm>
          <a:off x="3048120" y="1290600"/>
          <a:ext cx="1828800" cy="9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290600"/>
                    <a:ext cx="1828800" cy="9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8" name=""/>
          <p:cNvGraphicFramePr/>
          <p:nvPr/>
        </p:nvGraphicFramePr>
        <p:xfrm>
          <a:off x="6450120" y="2514600"/>
          <a:ext cx="1726920" cy="102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50120" y="2514600"/>
                    <a:ext cx="1726920" cy="10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0" name=""/>
          <p:cNvSpPr/>
          <p:nvPr/>
        </p:nvSpPr>
        <p:spPr>
          <a:xfrm>
            <a:off x="7451280" y="760320"/>
            <a:ext cx="132192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TOCK 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REPUES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antidad  y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a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3353040" y="1754280"/>
            <a:ext cx="319968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5319360" y="2360520"/>
            <a:ext cx="12196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OLI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MP,  MC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MPR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6095880" y="3413160"/>
            <a:ext cx="297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EA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NTEN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5394240" y="1217520"/>
            <a:ext cx="29116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ONFIABILIDAD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s-ES_tradnl" sz="1600" spc="-1" strike="noStrike">
                <a:solidFill>
                  <a:srgbClr val="000000"/>
                </a:solidFill>
                <a:latin typeface="Roman"/>
              </a:rPr>
              <a:t>(t)  FALL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3201840" y="1295640"/>
            <a:ext cx="5333760" cy="228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3323880" y="3122640"/>
            <a:ext cx="249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MANTE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</a:t>
            </a:r>
            <a:r>
              <a:rPr b="1" lang="es-ES_tradnl" sz="1600" spc="-1" strike="noStrike">
                <a:solidFill>
                  <a:srgbClr val="000000"/>
                </a:solidFill>
                <a:latin typeface="Roman"/>
              </a:rPr>
              <a:t>t)  REPAR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2270880" y="1446120"/>
            <a:ext cx="150336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ARQUE 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QUI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NECES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ARA   L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RO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8" name=""/>
          <p:cNvGraphicFramePr/>
          <p:nvPr/>
        </p:nvGraphicFramePr>
        <p:xfrm>
          <a:off x="457200" y="1724040"/>
          <a:ext cx="990720" cy="512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1724040"/>
                    <a:ext cx="99072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0" name=""/>
          <p:cNvGraphicFramePr/>
          <p:nvPr/>
        </p:nvGraphicFramePr>
        <p:xfrm>
          <a:off x="228600" y="2409840"/>
          <a:ext cx="990720" cy="512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8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" y="2409840"/>
                    <a:ext cx="99072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2" name=""/>
          <p:cNvGraphicFramePr/>
          <p:nvPr/>
        </p:nvGraphicFramePr>
        <p:xfrm>
          <a:off x="990720" y="2638440"/>
          <a:ext cx="990360" cy="512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8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90720" y="2638440"/>
                    <a:ext cx="99036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4" name=""/>
          <p:cNvSpPr/>
          <p:nvPr/>
        </p:nvSpPr>
        <p:spPr>
          <a:xfrm>
            <a:off x="64080" y="3274920"/>
            <a:ext cx="23216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QUIPO  DE  RESER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antidad  y  ub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6994800" y="4265640"/>
            <a:ext cx="209016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Tamaño  del  Ta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Equip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Dotación  de Pers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Gas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Terce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 flipH="1">
            <a:off x="8001000" y="1600200"/>
            <a:ext cx="533520" cy="838080"/>
          </a:xfrm>
          <a:prstGeom prst="line">
            <a:avLst/>
          </a:prstGeom>
          <a:ln w="507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5334120" y="5146560"/>
            <a:ext cx="1657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STOCK 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MPON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PARA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3955320" y="6475320"/>
            <a:ext cx="4930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TALLERES  DE  REPARACION  DE  COMPON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5302080" y="5073480"/>
            <a:ext cx="1492560" cy="825840"/>
          </a:xfrm>
          <a:prstGeom prst="rect">
            <a:avLst/>
          </a:prstGeom>
          <a:noFill/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 flipH="1">
            <a:off x="6229080" y="4267080"/>
            <a:ext cx="533160" cy="762120"/>
          </a:xfrm>
          <a:prstGeom prst="line">
            <a:avLst/>
          </a:prstGeom>
          <a:ln w="50760">
            <a:solidFill>
              <a:srgbClr val="114f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4863960" y="6197760"/>
            <a:ext cx="615960" cy="1965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5816520" y="6197760"/>
            <a:ext cx="577800" cy="1774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6597720" y="6178680"/>
            <a:ext cx="691920" cy="1965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 flipV="1">
            <a:off x="4724280" y="5657760"/>
            <a:ext cx="457200" cy="457200"/>
          </a:xfrm>
          <a:prstGeom prst="line">
            <a:avLst/>
          </a:prstGeom>
          <a:ln w="12600">
            <a:solidFill>
              <a:srgbClr val="cf0e3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 flipH="1" flipV="1">
            <a:off x="6769080" y="5838840"/>
            <a:ext cx="558720" cy="324000"/>
          </a:xfrm>
          <a:prstGeom prst="line">
            <a:avLst/>
          </a:prstGeom>
          <a:ln w="12600">
            <a:solidFill>
              <a:srgbClr val="cf0e3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7397640" y="692280"/>
            <a:ext cx="1359000" cy="113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517320" y="4929120"/>
            <a:ext cx="20260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INVERSION  E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QUIPOS  D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REEMPLAZ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Rentabilidad ,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Tasa  de  Descu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6480" y="4654440"/>
            <a:ext cx="3035160" cy="1282680"/>
          </a:xfrm>
          <a:custGeom>
            <a:avLst/>
            <a:gdLst>
              <a:gd name="textAreaLeft" fmla="*/ 692640 w 3035160"/>
              <a:gd name="textAreaRight" fmla="*/ 2342520 w 3035160"/>
              <a:gd name="textAreaTop" fmla="*/ 292680 h 1282680"/>
              <a:gd name="textAreaBottom" fmla="*/ 990000 h 12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 flipH="1" flipV="1">
            <a:off x="609480" y="3047760"/>
            <a:ext cx="152640" cy="1904760"/>
          </a:xfrm>
          <a:prstGeom prst="line">
            <a:avLst/>
          </a:prstGeom>
          <a:ln w="50760">
            <a:solidFill>
              <a:srgbClr val="8901f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 flipV="1">
            <a:off x="2104920" y="2908080"/>
            <a:ext cx="819360" cy="1726920"/>
          </a:xfrm>
          <a:prstGeom prst="line">
            <a:avLst/>
          </a:prstGeom>
          <a:ln w="50760">
            <a:solidFill>
              <a:srgbClr val="8901f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3035880" y="4494240"/>
            <a:ext cx="2931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PREVENCIÓN  DE  RIESG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2" name=""/>
          <p:cNvGraphicFramePr/>
          <p:nvPr/>
        </p:nvGraphicFramePr>
        <p:xfrm>
          <a:off x="4606920" y="3765600"/>
          <a:ext cx="557280" cy="730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0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606920" y="3765600"/>
                    <a:ext cx="5572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4" name=""/>
          <p:cNvGraphicFramePr/>
          <p:nvPr/>
        </p:nvGraphicFramePr>
        <p:xfrm>
          <a:off x="3581280" y="3859200"/>
          <a:ext cx="908280" cy="649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0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581280" y="3859200"/>
                    <a:ext cx="90828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6" name=""/>
          <p:cNvGraphicFramePr/>
          <p:nvPr/>
        </p:nvGraphicFramePr>
        <p:xfrm>
          <a:off x="5113440" y="3454560"/>
          <a:ext cx="449280" cy="1352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0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113440" y="3454560"/>
                    <a:ext cx="44928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8" name=""/>
          <p:cNvSpPr/>
          <p:nvPr/>
        </p:nvSpPr>
        <p:spPr>
          <a:xfrm>
            <a:off x="3124080" y="990720"/>
            <a:ext cx="1981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DISPO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1051920" y="3984480"/>
            <a:ext cx="1791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POLITICA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 REEMPLAZO  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OVERHA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3300"/>
                </a:solidFill>
                <a:latin typeface="Times New Roman"/>
              </a:rPr>
              <a:t>Clasificación de las actividades de  mantenimie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Según el grado de previ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tenimiento Correc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tenimiento Preven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ntenimiento Preventivo sistemá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ntenimiento Predi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Según el grado de programación de las actividad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tenimiento de emerg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tenimiento preven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tenimiento correctivo program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tenimiento correctivo no program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tros trabaj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3300"/>
                </a:solidFill>
                <a:latin typeface="Times New Roman"/>
              </a:rPr>
              <a:t>Trabajos de  mantenimie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spe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ju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pa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amb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rvi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paración 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ubr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"/>
          <p:cNvSpPr/>
          <p:nvPr/>
        </p:nvSpPr>
        <p:spPr>
          <a:xfrm flipH="1">
            <a:off x="2440080" y="2211480"/>
            <a:ext cx="1141200" cy="220824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2440080" y="4343400"/>
            <a:ext cx="3351240" cy="0"/>
          </a:xfrm>
          <a:prstGeom prst="line">
            <a:avLst/>
          </a:prstGeom>
          <a:ln w="507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 flipH="1" flipV="1">
            <a:off x="3583080" y="2211480"/>
            <a:ext cx="2131920" cy="213192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957960" y="1477800"/>
            <a:ext cx="58755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ensamiento como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veedores + compradores + </a:t>
            </a: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elementos fundamen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complement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665640" y="4373640"/>
            <a:ext cx="28580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olución integral 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liente.  Producto espe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o estandariz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4698000" y="4449600"/>
            <a:ext cx="37483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osicionamiento del mej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.  </a:t>
            </a: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Costo mas bajo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para e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749160" y="365040"/>
            <a:ext cx="4953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YECTO “DELTA”   DEL  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-20520"/>
            <a:ext cx="8788320" cy="69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"/>
          <p:cNvSpPr/>
          <p:nvPr/>
        </p:nvSpPr>
        <p:spPr>
          <a:xfrm>
            <a:off x="141840" y="220680"/>
            <a:ext cx="8996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TORES  QUE  CONTRIBUYEN  A  LA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3000" spc="-1" strike="noStrike">
                <a:solidFill>
                  <a:srgbClr val="000000"/>
                </a:solidFill>
                <a:latin typeface="Arial"/>
              </a:rPr>
              <a:t>DISPONIBILIDA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Según  la  Norma  Francesa  AFNOR  x 60-50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55080" y="3078000"/>
            <a:ext cx="22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SPONI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2819520" y="1297080"/>
            <a:ext cx="0" cy="4570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4879440" y="1141560"/>
            <a:ext cx="4002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RESTRICCIONES   DE OPT I M IZA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4938840" y="2436840"/>
            <a:ext cx="1287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LOGIST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3566880" y="2970360"/>
            <a:ext cx="1265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OLI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6461640" y="2970360"/>
            <a:ext cx="1334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RECURS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5243760" y="4494240"/>
            <a:ext cx="1929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ANTE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4482360" y="5713560"/>
            <a:ext cx="1782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NFIA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5694840" y="1469880"/>
            <a:ext cx="27802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sto  de  adquisi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Costo  de  explo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Costo  de  no  disponibi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3555000" y="3375000"/>
            <a:ext cx="27957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Niveles de mante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Mant. Correctiva / Preventi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Reordenam.  del invent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6305040" y="3298680"/>
            <a:ext cx="251388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Documen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Pers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Capaci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Materiales de Manten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Nivel de invent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5160240" y="4898880"/>
            <a:ext cx="27255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Facilidades de diagnóst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Accesibi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Facilidades para el desar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4398480" y="6041880"/>
            <a:ext cx="46382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Arquitec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Perfil  de  la  mi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Tasa  de  Fallas  y  duración  de  los  compon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2820960" y="1295280"/>
            <a:ext cx="205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 flipH="1">
            <a:off x="2820600" y="2590920"/>
            <a:ext cx="190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 flipH="1">
            <a:off x="2820960" y="4648320"/>
            <a:ext cx="220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 flipH="1">
            <a:off x="2820600" y="5867280"/>
            <a:ext cx="152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4889520" y="1079640"/>
            <a:ext cx="3936960" cy="35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4889520" y="2374920"/>
            <a:ext cx="1346040" cy="431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3511440" y="2901960"/>
            <a:ext cx="13590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6330960" y="2901960"/>
            <a:ext cx="1511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5194440" y="4508640"/>
            <a:ext cx="2031840" cy="279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432320" y="5727600"/>
            <a:ext cx="1879560" cy="279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5486400" y="1449360"/>
            <a:ext cx="0" cy="60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3505320" y="3201840"/>
            <a:ext cx="0" cy="68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6324480" y="3278160"/>
            <a:ext cx="0" cy="10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5181480" y="4802040"/>
            <a:ext cx="0" cy="68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4419720" y="6021360"/>
            <a:ext cx="0" cy="60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"/>
          <p:cNvSpPr/>
          <p:nvPr/>
        </p:nvSpPr>
        <p:spPr>
          <a:xfrm>
            <a:off x="527760" y="166680"/>
            <a:ext cx="81252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IEMPOS  RELACIONADOS  CON  MANTEN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Y   GESTION  DE  LAS  MAQUI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3408480" y="1325520"/>
            <a:ext cx="2416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.  TIEMPO 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533520" y="2011320"/>
            <a:ext cx="8413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.1  TIEMPO  NECESARIO                         1.2  TIEMPO  NO  NECES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63000" y="2741760"/>
            <a:ext cx="1815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1.1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FECTIVO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SPO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2806200" y="2665440"/>
            <a:ext cx="181584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1.2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FECTIVO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N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SPO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5092200" y="2741760"/>
            <a:ext cx="1815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2.1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OTENCIAL 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SPO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7149600" y="2620800"/>
            <a:ext cx="1815840" cy="11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2.2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OTENCIAL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SPO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 flipH="1">
            <a:off x="1754280" y="1677960"/>
            <a:ext cx="1674720" cy="303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5792760" y="1601640"/>
            <a:ext cx="1370160" cy="379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119160" y="4876920"/>
            <a:ext cx="20905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1.1.1.2   TIEM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  ESP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119160" y="3962520"/>
            <a:ext cx="20905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1.1.1.1   TIEM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NCIONA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76320" y="3583080"/>
            <a:ext cx="0" cy="159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 flipV="1">
            <a:off x="77760" y="4268520"/>
            <a:ext cx="74520" cy="7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77760" y="5105520"/>
            <a:ext cx="7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1967760" y="4037040"/>
            <a:ext cx="1815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1.2 .1  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ROPIO  DE  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SPO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4102920" y="4037040"/>
            <a:ext cx="2688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1.2 .2   TIEMPO 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NO  DISPO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OR   CAUSAS  EXTER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978120" y="5484960"/>
            <a:ext cx="20962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1.2 .1.1 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 NO DETEC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 LA  FAL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033720" y="5484960"/>
            <a:ext cx="18507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1.2 .1.2  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 ESPERA  P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MANTEN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5015880" y="5484960"/>
            <a:ext cx="204120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1.2 .1.3  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ROPIO  DE  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SPO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OR  MANTEN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7148520" y="5560920"/>
            <a:ext cx="18507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1.2 .1.4  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 REPOSI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L   SERVI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 flipH="1">
            <a:off x="991800" y="2363760"/>
            <a:ext cx="53172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2897280" y="2363760"/>
            <a:ext cx="608040" cy="30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 flipH="1">
            <a:off x="5792760" y="2363760"/>
            <a:ext cx="37944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7316640" y="2440080"/>
            <a:ext cx="684360" cy="15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 flipH="1">
            <a:off x="2744640" y="3735360"/>
            <a:ext cx="532080" cy="30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4192560" y="3735360"/>
            <a:ext cx="988920" cy="30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 flipH="1">
            <a:off x="1754280" y="4802040"/>
            <a:ext cx="760320" cy="68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2820960" y="4802040"/>
            <a:ext cx="1065240" cy="60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3430440" y="4878360"/>
            <a:ext cx="2208240" cy="53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3811680" y="4878360"/>
            <a:ext cx="3960720" cy="60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"/>
          <p:cNvSpPr/>
          <p:nvPr/>
        </p:nvSpPr>
        <p:spPr>
          <a:xfrm>
            <a:off x="527040" y="166680"/>
            <a:ext cx="83642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EMPOS  RELACIONADOS  CON  MANTEN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   GESTION  DE  LAS  MAQUI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2725560" y="1325520"/>
            <a:ext cx="3856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.  TIEMPO  DE  MANTEN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 flipH="1">
            <a:off x="1754280" y="1677960"/>
            <a:ext cx="1674720" cy="303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5792760" y="1601640"/>
            <a:ext cx="1370160" cy="379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533520" y="2011320"/>
            <a:ext cx="84135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.1  Tiempo de Mantención                             2.2  Tiempo de Manten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ventiva                                                           corr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63360" y="3078000"/>
            <a:ext cx="49993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.1.1 Tiempo de               2.1.2  Tiemp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antención                      Manten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stemática                       Condicional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104760" y="4419720"/>
            <a:ext cx="896004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.1.1.1              2.1.1.2               2.1.2.1            2.1.2.2                 2.2.1                       2.2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ctivo de         Anexo  de          Activo  de      Anexo  de           Activo  de               Anexo  de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mantención     mantención       mantención     mantención         mantención             manten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istemática       sistemática        condicional     condicional         correctiva                correc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-  logística                                 -  logística           -  ubicac.falla          - administr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-  preparación                            -  preparación      -  diagnóstico          - logís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-  reparación           - técn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-  verificación         - prep. traba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 flipH="1">
            <a:off x="1144080" y="2668680"/>
            <a:ext cx="684360" cy="53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2211480" y="2668680"/>
            <a:ext cx="1065240" cy="45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 flipH="1">
            <a:off x="534960" y="4040280"/>
            <a:ext cx="37944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1373040" y="4040280"/>
            <a:ext cx="37944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 flipH="1">
            <a:off x="3430080" y="4040280"/>
            <a:ext cx="22716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4116240" y="4116240"/>
            <a:ext cx="379440" cy="30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 flipH="1">
            <a:off x="6249600" y="2744640"/>
            <a:ext cx="988920" cy="167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7697880" y="2744640"/>
            <a:ext cx="684000" cy="167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5" name=""/>
          <p:cNvGraphicFramePr/>
          <p:nvPr/>
        </p:nvGraphicFramePr>
        <p:xfrm>
          <a:off x="304920" y="609480"/>
          <a:ext cx="3657600" cy="556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09480"/>
                    <a:ext cx="365760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"/>
          <p:cNvSpPr/>
          <p:nvPr/>
        </p:nvSpPr>
        <p:spPr>
          <a:xfrm>
            <a:off x="433440" y="544680"/>
            <a:ext cx="844848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BAJO DE GRUPO Nª 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INTEGRACION DEL MANTENIMIENTO DENTRO DEL SISTEMA DE LA EMPRESA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 las empresas representadas en el Grup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-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  grado de coordinación existe  entre  Operaciones y Mantención?      BUENO ...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ULAR......    MALO......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-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ractica la relación  Cliente - Servidor   SI......NO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-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o  se detecta la satisfacción  del Cliente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 reclamos  u  observaciones verbales.......................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 reclamos u  observaciones formales........................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medio de indicadores que lleva mantención..................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medio de indicador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 lleva operaciones...........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é  indicadores?   mencione uno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-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 el  Diagrama adjunto llamado  “Tiempos relacionados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tención  y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stión  de  las  Máquinas”   indique  los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mpos  que  se dan  hoy  en su empresa  para una máquin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ìtica de la plan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que el valor  de la hora de detención:  USA $............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e el valor del item 1.1.2  “Tiempo efectivo de no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onibilidad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ique el ahorro posible mejorando los tiempos de no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onibi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647440" y="258840"/>
            <a:ext cx="3951000" cy="11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MANTEN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6840" y="1461960"/>
            <a:ext cx="718164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FNOR  NF  X  60-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junto de acciones que permiten conservar 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tablecer un bien a un estado especifi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 a una situación tal  que pueda asegurar 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rvicio determinado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2520" y="3747960"/>
            <a:ext cx="7808040" cy="30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BS  38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mbinación de todas las acciones técnicas 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dministrativas asociadas tendientes a conservar  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tem o restablecerlo a un estado tal que pueda realiz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función requerid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ta:  la función requerida puede ser definida co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a condición d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647440" y="258840"/>
            <a:ext cx="3951000" cy="11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MANTEN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4320" y="1461960"/>
            <a:ext cx="823932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MIL  - STD  -  721 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odas  las  acciones  necesarias para conservar un ít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un estado especificado o restablecerlo a él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8800" y="3062160"/>
            <a:ext cx="8833680" cy="30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ORGANIZACION EUROPEA DE  MANTEN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unción empresarial a la que se encomienda el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stante  de las instalaciones así como el conjunto de l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rabajos de reparación y revisión necesarios para garantiz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funcionamiento regular y el buen estado de conserv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las instalaciones productivas, servicios e instrum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los establecimiento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5920" y="396720"/>
            <a:ext cx="8734680" cy="56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sta hace poco se decí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El  OBJETIVO   DE  MANTENCION  e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DISPONIBILIDAD  al Costo míni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Hoy, el MANTENIMIENTO</a:t>
            </a:r>
            <a:r>
              <a:rPr b="0" lang="es-ES_tradnl" sz="2800" spc="-1" strike="noStrike">
                <a:solidFill>
                  <a:srgbClr val="ccccff"/>
                </a:solidFill>
                <a:latin typeface="Times New Roman"/>
              </a:rPr>
              <a:t>,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be  integrar otros  aspect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rendimiento de la activida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segu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integridad del medio amb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eficacia energé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calidad del producto y del servicio a los cl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3300"/>
                </a:solidFill>
                <a:latin typeface="Times New Roman"/>
              </a:rPr>
              <a:t>El   rendimiento  de  la función  mantenimiento  tiene relación  con cinco áreas de  gest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mo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apacidad de rea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lexib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29120" y="101520"/>
            <a:ext cx="758412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700" spc="-1" strike="noStrike">
                <a:solidFill>
                  <a:srgbClr val="ff0000"/>
                </a:solidFill>
                <a:latin typeface="Times New Roman"/>
              </a:rPr>
              <a:t>CONTROL   OPERACIONAL   DE   LA    PLANT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31600" y="520560"/>
            <a:ext cx="213120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7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0" lang="es-ES_tradnl" sz="2700" spc="-1" strike="noStrike">
                <a:solidFill>
                  <a:srgbClr val="ff0000"/>
                </a:solidFill>
                <a:latin typeface="Times New Roman"/>
              </a:rPr>
              <a:t>C. O .P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34240" y="393876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34240" y="3976560"/>
            <a:ext cx="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934240" y="4014720"/>
            <a:ext cx="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922720" y="405288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21280" y="407844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921280" y="4116240"/>
            <a:ext cx="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909760" y="415440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897160" y="419256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896080" y="421812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5884560" y="425592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872320" y="4294080"/>
            <a:ext cx="1080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859000" y="431964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5846400" y="43578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5833800" y="438300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5820840" y="442116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808240" y="444672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5795640" y="4484520"/>
            <a:ext cx="111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770440" y="4510080"/>
            <a:ext cx="237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5757480" y="45482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5744880" y="457344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5719680" y="46116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5694480" y="46371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5681160" y="466236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5656320" y="470052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630760" y="47260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5617800" y="475128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592240" y="4776840"/>
            <a:ext cx="24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567400" y="4802040"/>
            <a:ext cx="237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541840" y="48276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5516640" y="48531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491080" y="48783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65880" y="490392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427360" y="492912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5402160" y="49546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5376960" y="49798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5338440" y="500544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313240" y="50306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5288040" y="50436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5249520" y="506880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223960" y="5081760"/>
            <a:ext cx="24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186160" y="510696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160960" y="5119560"/>
            <a:ext cx="237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122800" y="514512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5084640" y="5157720"/>
            <a:ext cx="367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046480" y="518328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021280" y="51958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4983120" y="520848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944960" y="5221440"/>
            <a:ext cx="3672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4906800" y="523404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868640" y="524664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843440" y="52592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805280" y="527220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767120" y="528480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4728960" y="529740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4690800" y="53085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4640400" y="5310360"/>
            <a:ext cx="489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4601880" y="53211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563720" y="532296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4525920" y="533412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487760" y="533556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4449600" y="534672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4411440" y="534672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4361040" y="534672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322520" y="534672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4284360" y="534672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4246200" y="534672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4208400" y="534672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4157280" y="534672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4119480" y="533520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081320" y="533412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4043160" y="532260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005000" y="53211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3966840" y="5310360"/>
            <a:ext cx="363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928680" y="53085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3890880" y="529704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3852720" y="528444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3814560" y="527184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776400" y="525888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3738240" y="524628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3700080" y="523368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3662280" y="5221440"/>
            <a:ext cx="3672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3637080" y="52081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3598560" y="519552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3560400" y="518292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3522600" y="5157720"/>
            <a:ext cx="367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3497400" y="51447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3458880" y="5119200"/>
            <a:ext cx="363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3433680" y="51066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3395520" y="5081760"/>
            <a:ext cx="367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3370320" y="50684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3331800" y="504360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3306240" y="5030280"/>
            <a:ext cx="241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3281400" y="500544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3242880" y="497988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3218040" y="49546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192480" y="492912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166560" y="4903920"/>
            <a:ext cx="24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3141720" y="48783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3116160" y="48531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3090960" y="48276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3065400" y="4801680"/>
            <a:ext cx="237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3040200" y="477684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3014640" y="47512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2989440" y="47260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2976120" y="470052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2951280" y="4662360"/>
            <a:ext cx="237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2925720" y="46371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2912760" y="46116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2887560" y="4573440"/>
            <a:ext cx="237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2874600" y="45482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2862000" y="450972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2836800" y="4484160"/>
            <a:ext cx="237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2823840" y="444636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2811600" y="4421160"/>
            <a:ext cx="1080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2798280" y="438300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2785680" y="43578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773080" y="431928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2760840" y="4294080"/>
            <a:ext cx="1080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2759040" y="4255920"/>
            <a:ext cx="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2747520" y="421776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2734920" y="419256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733840" y="4154400"/>
            <a:ext cx="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2722320" y="411624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2720880" y="407808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720880" y="405288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2720880" y="4014720"/>
            <a:ext cx="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2709360" y="397656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708280" y="393840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708280" y="390024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2709720" y="386208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2720880" y="383688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720880" y="3798720"/>
            <a:ext cx="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720880" y="376056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2722680" y="372240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733840" y="369720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2735280" y="365904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2747880" y="362088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2759040" y="359568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2760840" y="3557520"/>
            <a:ext cx="1080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2773440" y="351936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786040" y="349416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798640" y="345564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2811600" y="3430080"/>
            <a:ext cx="1080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2824200" y="339228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2836800" y="33670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2862360" y="332892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2874960" y="330372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887560" y="32781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2913120" y="324000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925720" y="32148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2951280" y="318924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976480" y="315108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989440" y="31258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014640" y="310032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3040200" y="307512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3065400" y="30495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3090960" y="30243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3116160" y="29988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3141720" y="2972880"/>
            <a:ext cx="237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3166920" y="2948040"/>
            <a:ext cx="24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192480" y="29224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3218040" y="28972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243240" y="287172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3281400" y="28587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3306600" y="2833200"/>
            <a:ext cx="2412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3332160" y="280836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3370320" y="279576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3395520" y="2770200"/>
            <a:ext cx="367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3433680" y="27572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3459240" y="273204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3497400" y="27190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522600" y="2706840"/>
            <a:ext cx="3672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560760" y="268128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598920" y="266832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3637080" y="26553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662280" y="264276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3700440" y="263016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738600" y="261756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776760" y="260460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3814920" y="259200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3852720" y="257940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90880" y="257796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3929040" y="2567160"/>
            <a:ext cx="363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3967200" y="255384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005360" y="25527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4043520" y="254124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081320" y="254016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119480" y="254016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157640" y="2528640"/>
            <a:ext cx="493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208400" y="252720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46560" y="252720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284720" y="252720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322880" y="252720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361040" y="252720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411800" y="252720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49600" y="252900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487760" y="254016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25920" y="254016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64080" y="254160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602240" y="25527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640400" y="2554200"/>
            <a:ext cx="489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691160" y="2567160"/>
            <a:ext cx="363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729320" y="25779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767120" y="257976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805280" y="259236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843440" y="26049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869000" y="261792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906800" y="263052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944960" y="264312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983120" y="265572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021280" y="26686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046840" y="268128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084640" y="2706840"/>
            <a:ext cx="3672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22800" y="271944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160960" y="273204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186520" y="275760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224320" y="2770200"/>
            <a:ext cx="24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249880" y="2795760"/>
            <a:ext cx="363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288040" y="28083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313240" y="2833560"/>
            <a:ext cx="237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38800" y="285912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76960" y="287172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02160" y="28972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27720" y="292248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465880" y="294804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91080" y="2973240"/>
            <a:ext cx="237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516640" y="29988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541840" y="30243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567400" y="30495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592600" y="3075120"/>
            <a:ext cx="24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618160" y="310032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630760" y="31258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656320" y="3151080"/>
            <a:ext cx="237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681520" y="31892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694480" y="32148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719680" y="3240000"/>
            <a:ext cx="237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45240" y="327816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57840" y="330372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770440" y="3328920"/>
            <a:ext cx="237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796000" y="336708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808600" y="339264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821200" y="3430440"/>
            <a:ext cx="111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834160" y="345600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846760" y="349416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859360" y="351936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872320" y="3557520"/>
            <a:ext cx="1080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884920" y="359568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896080" y="362124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897520" y="365904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910120" y="36972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921280" y="372276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921280" y="376092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923080" y="379872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934240" y="383688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934240" y="386244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934240" y="390060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517560" y="2801880"/>
            <a:ext cx="1209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517560" y="2992320"/>
            <a:ext cx="1335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OPERAC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518280" y="3182760"/>
            <a:ext cx="1533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E  LA  PLANTA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17560" y="3360600"/>
            <a:ext cx="375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951280" y="3492360"/>
            <a:ext cx="267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630760" y="349236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095480" y="11700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095480" y="11826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083960" y="11937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082520" y="1195560"/>
            <a:ext cx="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1071720" y="12063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069920" y="12081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1058400" y="12193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057320" y="1220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1045800" y="12333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1033200" y="12445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1020240" y="1246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1007640" y="12574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995040" y="12589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969840" y="12700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956880" y="12715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944280" y="12826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919080" y="12826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906120" y="12841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880560" y="129528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867960" y="12952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843120" y="12970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817560" y="13082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804600" y="1308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779400" y="13096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754200" y="1320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728640" y="1320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703440" y="1320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677880" y="1320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626760" y="1322280"/>
            <a:ext cx="493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576360" y="133344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525600" y="133344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474840" y="1321920"/>
            <a:ext cx="489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449280" y="1320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423360" y="132084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98520" y="1320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372960" y="1320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 flipV="1">
            <a:off x="347760" y="13093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34440" y="1308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309600" y="13082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 flipV="1">
            <a:off x="284040" y="12967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271080" y="12952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246240" y="12952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 flipV="1">
            <a:off x="232920" y="12837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08080" y="12826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194760" y="12826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 flipV="1">
            <a:off x="169920" y="12711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57320" y="127008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144000" y="12585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131400" y="12574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 flipV="1">
            <a:off x="118800" y="12459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105840" y="12445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 flipV="1">
            <a:off x="93240" y="12330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92160" y="12204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80640" y="12193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 flipV="1">
            <a:off x="68400" y="120780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66600" y="1195560"/>
            <a:ext cx="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55080" y="11937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54000" y="11822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54000" y="11696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54000" y="11570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5440" y="1155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66600" y="11440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66600" y="11314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8400" y="113040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81000" y="11188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93600" y="11066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06200" y="11048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119160" y="1093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31760" y="1092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144360" y="10807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57320" y="10796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169920" y="10681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95120" y="10666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208080" y="10551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33280" y="1054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6240" y="10540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271440" y="10425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84040" y="10414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09600" y="10414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334800" y="10299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4776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7296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9852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23720" y="102888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449280" y="10173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74840" y="101592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25600" y="101592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76360" y="101592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27120" y="101592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77880" y="10177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0344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2864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5420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7940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04960" y="1030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17560" y="10414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43120" y="10414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68320" y="10429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880920" y="105408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906480" y="1054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919080" y="10555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944640" y="10666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957240" y="10684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969840" y="1079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995400" y="10810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008000" y="1092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020600" y="10936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033560" y="11048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046160" y="11066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058760" y="11192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071720" y="11318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082520" y="11444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084320" y="1155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95480" y="11574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530440" y="10684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530440" y="10810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2518920" y="1092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517840" y="10936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2506320" y="11048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2493720" y="11066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2480760" y="11192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>
            <a:off x="2468160" y="11318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2455560" y="1143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2443320" y="11444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2430000" y="1155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2417400" y="1155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2391840" y="1157400"/>
            <a:ext cx="241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2379240" y="11685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2366640" y="11700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2341440" y="11811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2316240" y="11826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2303640" y="11937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2278080" y="11937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2252160" y="119376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2239560" y="119556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2214720" y="12063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2189160" y="12063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2163240" y="120636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2138400" y="12081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2112840" y="12193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2061720" y="121932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2010960" y="121932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1960200" y="121932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1909440" y="121932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1884240" y="12193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1859040" y="12078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1833480" y="12063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1808280" y="12063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1794960" y="12063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 flipV="1">
            <a:off x="1770120" y="119556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1744560" y="11937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1719360" y="11937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1706040" y="11937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 flipV="1">
            <a:off x="1681200" y="11822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1668600" y="11811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1643040" y="11696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1630080" y="11685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 flipV="1">
            <a:off x="1617840" y="11570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1604520" y="1155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1579680" y="1155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 flipV="1">
            <a:off x="1566360" y="11440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1553760" y="1143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 flipV="1">
            <a:off x="1541160" y="11314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1539720" y="11188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1528920" y="11174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flipV="1">
            <a:off x="1515600" y="11066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 flipV="1">
            <a:off x="1503000" y="1093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1501920" y="10807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flipV="1">
            <a:off x="1490400" y="10681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1488960" y="10551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490760" y="1054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1501920" y="10425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1501920" y="10299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503360" y="10288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1514520" y="10173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515960" y="10159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1528920" y="100440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1541520" y="9918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554120" y="9907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1566720" y="9792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1579680" y="96696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604880" y="9651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617840" y="9651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1630440" y="9536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643040" y="9525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1668600" y="9410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681200" y="9399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706400" y="9399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1719360" y="9284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744560" y="9270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770120" y="9270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795320" y="927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1808280" y="9154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833480" y="914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859040" y="914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884240" y="914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909800" y="91440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960560" y="91440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011320" y="91440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62080" y="91440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112840" y="914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138400" y="914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163600" y="9144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189160" y="9158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214720" y="9270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239920" y="927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252520" y="9270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278080" y="9288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303640" y="9399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316240" y="9399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341440" y="9414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367000" y="9525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379600" y="9540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392200" y="96516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417760" y="9651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430360" y="96696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443320" y="97956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455920" y="9907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468520" y="9921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481120" y="10033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492280" y="1004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494080" y="10159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506680" y="10177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519280" y="1030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530440" y="10429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530440" y="10555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876840" y="1004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876840" y="10177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3865320" y="1030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3852360" y="10429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851280" y="10555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3839760" y="10666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3827160" y="10684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3814920" y="10796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3801600" y="10810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3789000" y="1092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3776400" y="10936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3763440" y="11048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3738600" y="110664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3726000" y="11174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3712680" y="11174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3687840" y="11192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3675240" y="113040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3649680" y="11318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3623760" y="11430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3611160" y="1143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3586320" y="11444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3560760" y="1155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3534840" y="11556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3510000" y="1155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3484440" y="1155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3459240" y="1155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3408480" y="1157400"/>
            <a:ext cx="489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3357720" y="116856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306240" y="116856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 flipV="1">
            <a:off x="3255480" y="1157040"/>
            <a:ext cx="493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3230640" y="1155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205080" y="1155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3179880" y="1155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154320" y="1155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3141360" y="1155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 flipV="1">
            <a:off x="3116160" y="11440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3090960" y="11430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3065400" y="11430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3052440" y="11314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3027240" y="1130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H="1" flipV="1">
            <a:off x="3014280" y="11188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2989440" y="11174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2976120" y="11174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 flipV="1">
            <a:off x="2963520" y="11066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2950920" y="11048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 flipV="1">
            <a:off x="2925720" y="10933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2912760" y="1092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 flipV="1">
            <a:off x="2900520" y="108072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2887200" y="10796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2886120" y="10681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2874600" y="10666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2862000" y="10551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2860560" y="10425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2849040" y="10414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2847960" y="10299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2836440" y="10173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2835360" y="10044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2836800" y="9918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2847960" y="9792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2849400" y="96696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2862360" y="9536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874960" y="9525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2886120" y="9410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887560" y="9399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2900520" y="9284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913120" y="927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2925720" y="9154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951280" y="9144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2963880" y="9028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976480" y="9018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2989440" y="8902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014640" y="8888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027240" y="888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3052800" y="8780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065400" y="8762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090960" y="8762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116160" y="8762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3141720" y="8647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154320" y="863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179880" y="863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205080" y="863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230640" y="863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3255840" y="852120"/>
            <a:ext cx="493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306600" y="85104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357720" y="85104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408480" y="852480"/>
            <a:ext cx="489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459240" y="863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484440" y="863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510000" y="863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535200" y="86364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560760" y="8650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586320" y="8762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611520" y="876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624120" y="87624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649680" y="87804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675240" y="8888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687840" y="888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713040" y="8906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726000" y="90180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738600" y="9032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763800" y="9144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776760" y="9158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789360" y="927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801960" y="9288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814920" y="9399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827520" y="9414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840120" y="9525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851280" y="9540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852720" y="9651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863880" y="966960"/>
            <a:ext cx="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865680" y="9795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876840" y="9921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146240" y="40147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146240" y="40273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1134720" y="40384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133640" y="40402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1122120" y="40514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120680" y="40528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1109160" y="40654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1096560" y="40766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1083960" y="40784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>
            <a:off x="1071720" y="40892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H="1">
            <a:off x="1058400" y="40910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1045800" y="41022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1033200" y="41036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1008000" y="41148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>
            <a:off x="995040" y="41148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>
            <a:off x="982800" y="41162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957240" y="4127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944280" y="41292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919080" y="41403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H="1">
            <a:off x="893880" y="41403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880560" y="41418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855720" y="41529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830160" y="41529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804960" y="41529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779400" y="41544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754200" y="41655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>
            <a:off x="728640" y="41655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677520" y="416556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>
            <a:off x="626760" y="416556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576360" y="416556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525600" y="416556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500040" y="41655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474840" y="41655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 flipV="1">
            <a:off x="449280" y="41540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>
            <a:off x="423360" y="415296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410760" y="41529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385920" y="41529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H="1" flipV="1">
            <a:off x="360360" y="41414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347400" y="41403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322200" y="41403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H="1" flipV="1">
            <a:off x="297000" y="41288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283680" y="41274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H="1" flipV="1">
            <a:off x="258840" y="41158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H="1">
            <a:off x="246240" y="411480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H="1">
            <a:off x="232920" y="41148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 flipV="1">
            <a:off x="220320" y="41032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194760" y="41022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H="1" flipV="1">
            <a:off x="182160" y="40906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H="1">
            <a:off x="169560" y="4089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 flipV="1">
            <a:off x="157320" y="4078440"/>
            <a:ext cx="1080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 flipV="1">
            <a:off x="144000" y="40651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 flipV="1">
            <a:off x="131400" y="40525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 flipV="1">
            <a:off x="118800" y="40399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117360" y="40269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 flipV="1">
            <a:off x="105840" y="40143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104760" y="4001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06200" y="40006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117360" y="39891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117360" y="39762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19160" y="39751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V="1">
            <a:off x="130320" y="39636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31760" y="39625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144360" y="39510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157320" y="3938760"/>
            <a:ext cx="1080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69920" y="39369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182520" y="39254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95120" y="392436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220680" y="39128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33280" y="39117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246240" y="39002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58840" y="38988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284040" y="38872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97000" y="38862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22200" y="38862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347760" y="38746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60360" y="3873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85920" y="3873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11120" y="3873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423720" y="3862080"/>
            <a:ext cx="241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49280" y="3860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74840" y="3860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00040" y="3860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25600" y="386064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76360" y="386064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27120" y="386064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77880" y="386064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728640" y="3860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54200" y="3860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79400" y="3860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804960" y="38624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30160" y="3873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855720" y="3873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880920" y="3873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893880" y="38750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919080" y="38862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944640" y="38862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957240" y="38876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982800" y="389880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995400" y="39006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008000" y="39117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033560" y="39132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046160" y="39243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058760" y="39258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071720" y="39369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084320" y="393876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096920" y="39495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109520" y="39513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122480" y="39639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135080" y="39765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146240" y="39895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146240" y="40021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23800" y="2616120"/>
            <a:ext cx="1258920" cy="700200"/>
          </a:xfrm>
          <a:custGeom>
            <a:avLst/>
            <a:gdLst/>
            <a:ahLst/>
            <a:rect l="l" t="t" r="r" b="b"/>
            <a:pathLst>
              <a:path w="793" h="441">
                <a:moveTo>
                  <a:pt x="0" y="0"/>
                </a:moveTo>
                <a:lnTo>
                  <a:pt x="792" y="0"/>
                </a:lnTo>
                <a:lnTo>
                  <a:pt x="792" y="440"/>
                </a:lnTo>
                <a:lnTo>
                  <a:pt x="0" y="44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61960" y="5397480"/>
            <a:ext cx="1495440" cy="776160"/>
          </a:xfrm>
          <a:custGeom>
            <a:avLst/>
            <a:gdLst/>
            <a:ahLst/>
            <a:rect l="l" t="t" r="r" b="b"/>
            <a:pathLst>
              <a:path w="849" h="489">
                <a:moveTo>
                  <a:pt x="0" y="0"/>
                </a:moveTo>
                <a:lnTo>
                  <a:pt x="848" y="0"/>
                </a:lnTo>
                <a:lnTo>
                  <a:pt x="848" y="488"/>
                </a:lnTo>
                <a:lnTo>
                  <a:pt x="0" y="488"/>
                </a:lnTo>
                <a:lnTo>
                  <a:pt x="0" y="0"/>
                </a:lnTo>
              </a:path>
            </a:pathLst>
          </a:custGeom>
          <a:solidFill>
            <a:srgbClr val="cee17d"/>
          </a:solidFill>
          <a:ln cap="rnd" w="381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835360" y="6019920"/>
            <a:ext cx="1258920" cy="763560"/>
          </a:xfrm>
          <a:custGeom>
            <a:avLst/>
            <a:gdLst/>
            <a:ahLst/>
            <a:rect l="l" t="t" r="r" b="b"/>
            <a:pathLst>
              <a:path w="793" h="481">
                <a:moveTo>
                  <a:pt x="0" y="0"/>
                </a:moveTo>
                <a:lnTo>
                  <a:pt x="792" y="0"/>
                </a:lnTo>
                <a:lnTo>
                  <a:pt x="792" y="480"/>
                </a:lnTo>
                <a:lnTo>
                  <a:pt x="0" y="48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917960" y="5842080"/>
            <a:ext cx="1258920" cy="763560"/>
          </a:xfrm>
          <a:custGeom>
            <a:avLst/>
            <a:gdLst/>
            <a:ahLst/>
            <a:rect l="l" t="t" r="r" b="b"/>
            <a:pathLst>
              <a:path w="793" h="481">
                <a:moveTo>
                  <a:pt x="0" y="0"/>
                </a:moveTo>
                <a:lnTo>
                  <a:pt x="792" y="0"/>
                </a:lnTo>
                <a:lnTo>
                  <a:pt x="792" y="480"/>
                </a:lnTo>
                <a:lnTo>
                  <a:pt x="0" y="48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734160" y="5727600"/>
            <a:ext cx="1258920" cy="763560"/>
          </a:xfrm>
          <a:custGeom>
            <a:avLst/>
            <a:gdLst/>
            <a:ahLst/>
            <a:rect l="l" t="t" r="r" b="b"/>
            <a:pathLst>
              <a:path w="793" h="481">
                <a:moveTo>
                  <a:pt x="0" y="0"/>
                </a:moveTo>
                <a:lnTo>
                  <a:pt x="792" y="0"/>
                </a:lnTo>
                <a:lnTo>
                  <a:pt x="792" y="480"/>
                </a:lnTo>
                <a:lnTo>
                  <a:pt x="0" y="48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8880480" y="504360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8880480" y="506880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8880480" y="509436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8868960" y="5119560"/>
            <a:ext cx="111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8867880" y="514512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H="1">
            <a:off x="8856360" y="5170320"/>
            <a:ext cx="111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H="1">
            <a:off x="8844120" y="5195880"/>
            <a:ext cx="1080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8830800" y="52214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H="1">
            <a:off x="8818200" y="52466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H="1">
            <a:off x="8805600" y="52722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8792640" y="52848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8780040" y="531036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H="1">
            <a:off x="8755200" y="53355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H="1">
            <a:off x="8741880" y="5348160"/>
            <a:ext cx="111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H="1">
            <a:off x="8717040" y="537372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8704440" y="539892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H="1">
            <a:off x="8678880" y="54118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H="1">
            <a:off x="8652960" y="5424480"/>
            <a:ext cx="24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H="1">
            <a:off x="8628120" y="545004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H="1">
            <a:off x="8602560" y="54626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H="1">
            <a:off x="8577360" y="54752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8551800" y="54878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>
            <a:off x="8526600" y="55008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8501040" y="55134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8462880" y="552600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8437680" y="55371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8412120" y="553896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8373960" y="555156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8348760" y="55627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H="1">
            <a:off x="8310240" y="556272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H="1">
            <a:off x="8285040" y="55627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8246880" y="556272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8221680" y="55627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8183520" y="556272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8158320" y="55627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8119800" y="556272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 flipV="1">
            <a:off x="8094600" y="55512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H="1" flipV="1">
            <a:off x="8056440" y="5538960"/>
            <a:ext cx="3672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8031240" y="55371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H="1" flipV="1">
            <a:off x="8005680" y="55256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H="1" flipV="1">
            <a:off x="7980480" y="55130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 flipV="1">
            <a:off x="7941960" y="550044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H="1" flipV="1">
            <a:off x="7916760" y="54874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H="1" flipV="1">
            <a:off x="7891560" y="54748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H="1" flipV="1">
            <a:off x="7866000" y="54622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H="1" flipV="1">
            <a:off x="7840800" y="545004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H="1" flipV="1">
            <a:off x="7827480" y="542448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H="1" flipV="1">
            <a:off x="7802640" y="54115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 flipV="1">
            <a:off x="7777080" y="53985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H="1" flipV="1">
            <a:off x="7764120" y="537372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 flipV="1">
            <a:off x="7738560" y="5347800"/>
            <a:ext cx="2412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H="1" flipV="1">
            <a:off x="7725960" y="53352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 flipV="1">
            <a:off x="7701120" y="53103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 flipV="1">
            <a:off x="7687800" y="52848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H="1" flipV="1">
            <a:off x="7675200" y="52718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H="1" flipV="1">
            <a:off x="7662600" y="52466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H="1" flipV="1">
            <a:off x="7649640" y="52214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 flipV="1">
            <a:off x="7637040" y="519588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7635960" y="5169960"/>
            <a:ext cx="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H="1" flipV="1">
            <a:off x="7624440" y="514512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7623000" y="5119200"/>
            <a:ext cx="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H="1" flipV="1">
            <a:off x="7612200" y="5094360"/>
            <a:ext cx="1080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flipV="1">
            <a:off x="7610400" y="506880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7610400" y="504360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V="1">
            <a:off x="7610400" y="501804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 flipV="1">
            <a:off x="7610400" y="499284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7612200" y="4967280"/>
            <a:ext cx="1080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V="1">
            <a:off x="7623000" y="4929120"/>
            <a:ext cx="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flipV="1">
            <a:off x="7624800" y="49161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635960" y="4890600"/>
            <a:ext cx="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flipV="1">
            <a:off x="7637400" y="486576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flipV="1">
            <a:off x="7650000" y="48402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V="1">
            <a:off x="7662960" y="48150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V="1">
            <a:off x="7675560" y="47894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V="1">
            <a:off x="7688160" y="47642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V="1">
            <a:off x="7701120" y="47509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V="1">
            <a:off x="7726320" y="472608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V="1">
            <a:off x="7738920" y="4700520"/>
            <a:ext cx="24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V="1">
            <a:off x="7764480" y="46875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V="1">
            <a:off x="7777080" y="46749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flipV="1">
            <a:off x="7802640" y="46497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827840" y="46368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7840800" y="462456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7866000" y="45990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V="1">
            <a:off x="7891560" y="45860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7916760" y="45730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7942320" y="456048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980480" y="4559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V="1">
            <a:off x="8005680" y="45478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V="1">
            <a:off x="8031240" y="453564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8056440" y="453384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V="1">
            <a:off x="8094600" y="45223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8120160" y="452124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V="1">
            <a:off x="8158320" y="45097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8183520" y="450864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8221680" y="4508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8247240" y="450864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8285040" y="4508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8310600" y="451008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8348760" y="45212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8373960" y="452268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8412120" y="4533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8437680" y="453564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8462880" y="454824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8501040" y="4559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8526600" y="45608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8551800" y="45734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8577360" y="45864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8602560" y="45990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8628120" y="462456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8653320" y="4637160"/>
            <a:ext cx="241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8678880" y="46497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8704440" y="467532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8717040" y="46879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8742240" y="470052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8755200" y="47260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8780400" y="47512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8793000" y="47642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8805960" y="47894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8818560" y="48150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8831160" y="48402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8844120" y="4865760"/>
            <a:ext cx="1080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8856720" y="4890960"/>
            <a:ext cx="111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8867880" y="49165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8869320" y="492912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8880480" y="496728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8880480" y="499284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8880480" y="501804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6861240" y="2933640"/>
            <a:ext cx="27000" cy="90720"/>
          </a:xfrm>
          <a:custGeom>
            <a:avLst/>
            <a:gdLst/>
            <a:ahLst/>
            <a:rect l="l" t="t" r="r" b="b"/>
            <a:pathLst>
              <a:path w="17" h="57">
                <a:moveTo>
                  <a:pt x="0" y="0"/>
                </a:moveTo>
                <a:lnTo>
                  <a:pt x="16" y="0"/>
                </a:lnTo>
                <a:lnTo>
                  <a:pt x="16" y="56"/>
                </a:lnTo>
                <a:lnTo>
                  <a:pt x="0" y="5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848640" y="2959200"/>
            <a:ext cx="1220760" cy="547560"/>
          </a:xfrm>
          <a:custGeom>
            <a:avLst/>
            <a:gdLst/>
            <a:ahLst/>
            <a:rect l="l" t="t" r="r" b="b"/>
            <a:pathLst>
              <a:path w="769" h="345">
                <a:moveTo>
                  <a:pt x="0" y="0"/>
                </a:moveTo>
                <a:lnTo>
                  <a:pt x="768" y="0"/>
                </a:lnTo>
                <a:lnTo>
                  <a:pt x="768" y="344"/>
                </a:lnTo>
                <a:lnTo>
                  <a:pt x="0" y="34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394400" y="3365640"/>
            <a:ext cx="1221120" cy="636480"/>
          </a:xfrm>
          <a:custGeom>
            <a:avLst/>
            <a:gdLst/>
            <a:ahLst/>
            <a:rect l="l" t="t" r="r" b="b"/>
            <a:pathLst>
              <a:path w="769" h="401">
                <a:moveTo>
                  <a:pt x="0" y="0"/>
                </a:moveTo>
                <a:lnTo>
                  <a:pt x="768" y="0"/>
                </a:lnTo>
                <a:lnTo>
                  <a:pt x="768" y="400"/>
                </a:lnTo>
                <a:lnTo>
                  <a:pt x="0" y="40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108080" y="1233360"/>
            <a:ext cx="0" cy="95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1476360" y="1131840"/>
            <a:ext cx="0" cy="773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2517840" y="1131840"/>
            <a:ext cx="0" cy="83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2517840" y="1906560"/>
            <a:ext cx="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476360" y="1944720"/>
            <a:ext cx="0" cy="4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flipH="1" flipV="1">
            <a:off x="2506320" y="19951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H="1" flipV="1">
            <a:off x="2493720" y="19825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flipV="1">
            <a:off x="2492280" y="19695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92160" y="1195560"/>
            <a:ext cx="0" cy="9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5440" y="2097000"/>
            <a:ext cx="4932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06200" y="2135160"/>
            <a:ext cx="25272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60360" y="2236680"/>
            <a:ext cx="227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88960" y="22622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V="1">
            <a:off x="601560" y="2261880"/>
            <a:ext cx="2145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 flipV="1">
            <a:off x="817560" y="2223720"/>
            <a:ext cx="11268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932040" y="2198160"/>
            <a:ext cx="9972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V="1">
            <a:off x="1033560" y="2160360"/>
            <a:ext cx="6192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1096920" y="2147400"/>
            <a:ext cx="493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835360" y="1055520"/>
            <a:ext cx="0" cy="79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876840" y="1055520"/>
            <a:ext cx="0" cy="79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2836800" y="1817640"/>
            <a:ext cx="74520" cy="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2913120" y="1906560"/>
            <a:ext cx="30312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3218040" y="2021040"/>
            <a:ext cx="31572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V="1">
            <a:off x="3535200" y="1855800"/>
            <a:ext cx="30348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3840120" y="1817640"/>
            <a:ext cx="6192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515960" y="199548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528920" y="2033640"/>
            <a:ext cx="489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579680" y="2058840"/>
            <a:ext cx="226800" cy="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V="1">
            <a:off x="1808280" y="2134800"/>
            <a:ext cx="37944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V="1">
            <a:off x="2189160" y="1995480"/>
            <a:ext cx="30312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V="1">
            <a:off x="2494080" y="1969560"/>
            <a:ext cx="363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flipH="1">
            <a:off x="6494040" y="12589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492960" y="12715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6492960" y="12841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492960" y="12970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H="1">
            <a:off x="6481440" y="13096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480000" y="13222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flipH="1">
            <a:off x="6469200" y="1335240"/>
            <a:ext cx="1080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flipH="1">
            <a:off x="6455880" y="13478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454800" y="13604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flipH="1">
            <a:off x="6443280" y="1371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flipH="1">
            <a:off x="6430680" y="13730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flipH="1">
            <a:off x="6418440" y="138600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H="1">
            <a:off x="6405120" y="13986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H="1">
            <a:off x="6392520" y="14097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H="1">
            <a:off x="6379920" y="14112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H="1">
            <a:off x="6366960" y="14223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flipH="1">
            <a:off x="6354360" y="142416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6341760" y="14367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H="1">
            <a:off x="6329520" y="144792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H="1">
            <a:off x="6316200" y="14493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H="1">
            <a:off x="6291360" y="14605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flipH="1">
            <a:off x="6278040" y="14619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flipH="1">
            <a:off x="6265440" y="14731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 flipH="1">
            <a:off x="6240600" y="14731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H="1">
            <a:off x="6227280" y="14749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 flipH="1">
            <a:off x="6202440" y="14860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flipH="1">
            <a:off x="6189840" y="148608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flipH="1">
            <a:off x="6164280" y="14860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flipH="1">
            <a:off x="6151320" y="1486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6126120" y="14860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flipH="1">
            <a:off x="6113160" y="1486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flipH="1">
            <a:off x="6087960" y="14860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 flipH="1">
            <a:off x="6075000" y="1486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H="1">
            <a:off x="6049440" y="148608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 flipH="1">
            <a:off x="6036840" y="1486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H="1">
            <a:off x="6012000" y="14860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 flipH="1">
            <a:off x="5998680" y="1486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flipH="1" flipV="1">
            <a:off x="5973840" y="14745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flipH="1">
            <a:off x="5961240" y="147312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H="1">
            <a:off x="5935680" y="14731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H="1" flipV="1">
            <a:off x="5922720" y="14616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 flipH="1">
            <a:off x="5909760" y="14605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H="1" flipV="1">
            <a:off x="5897160" y="14490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 flipH="1">
            <a:off x="5872320" y="14479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H="1" flipV="1">
            <a:off x="5859000" y="14364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H="1" flipV="1">
            <a:off x="5846400" y="142416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 flipH="1">
            <a:off x="5833800" y="14223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H="1" flipV="1">
            <a:off x="5820840" y="14108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H="1">
            <a:off x="5808240" y="14097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flipH="1" flipV="1">
            <a:off x="5795640" y="13982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H="1" flipV="1">
            <a:off x="5783400" y="13856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H="1" flipV="1">
            <a:off x="5770080" y="13726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H="1" flipV="1">
            <a:off x="5757480" y="13600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H="1" flipV="1">
            <a:off x="5744880" y="13474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5743440" y="1335240"/>
            <a:ext cx="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 flipV="1">
            <a:off x="5732640" y="132192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 flipV="1">
            <a:off x="5730840" y="13093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V="1">
            <a:off x="5730840" y="12967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H="1">
            <a:off x="5719320" y="12952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V="1">
            <a:off x="5718240" y="1283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 flipV="1">
            <a:off x="5718240" y="12711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 flipV="1">
            <a:off x="5718240" y="12585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 flipV="1">
            <a:off x="5718240" y="12459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 flipV="1">
            <a:off x="5718240" y="12330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V="1">
            <a:off x="5718240" y="12204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V="1">
            <a:off x="5719680" y="12078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V="1">
            <a:off x="5730840" y="1195560"/>
            <a:ext cx="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flipV="1">
            <a:off x="5730840" y="11822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 flipV="1">
            <a:off x="5732640" y="11696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5745240" y="11570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5757840" y="11440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5769000" y="11314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V="1">
            <a:off x="5770440" y="11188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5783400" y="11174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5796000" y="11066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5808600" y="1093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821200" y="1092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5834160" y="10807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5846760" y="10681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5859360" y="10666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5872320" y="10551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5897520" y="1054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5910120" y="10425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5923080" y="10414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935680" y="10414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5961240" y="102996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597384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5999040" y="10288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601200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V="1">
            <a:off x="6037200" y="10173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049800" y="101592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075360" y="10159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6087960" y="10159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113520" y="10159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126120" y="10159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6151680" y="10159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164280" y="10177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189840" y="102888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20244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227640" y="10288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240600" y="10303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265800" y="10414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278400" y="10414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291360" y="10429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316560" y="1054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329520" y="105552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342120" y="10666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354720" y="10684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367320" y="10810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380280" y="1092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392880" y="10936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6405480" y="11066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6418440" y="11174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6431040" y="11192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6443640" y="11318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454800" y="11444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456240" y="11574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469200" y="11685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480000" y="11700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481800" y="11826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492960" y="1195560"/>
            <a:ext cx="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6492960" y="12081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492960" y="1220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492960" y="12333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494400" y="1246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 flipH="1" flipV="1">
            <a:off x="6303960" y="1690200"/>
            <a:ext cx="13824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H="1" flipV="1">
            <a:off x="6265800" y="167760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H="1" flipV="1">
            <a:off x="6214680" y="1652760"/>
            <a:ext cx="493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 flipH="1" flipV="1">
            <a:off x="6138720" y="1601280"/>
            <a:ext cx="74880" cy="4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 flipH="1" flipV="1">
            <a:off x="6100560" y="158868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 flipH="1" flipV="1">
            <a:off x="6087600" y="1525680"/>
            <a:ext cx="1116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 flipH="1" flipV="1">
            <a:off x="6062760" y="15123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V="1">
            <a:off x="6062760" y="1386000"/>
            <a:ext cx="2376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V="1">
            <a:off x="6087960" y="13604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V="1">
            <a:off x="6100920" y="1297080"/>
            <a:ext cx="8712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V="1">
            <a:off x="6189840" y="1271520"/>
            <a:ext cx="745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V="1">
            <a:off x="6265800" y="125856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6303960" y="1258920"/>
            <a:ext cx="3538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6659640" y="127152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6684840" y="1297080"/>
            <a:ext cx="493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735600" y="1309680"/>
            <a:ext cx="24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761160" y="1335240"/>
            <a:ext cx="61920" cy="8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H="1">
            <a:off x="6811560" y="1424160"/>
            <a:ext cx="11160" cy="13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>
            <a:off x="6773760" y="1563840"/>
            <a:ext cx="367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flipH="1">
            <a:off x="6760800" y="15890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 flipH="1">
            <a:off x="6684840" y="1601640"/>
            <a:ext cx="74880" cy="4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H="1">
            <a:off x="6608520" y="1652760"/>
            <a:ext cx="745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 flipH="1">
            <a:off x="6570360" y="167796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 flipH="1">
            <a:off x="6443640" y="1690560"/>
            <a:ext cx="12528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 flipH="1" flipV="1">
            <a:off x="6608520" y="1893600"/>
            <a:ext cx="17604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 flipH="1" flipV="1">
            <a:off x="6558120" y="1855440"/>
            <a:ext cx="489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 flipH="1" flipV="1">
            <a:off x="6506640" y="1842840"/>
            <a:ext cx="493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 flipH="1" flipV="1">
            <a:off x="6481800" y="181764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 flipH="1" flipV="1">
            <a:off x="6405120" y="1728360"/>
            <a:ext cx="74520" cy="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 flipV="1">
            <a:off x="6405480" y="1589040"/>
            <a:ext cx="2376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 flipV="1">
            <a:off x="6431040" y="156384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 flipV="1">
            <a:off x="6469200" y="155052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flipV="1">
            <a:off x="6481800" y="1487520"/>
            <a:ext cx="7452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 flipV="1">
            <a:off x="6558120" y="1474560"/>
            <a:ext cx="745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V="1">
            <a:off x="6634080" y="14616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659640" y="1461960"/>
            <a:ext cx="328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6989760" y="1474920"/>
            <a:ext cx="6192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7053120" y="1512720"/>
            <a:ext cx="241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7078680" y="1525680"/>
            <a:ext cx="100080" cy="11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flipH="1">
            <a:off x="7155000" y="1639800"/>
            <a:ext cx="23760" cy="12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 flipH="1">
            <a:off x="7053120" y="1766880"/>
            <a:ext cx="100080" cy="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6989760" y="1855800"/>
            <a:ext cx="619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 flipH="1">
            <a:off x="6951600" y="1868400"/>
            <a:ext cx="367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 flipH="1">
            <a:off x="6786720" y="1893960"/>
            <a:ext cx="16344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 flipH="1" flipV="1">
            <a:off x="6989400" y="2109960"/>
            <a:ext cx="15084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 flipH="1" flipV="1">
            <a:off x="6951600" y="209664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 flipH="1" flipV="1">
            <a:off x="6913440" y="2071800"/>
            <a:ext cx="367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H="1" flipV="1">
            <a:off x="6888240" y="20584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H="1" flipV="1">
            <a:off x="6849720" y="203364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flipH="1" flipV="1">
            <a:off x="6760800" y="1931760"/>
            <a:ext cx="87480" cy="9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V="1">
            <a:off x="6761160" y="1805040"/>
            <a:ext cx="1116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V="1">
            <a:off x="6773760" y="1716120"/>
            <a:ext cx="112680" cy="8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 flipV="1">
            <a:off x="6888240" y="1690200"/>
            <a:ext cx="489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flipV="1">
            <a:off x="6939000" y="167760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6977160" y="1677960"/>
            <a:ext cx="37944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7358040" y="1690560"/>
            <a:ext cx="4932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7408800" y="172872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7446960" y="1741320"/>
            <a:ext cx="7452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 flipH="1">
            <a:off x="7497720" y="1843200"/>
            <a:ext cx="2376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flipH="1">
            <a:off x="7396200" y="1969920"/>
            <a:ext cx="100080" cy="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 flipH="1">
            <a:off x="7357680" y="205884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H="1">
            <a:off x="7319880" y="2071800"/>
            <a:ext cx="367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flipH="1">
            <a:off x="7205400" y="2097000"/>
            <a:ext cx="112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 flipH="1">
            <a:off x="7142040" y="2109960"/>
            <a:ext cx="619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 flipH="1" flipV="1">
            <a:off x="7319880" y="2312640"/>
            <a:ext cx="16344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 flipH="1" flipV="1">
            <a:off x="7281720" y="2287080"/>
            <a:ext cx="3672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 flipH="1" flipV="1">
            <a:off x="7243560" y="227448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H="1" flipV="1">
            <a:off x="7205400" y="226188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H="1" flipV="1">
            <a:off x="7180200" y="22366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 flipH="1" flipV="1">
            <a:off x="7103880" y="2147400"/>
            <a:ext cx="74520" cy="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flipV="1">
            <a:off x="7104240" y="1995120"/>
            <a:ext cx="10800" cy="15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 flipV="1">
            <a:off x="7116840" y="198252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 flipV="1">
            <a:off x="7155000" y="19695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 flipV="1">
            <a:off x="7180200" y="1906560"/>
            <a:ext cx="6192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7243920" y="1893600"/>
            <a:ext cx="619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7307280" y="18684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7332840" y="1868400"/>
            <a:ext cx="36648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701120" y="18939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7726320" y="1906560"/>
            <a:ext cx="6192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7790040" y="196992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7827840" y="1982880"/>
            <a:ext cx="237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7853400" y="202104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H="1">
            <a:off x="7853040" y="2058840"/>
            <a:ext cx="11160" cy="12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 flipH="1">
            <a:off x="7814880" y="218592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 flipH="1">
            <a:off x="7790040" y="2198520"/>
            <a:ext cx="237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flipH="1">
            <a:off x="7738560" y="2236680"/>
            <a:ext cx="493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 flipH="1">
            <a:off x="7687800" y="2262240"/>
            <a:ext cx="493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>
            <a:off x="7598880" y="2287440"/>
            <a:ext cx="8748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 flipH="1">
            <a:off x="7561080" y="231300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 flipH="1">
            <a:off x="7484760" y="2324160"/>
            <a:ext cx="7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8232840" y="22874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8232840" y="23004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flipH="1">
            <a:off x="8221320" y="23130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8220240" y="23256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8220240" y="2338560"/>
            <a:ext cx="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flipH="1">
            <a:off x="8208720" y="23511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8207280" y="2363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 flipH="1">
            <a:off x="8195760" y="23763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H="1">
            <a:off x="8183160" y="2389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 flipH="1">
            <a:off x="8170560" y="24019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flipH="1">
            <a:off x="8158320" y="241452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8156520" y="24271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H="1">
            <a:off x="8145000" y="24382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 flipH="1">
            <a:off x="8132400" y="24400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H="1">
            <a:off x="8119800" y="24526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 flipH="1">
            <a:off x="8106840" y="24638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8082000" y="24652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 flipH="1">
            <a:off x="8069400" y="24764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 flipH="1">
            <a:off x="8056080" y="24782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 flipH="1">
            <a:off x="8043480" y="24890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 flipH="1">
            <a:off x="8018640" y="24908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 flipH="1">
            <a:off x="8005320" y="2502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 flipH="1">
            <a:off x="7992720" y="25034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7967160" y="25146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 flipH="1">
            <a:off x="7954560" y="2514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H="1">
            <a:off x="7941960" y="2514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 flipH="1">
            <a:off x="7916760" y="25160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 flipH="1">
            <a:off x="7903800" y="25272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H="1">
            <a:off x="7878240" y="25272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H="1">
            <a:off x="7853400" y="25272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 flipH="1">
            <a:off x="7840800" y="252720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flipH="1">
            <a:off x="7815240" y="25272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flipH="1">
            <a:off x="7802280" y="25272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flipH="1">
            <a:off x="7777080" y="25272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flipH="1">
            <a:off x="7764120" y="25272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H="1" flipV="1">
            <a:off x="7738560" y="2515680"/>
            <a:ext cx="241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flipH="1">
            <a:off x="7725960" y="2514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H="1">
            <a:off x="7701120" y="2514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 flipH="1">
            <a:off x="7687800" y="2514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 flipH="1" flipV="1">
            <a:off x="7675200" y="25030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 flipH="1">
            <a:off x="7649640" y="25020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 flipH="1" flipV="1">
            <a:off x="7637040" y="24904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 flipH="1">
            <a:off x="7624440" y="24890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 flipH="1" flipV="1">
            <a:off x="7612200" y="2478240"/>
            <a:ext cx="1080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 flipH="1">
            <a:off x="7586640" y="24764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flipH="1" flipV="1">
            <a:off x="7573680" y="24649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flipH="1">
            <a:off x="7561440" y="24638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 flipH="1" flipV="1">
            <a:off x="7548120" y="2452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 flipH="1" flipV="1">
            <a:off x="7535520" y="24397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 flipH="1">
            <a:off x="7522920" y="24382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 flipH="1" flipV="1">
            <a:off x="7509960" y="24267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V="1">
            <a:off x="7508880" y="24141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flipH="1" flipV="1">
            <a:off x="7497360" y="24015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H="1" flipV="1">
            <a:off x="7484760" y="23889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flipH="1" flipV="1">
            <a:off x="7472520" y="237600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 flipH="1" flipV="1">
            <a:off x="7459200" y="23634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 flipV="1">
            <a:off x="7458120" y="23508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flipV="1">
            <a:off x="7458120" y="2338560"/>
            <a:ext cx="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 flipH="1" flipV="1">
            <a:off x="7446600" y="23252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 flipV="1">
            <a:off x="7445520" y="23126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 flipV="1">
            <a:off x="7445520" y="23000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 flipV="1">
            <a:off x="7445520" y="22870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V="1">
            <a:off x="7445520" y="22744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V="1">
            <a:off x="7445520" y="22618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V="1">
            <a:off x="7446960" y="22496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V="1">
            <a:off x="7458120" y="22363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V="1">
            <a:off x="7458120" y="22237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flipV="1">
            <a:off x="7459560" y="22111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V="1">
            <a:off x="7472520" y="219816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flipV="1">
            <a:off x="7483320" y="21855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7485120" y="21844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V="1">
            <a:off x="7497720" y="21729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 flipV="1">
            <a:off x="7508880" y="21603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 flipV="1">
            <a:off x="7510320" y="21474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7523280" y="21463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 flipV="1">
            <a:off x="7535880" y="21348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flipV="1">
            <a:off x="7548480" y="21222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7561440" y="21207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 flipV="1">
            <a:off x="7574040" y="210996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7586640" y="21081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V="1">
            <a:off x="7612200" y="20966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7624800" y="20955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flipV="1">
            <a:off x="7637400" y="20840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7650000" y="208296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 flipV="1">
            <a:off x="7675560" y="20714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7688160" y="2070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7701120" y="20700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 flipV="1">
            <a:off x="7726320" y="20584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7738920" y="20574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7764480" y="20574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7777080" y="2057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7802640" y="20574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7815240" y="2057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7840800" y="205740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7853400" y="2057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7878600" y="20574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7904160" y="20574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7916760" y="2057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7942320" y="20588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7954920" y="2070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7967520" y="20700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7993080" y="20718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8005680" y="20829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8018640" y="20844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8043840" y="20955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8056440" y="20970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8069400" y="21081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8082000" y="210996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8107200" y="21207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8120160" y="21225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8132760" y="21351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8145360" y="21463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8156520" y="2147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8158320" y="216072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8170920" y="2173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8183520" y="21844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8194680" y="21859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8196120" y="21985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8207280" y="22114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8209080" y="22240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8220240" y="22366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8220240" y="2249640"/>
            <a:ext cx="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8221680" y="22622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8232840" y="22748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 flipH="1">
            <a:off x="6392880" y="1042920"/>
            <a:ext cx="117936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6392880" y="110484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 flipH="1">
            <a:off x="6760800" y="1042920"/>
            <a:ext cx="811080" cy="31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 flipH="1">
            <a:off x="7358040" y="1055520"/>
            <a:ext cx="163440" cy="67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7561440" y="1055520"/>
            <a:ext cx="137880" cy="87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 flipV="1">
            <a:off x="7699320" y="1868400"/>
            <a:ext cx="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7701120" y="1868400"/>
            <a:ext cx="36360" cy="7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7599240" y="1068480"/>
            <a:ext cx="557280" cy="10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88920" y="1066680"/>
            <a:ext cx="966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INVENT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1550520" y="952560"/>
            <a:ext cx="837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RECURS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2933640" y="939960"/>
            <a:ext cx="776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HISTOR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2819160" y="1193760"/>
            <a:ext cx="649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EQUIP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2820960" y="1384200"/>
            <a:ext cx="823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ROCES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2808360" y="1625760"/>
            <a:ext cx="93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RODUCT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1435680" y="125748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INSTALAC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435320" y="1447920"/>
            <a:ext cx="1015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AQUINAR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1536840" y="1587600"/>
            <a:ext cx="902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VEHICUL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511280" y="1790640"/>
            <a:ext cx="8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ANO D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1702080" y="1917720"/>
            <a:ext cx="535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OB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38160" y="1320840"/>
            <a:ext cx="963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AT.  PRI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76680" y="1498680"/>
            <a:ext cx="1005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OMPONEN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720" y="1638360"/>
            <a:ext cx="906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SUB CONJ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90720" y="1866960"/>
            <a:ext cx="93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RODUCT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254160" y="2006640"/>
            <a:ext cx="703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TERMI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154080" y="3886200"/>
            <a:ext cx="97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ROGRA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533880" y="2629080"/>
            <a:ext cx="878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532440" y="2768760"/>
            <a:ext cx="655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532800" y="2921040"/>
            <a:ext cx="1095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INVENT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534960" y="3073320"/>
            <a:ext cx="1078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DE   PRODUC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04760" y="4040280"/>
            <a:ext cx="0" cy="88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133640" y="4052880"/>
            <a:ext cx="0" cy="86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81000" y="4890960"/>
            <a:ext cx="4932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131760" y="4954680"/>
            <a:ext cx="227160" cy="8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 flipV="1">
            <a:off x="360360" y="5018040"/>
            <a:ext cx="455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V="1">
            <a:off x="817560" y="4928760"/>
            <a:ext cx="239760" cy="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flipV="1">
            <a:off x="1058760" y="4916160"/>
            <a:ext cx="748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 flipV="1">
            <a:off x="1135080" y="4890600"/>
            <a:ext cx="237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1158840" y="4890960"/>
            <a:ext cx="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 flipH="1">
            <a:off x="1135080" y="49165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4080" y="4152960"/>
            <a:ext cx="1120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OMPONEN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90360" y="4356000"/>
            <a:ext cx="100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SUB-CONJU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76320" y="4648320"/>
            <a:ext cx="776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ONTA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279360" y="4788000"/>
            <a:ext cx="558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FI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546120" y="5380200"/>
            <a:ext cx="1512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ADMINISTRA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546120" y="5583240"/>
            <a:ext cx="975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47200" y="5786280"/>
            <a:ext cx="1477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MANTENI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2895840" y="6121440"/>
            <a:ext cx="942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2894040" y="6273720"/>
            <a:ext cx="738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2895480" y="6413400"/>
            <a:ext cx="94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A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4915080" y="6012000"/>
            <a:ext cx="121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INGENIE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6744960" y="5816520"/>
            <a:ext cx="117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ONTABILIDAD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6718320" y="6045120"/>
            <a:ext cx="966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Y  FINANZ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6045120" y="4851360"/>
            <a:ext cx="902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OSTOS 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6110280" y="5041800"/>
            <a:ext cx="1006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RODUCC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5921280" y="4381560"/>
            <a:ext cx="115920" cy="115920"/>
          </a:xfrm>
          <a:custGeom>
            <a:avLst/>
            <a:gdLst/>
            <a:ahLst/>
            <a:rect l="l" t="t" r="r" b="b"/>
            <a:pathLst>
              <a:path w="73" h="73">
                <a:moveTo>
                  <a:pt x="0" y="0"/>
                </a:moveTo>
                <a:lnTo>
                  <a:pt x="72" y="40"/>
                </a:lnTo>
                <a:lnTo>
                  <a:pt x="40" y="48"/>
                </a:lnTo>
                <a:lnTo>
                  <a:pt x="32" y="7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5986440" y="4459320"/>
            <a:ext cx="35388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6645240" y="527220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7153200" y="5613480"/>
            <a:ext cx="115920" cy="115920"/>
          </a:xfrm>
          <a:custGeom>
            <a:avLst/>
            <a:gdLst/>
            <a:ahLst/>
            <a:rect l="l" t="t" r="r" b="b"/>
            <a:pathLst>
              <a:path w="73" h="73">
                <a:moveTo>
                  <a:pt x="72" y="72"/>
                </a:moveTo>
                <a:lnTo>
                  <a:pt x="0" y="32"/>
                </a:lnTo>
                <a:lnTo>
                  <a:pt x="32" y="32"/>
                </a:lnTo>
                <a:lnTo>
                  <a:pt x="32" y="0"/>
                </a:lnTo>
                <a:lnTo>
                  <a:pt x="72" y="7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6850080" y="5297400"/>
            <a:ext cx="353880" cy="36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7709040" y="4648320"/>
            <a:ext cx="931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ANEJO 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7645320" y="4813200"/>
            <a:ext cx="1084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ATERI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7726320" y="5079960"/>
            <a:ext cx="10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7671600" y="5029200"/>
            <a:ext cx="1287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INICIAR, / VERIF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7811640" y="5156280"/>
            <a:ext cx="943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TRASLAD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7886880" y="5359320"/>
            <a:ext cx="599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OL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833520" y="2933640"/>
            <a:ext cx="109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ROVEED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959520" y="3089160"/>
            <a:ext cx="581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J.I.T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7329240" y="3568680"/>
            <a:ext cx="1274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TRANSPORTIS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7467480" y="3726000"/>
            <a:ext cx="732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J . I . 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2797200" y="3200400"/>
            <a:ext cx="141120" cy="90360"/>
          </a:xfrm>
          <a:custGeom>
            <a:avLst/>
            <a:gdLst/>
            <a:ahLst/>
            <a:rect l="l" t="t" r="r" b="b"/>
            <a:pathLst>
              <a:path w="89" h="57">
                <a:moveTo>
                  <a:pt x="88" y="48"/>
                </a:moveTo>
                <a:lnTo>
                  <a:pt x="0" y="56"/>
                </a:lnTo>
                <a:lnTo>
                  <a:pt x="24" y="32"/>
                </a:lnTo>
                <a:lnTo>
                  <a:pt x="16" y="0"/>
                </a:lnTo>
                <a:lnTo>
                  <a:pt x="88" y="4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1808280" y="2986200"/>
            <a:ext cx="1027080" cy="26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1803240" y="3086280"/>
            <a:ext cx="663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1854360" y="3251160"/>
            <a:ext cx="276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855800" y="3378240"/>
            <a:ext cx="97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ROGRA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1108080" y="4406760"/>
            <a:ext cx="128520" cy="77760"/>
          </a:xfrm>
          <a:custGeom>
            <a:avLst/>
            <a:gdLst/>
            <a:ahLst/>
            <a:rect l="l" t="t" r="r" b="b"/>
            <a:pathLst>
              <a:path w="81" h="49">
                <a:moveTo>
                  <a:pt x="0" y="40"/>
                </a:moveTo>
                <a:lnTo>
                  <a:pt x="72" y="0"/>
                </a:lnTo>
                <a:lnTo>
                  <a:pt x="64" y="32"/>
                </a:lnTo>
                <a:lnTo>
                  <a:pt x="80" y="48"/>
                </a:lnTo>
                <a:lnTo>
                  <a:pt x="0" y="4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2606760" y="4076640"/>
            <a:ext cx="128520" cy="90720"/>
          </a:xfrm>
          <a:custGeom>
            <a:avLst/>
            <a:gdLst/>
            <a:ahLst/>
            <a:rect l="l" t="t" r="r" b="b"/>
            <a:pathLst>
              <a:path w="81" h="57">
                <a:moveTo>
                  <a:pt x="80" y="8"/>
                </a:moveTo>
                <a:lnTo>
                  <a:pt x="8" y="56"/>
                </a:lnTo>
                <a:lnTo>
                  <a:pt x="16" y="24"/>
                </a:lnTo>
                <a:lnTo>
                  <a:pt x="0" y="0"/>
                </a:lnTo>
                <a:lnTo>
                  <a:pt x="80" y="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 flipV="1">
            <a:off x="1211400" y="4115880"/>
            <a:ext cx="1420560" cy="34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2746440" y="4559400"/>
            <a:ext cx="128520" cy="115920"/>
          </a:xfrm>
          <a:custGeom>
            <a:avLst/>
            <a:gdLst/>
            <a:ahLst/>
            <a:rect l="l" t="t" r="r" b="b"/>
            <a:pathLst>
              <a:path w="81" h="73">
                <a:moveTo>
                  <a:pt x="80" y="0"/>
                </a:moveTo>
                <a:lnTo>
                  <a:pt x="32" y="72"/>
                </a:lnTo>
                <a:lnTo>
                  <a:pt x="32" y="40"/>
                </a:lnTo>
                <a:lnTo>
                  <a:pt x="0" y="24"/>
                </a:lnTo>
                <a:lnTo>
                  <a:pt x="8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692360" y="5295960"/>
            <a:ext cx="128520" cy="102960"/>
          </a:xfrm>
          <a:custGeom>
            <a:avLst/>
            <a:gdLst/>
            <a:ahLst/>
            <a:rect l="l" t="t" r="r" b="b"/>
            <a:pathLst>
              <a:path w="81" h="65">
                <a:moveTo>
                  <a:pt x="0" y="64"/>
                </a:moveTo>
                <a:lnTo>
                  <a:pt x="48" y="0"/>
                </a:lnTo>
                <a:lnTo>
                  <a:pt x="48" y="32"/>
                </a:lnTo>
                <a:lnTo>
                  <a:pt x="80" y="48"/>
                </a:lnTo>
                <a:lnTo>
                  <a:pt x="0" y="64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 flipH="1">
            <a:off x="1769760" y="4624560"/>
            <a:ext cx="1027080" cy="722160"/>
          </a:xfrm>
          <a:prstGeom prst="line">
            <a:avLst/>
          </a:prstGeom>
          <a:ln w="38160">
            <a:solidFill>
              <a:srgbClr val="cc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828440" y="4686480"/>
            <a:ext cx="950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ESTADO  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638720" y="4902120"/>
            <a:ext cx="1337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LAS  ORDENES  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096640" y="5118120"/>
            <a:ext cx="753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TRABAJ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676440" y="2273400"/>
            <a:ext cx="77760" cy="128520"/>
          </a:xfrm>
          <a:custGeom>
            <a:avLst/>
            <a:gdLst/>
            <a:ahLst/>
            <a:rect l="l" t="t" r="r" b="b"/>
            <a:pathLst>
              <a:path w="49" h="81">
                <a:moveTo>
                  <a:pt x="24" y="0"/>
                </a:moveTo>
                <a:lnTo>
                  <a:pt x="48" y="72"/>
                </a:lnTo>
                <a:lnTo>
                  <a:pt x="24" y="56"/>
                </a:lnTo>
                <a:lnTo>
                  <a:pt x="0" y="80"/>
                </a:lnTo>
                <a:lnTo>
                  <a:pt x="24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689040" y="2552760"/>
            <a:ext cx="77760" cy="115920"/>
          </a:xfrm>
          <a:custGeom>
            <a:avLst/>
            <a:gdLst/>
            <a:ahLst/>
            <a:rect l="l" t="t" r="r" b="b"/>
            <a:pathLst>
              <a:path w="49" h="73">
                <a:moveTo>
                  <a:pt x="24" y="72"/>
                </a:moveTo>
                <a:lnTo>
                  <a:pt x="0" y="0"/>
                </a:lnTo>
                <a:lnTo>
                  <a:pt x="24" y="16"/>
                </a:lnTo>
                <a:lnTo>
                  <a:pt x="48" y="0"/>
                </a:lnTo>
                <a:lnTo>
                  <a:pt x="24" y="7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716040" y="2363760"/>
            <a:ext cx="1116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1146240" y="2197080"/>
            <a:ext cx="128520" cy="90360"/>
          </a:xfrm>
          <a:custGeom>
            <a:avLst/>
            <a:gdLst/>
            <a:ahLst/>
            <a:rect l="l" t="t" r="r" b="b"/>
            <a:pathLst>
              <a:path w="81" h="57">
                <a:moveTo>
                  <a:pt x="0" y="0"/>
                </a:moveTo>
                <a:lnTo>
                  <a:pt x="80" y="8"/>
                </a:lnTo>
                <a:lnTo>
                  <a:pt x="56" y="24"/>
                </a:lnTo>
                <a:lnTo>
                  <a:pt x="64" y="56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051000" y="2933640"/>
            <a:ext cx="141480" cy="90720"/>
          </a:xfrm>
          <a:custGeom>
            <a:avLst/>
            <a:gdLst/>
            <a:ahLst/>
            <a:rect l="l" t="t" r="r" b="b"/>
            <a:pathLst>
              <a:path w="89" h="57">
                <a:moveTo>
                  <a:pt x="88" y="56"/>
                </a:moveTo>
                <a:lnTo>
                  <a:pt x="0" y="48"/>
                </a:lnTo>
                <a:lnTo>
                  <a:pt x="32" y="32"/>
                </a:lnTo>
                <a:lnTo>
                  <a:pt x="24" y="0"/>
                </a:lnTo>
                <a:lnTo>
                  <a:pt x="88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236600" y="2236680"/>
            <a:ext cx="1865520" cy="74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2403360" y="2070000"/>
            <a:ext cx="128880" cy="115920"/>
          </a:xfrm>
          <a:custGeom>
            <a:avLst/>
            <a:gdLst/>
            <a:ahLst/>
            <a:rect l="l" t="t" r="r" b="b"/>
            <a:pathLst>
              <a:path w="81" h="73">
                <a:moveTo>
                  <a:pt x="0" y="0"/>
                </a:moveTo>
                <a:lnTo>
                  <a:pt x="80" y="24"/>
                </a:lnTo>
                <a:lnTo>
                  <a:pt x="48" y="40"/>
                </a:lnTo>
                <a:lnTo>
                  <a:pt x="48" y="7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3267000" y="2717640"/>
            <a:ext cx="115920" cy="103320"/>
          </a:xfrm>
          <a:custGeom>
            <a:avLst/>
            <a:gdLst/>
            <a:ahLst/>
            <a:rect l="l" t="t" r="r" b="b"/>
            <a:pathLst>
              <a:path w="73" h="65">
                <a:moveTo>
                  <a:pt x="72" y="64"/>
                </a:moveTo>
                <a:lnTo>
                  <a:pt x="0" y="40"/>
                </a:lnTo>
                <a:lnTo>
                  <a:pt x="24" y="24"/>
                </a:lnTo>
                <a:lnTo>
                  <a:pt x="32" y="0"/>
                </a:lnTo>
                <a:lnTo>
                  <a:pt x="72" y="64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2481120" y="2135160"/>
            <a:ext cx="824040" cy="620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3673440" y="1981080"/>
            <a:ext cx="90360" cy="128880"/>
          </a:xfrm>
          <a:custGeom>
            <a:avLst/>
            <a:gdLst/>
            <a:ahLst/>
            <a:rect l="l" t="t" r="r" b="b"/>
            <a:pathLst>
              <a:path w="57" h="81">
                <a:moveTo>
                  <a:pt x="0" y="0"/>
                </a:moveTo>
                <a:lnTo>
                  <a:pt x="56" y="64"/>
                </a:lnTo>
                <a:lnTo>
                  <a:pt x="24" y="56"/>
                </a:lnTo>
                <a:lnTo>
                  <a:pt x="8" y="8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713040" y="2071800"/>
            <a:ext cx="201600" cy="53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546360" y="5207040"/>
            <a:ext cx="90720" cy="128520"/>
          </a:xfrm>
          <a:custGeom>
            <a:avLst/>
            <a:gdLst/>
            <a:ahLst/>
            <a:rect l="l" t="t" r="r" b="b"/>
            <a:pathLst>
              <a:path w="57" h="81">
                <a:moveTo>
                  <a:pt x="56" y="0"/>
                </a:moveTo>
                <a:lnTo>
                  <a:pt x="48" y="80"/>
                </a:lnTo>
                <a:lnTo>
                  <a:pt x="32" y="48"/>
                </a:lnTo>
                <a:lnTo>
                  <a:pt x="0" y="56"/>
                </a:lnTo>
                <a:lnTo>
                  <a:pt x="56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3203640" y="5931000"/>
            <a:ext cx="90360" cy="128520"/>
          </a:xfrm>
          <a:custGeom>
            <a:avLst/>
            <a:gdLst/>
            <a:ahLst/>
            <a:rect l="l" t="t" r="r" b="b"/>
            <a:pathLst>
              <a:path w="57" h="81">
                <a:moveTo>
                  <a:pt x="0" y="80"/>
                </a:moveTo>
                <a:lnTo>
                  <a:pt x="16" y="0"/>
                </a:lnTo>
                <a:lnTo>
                  <a:pt x="24" y="24"/>
                </a:lnTo>
                <a:lnTo>
                  <a:pt x="56" y="24"/>
                </a:lnTo>
                <a:lnTo>
                  <a:pt x="0" y="8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 flipH="1">
            <a:off x="3242880" y="5284800"/>
            <a:ext cx="353880" cy="68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4968720" y="5219640"/>
            <a:ext cx="115920" cy="115920"/>
          </a:xfrm>
          <a:custGeom>
            <a:avLst/>
            <a:gdLst/>
            <a:ahLst/>
            <a:rect l="l" t="t" r="r" b="b"/>
            <a:pathLst>
              <a:path w="73" h="73">
                <a:moveTo>
                  <a:pt x="0" y="0"/>
                </a:moveTo>
                <a:lnTo>
                  <a:pt x="72" y="40"/>
                </a:lnTo>
                <a:lnTo>
                  <a:pt x="40" y="48"/>
                </a:lnTo>
                <a:lnTo>
                  <a:pt x="32" y="7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5425920" y="5740560"/>
            <a:ext cx="115920" cy="115560"/>
          </a:xfrm>
          <a:custGeom>
            <a:avLst/>
            <a:gdLst/>
            <a:ahLst/>
            <a:rect l="l" t="t" r="r" b="b"/>
            <a:pathLst>
              <a:path w="73" h="73">
                <a:moveTo>
                  <a:pt x="72" y="72"/>
                </a:moveTo>
                <a:lnTo>
                  <a:pt x="0" y="32"/>
                </a:lnTo>
                <a:lnTo>
                  <a:pt x="24" y="32"/>
                </a:lnTo>
                <a:lnTo>
                  <a:pt x="32" y="0"/>
                </a:lnTo>
                <a:lnTo>
                  <a:pt x="72" y="7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5033880" y="5297400"/>
            <a:ext cx="430200" cy="49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2895480" y="3568680"/>
            <a:ext cx="2455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*  PREPARAR  / DESPACHAR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2893680" y="3720960"/>
            <a:ext cx="1867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ROGRAM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2895480" y="3873600"/>
            <a:ext cx="21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*  ESTADO MOVIM.  MATERI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2896200" y="4013280"/>
            <a:ext cx="1614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*  DATOS DEL PROCES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2898360" y="4165560"/>
            <a:ext cx="2472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*  ESTABLECER   PARAMETR. PROC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2895840" y="4317840"/>
            <a:ext cx="2013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*  SEGUIMIENTO  AL PROCES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2896920" y="4457880"/>
            <a:ext cx="2516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*  MONITOREO DE LA PRODUCCION  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2895120" y="4610160"/>
            <a:ext cx="140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DEL INVENTARI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3441240" y="4788000"/>
            <a:ext cx="1065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RENDIMIE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6516000" y="698400"/>
            <a:ext cx="215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ONITOREO   DE  LOS CENTRO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7710120" y="914400"/>
            <a:ext cx="954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DE TRABAJ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6032520" y="3514680"/>
            <a:ext cx="10461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SECU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6032160" y="3679920"/>
            <a:ext cx="7520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DIAR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6032160" y="3844800"/>
            <a:ext cx="9104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PROGRAM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6032520" y="3997440"/>
            <a:ext cx="77040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ESTAD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6032520" y="4162320"/>
            <a:ext cx="100332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DEL EQUIP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6645240" y="2057400"/>
            <a:ext cx="77760" cy="128520"/>
          </a:xfrm>
          <a:custGeom>
            <a:avLst/>
            <a:gdLst/>
            <a:ahLst/>
            <a:rect l="l" t="t" r="r" b="b"/>
            <a:pathLst>
              <a:path w="49" h="81">
                <a:moveTo>
                  <a:pt x="48" y="0"/>
                </a:moveTo>
                <a:lnTo>
                  <a:pt x="48" y="80"/>
                </a:lnTo>
                <a:lnTo>
                  <a:pt x="32" y="56"/>
                </a:lnTo>
                <a:lnTo>
                  <a:pt x="0" y="64"/>
                </a:lnTo>
                <a:lnTo>
                  <a:pt x="48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 flipV="1">
            <a:off x="6342120" y="2147400"/>
            <a:ext cx="353880" cy="1395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696000" y="3403440"/>
            <a:ext cx="128520" cy="90720"/>
          </a:xfrm>
          <a:custGeom>
            <a:avLst/>
            <a:gdLst/>
            <a:ahLst/>
            <a:rect l="l" t="t" r="r" b="b"/>
            <a:pathLst>
              <a:path w="81" h="57">
                <a:moveTo>
                  <a:pt x="80" y="0"/>
                </a:moveTo>
                <a:lnTo>
                  <a:pt x="24" y="56"/>
                </a:lnTo>
                <a:lnTo>
                  <a:pt x="32" y="24"/>
                </a:lnTo>
                <a:lnTo>
                  <a:pt x="0" y="16"/>
                </a:lnTo>
                <a:lnTo>
                  <a:pt x="8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 flipV="1">
            <a:off x="6570720" y="3443400"/>
            <a:ext cx="17604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7572240" y="4648320"/>
            <a:ext cx="128880" cy="77760"/>
          </a:xfrm>
          <a:custGeom>
            <a:avLst/>
            <a:gdLst/>
            <a:ahLst/>
            <a:rect l="l" t="t" r="r" b="b"/>
            <a:pathLst>
              <a:path w="81" h="49">
                <a:moveTo>
                  <a:pt x="80" y="48"/>
                </a:moveTo>
                <a:lnTo>
                  <a:pt x="0" y="48"/>
                </a:lnTo>
                <a:lnTo>
                  <a:pt x="24" y="32"/>
                </a:lnTo>
                <a:lnTo>
                  <a:pt x="16" y="0"/>
                </a:lnTo>
                <a:lnTo>
                  <a:pt x="80" y="4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786720" y="4408560"/>
            <a:ext cx="823680" cy="29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5896080" y="3860640"/>
            <a:ext cx="128520" cy="78120"/>
          </a:xfrm>
          <a:custGeom>
            <a:avLst/>
            <a:gdLst/>
            <a:ahLst/>
            <a:rect l="l" t="t" r="r" b="b"/>
            <a:pathLst>
              <a:path w="81" h="49">
                <a:moveTo>
                  <a:pt x="0" y="32"/>
                </a:moveTo>
                <a:lnTo>
                  <a:pt x="80" y="0"/>
                </a:lnTo>
                <a:lnTo>
                  <a:pt x="64" y="24"/>
                </a:lnTo>
                <a:lnTo>
                  <a:pt x="80" y="48"/>
                </a:lnTo>
                <a:lnTo>
                  <a:pt x="0" y="3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 flipH="1">
            <a:off x="5999040" y="3887640"/>
            <a:ext cx="1000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8267040" y="6386400"/>
            <a:ext cx="78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FIG.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 rot="1980000">
            <a:off x="5797080" y="1585440"/>
            <a:ext cx="21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RUPOS  DE  TAR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"/>
          <p:cNvSpPr/>
          <p:nvPr/>
        </p:nvSpPr>
        <p:spPr>
          <a:xfrm>
            <a:off x="2673360" y="1682640"/>
            <a:ext cx="3263760" cy="311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1758960" y="920880"/>
            <a:ext cx="5092560" cy="4635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1066680" y="2057400"/>
            <a:ext cx="181620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1279440" y="708120"/>
            <a:ext cx="1459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RPORAC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2035080" y="5973840"/>
            <a:ext cx="4465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ONCEPTO   DE  SISTEMA 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1143000" y="2133720"/>
            <a:ext cx="1448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MPETE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838800" y="3886200"/>
            <a:ext cx="1073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MER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2896920" y="5486400"/>
            <a:ext cx="275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SERVICIOS EXTER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6248520" y="1523880"/>
            <a:ext cx="121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GEOGRAF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 flipV="1">
            <a:off x="685800" y="3809880"/>
            <a:ext cx="137160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 flipV="1">
            <a:off x="6095880" y="1446840"/>
            <a:ext cx="1371600" cy="533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 flipV="1">
            <a:off x="1143000" y="609120"/>
            <a:ext cx="1676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2955960" y="2833560"/>
            <a:ext cx="247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ccccff"/>
                </a:solidFill>
                <a:latin typeface="Times New Roman"/>
              </a:rPr>
              <a:t>MANTEN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3224880" y="152388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ABASTECIMI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1829880" y="327672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PERS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2971800" y="4495680"/>
            <a:ext cx="204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OPE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5715000" y="2362320"/>
            <a:ext cx="175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INGENIE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5638680" y="3581280"/>
            <a:ext cx="2120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CONTRALO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2895480" y="5410080"/>
            <a:ext cx="281952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"/>
          <p:cNvSpPr/>
          <p:nvPr/>
        </p:nvSpPr>
        <p:spPr>
          <a:xfrm>
            <a:off x="380880" y="304920"/>
            <a:ext cx="8542440" cy="23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cc99"/>
                </a:solidFill>
                <a:latin typeface="Times New Roman"/>
              </a:rPr>
              <a:t>Temas  de  Permanente  Actu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DUCCION  =   OPERACIONES  +  MANTEN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Relación Cliente - Servi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460800" y="2743200"/>
            <a:ext cx="67806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 DE  MANTENCION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20  A  40 %    de  los  costos  dire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468360" y="4495680"/>
            <a:ext cx="59943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ERTEZA    DE  FUNCION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gro de la Continuidad de March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0" name=""/>
          <p:cNvGraphicFramePr/>
          <p:nvPr/>
        </p:nvGraphicFramePr>
        <p:xfrm>
          <a:off x="7467480" y="2971800"/>
          <a:ext cx="1146240" cy="101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971800"/>
                    <a:ext cx="114624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2" name=""/>
          <p:cNvGraphicFramePr/>
          <p:nvPr/>
        </p:nvGraphicFramePr>
        <p:xfrm>
          <a:off x="5791320" y="1828800"/>
          <a:ext cx="1606320" cy="90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1828800"/>
                    <a:ext cx="1606320" cy="90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4" name=""/>
          <p:cNvGraphicFramePr/>
          <p:nvPr/>
        </p:nvGraphicFramePr>
        <p:xfrm rot="10800000">
          <a:off x="6553080" y="4572000"/>
          <a:ext cx="2210040" cy="165744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4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 rot="10800000">
                    <a:off x="6553080" y="4572000"/>
                    <a:ext cx="221004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8T03:13:44Z</dcterms:created>
  <dc:creator>Ernesto Gramsch</dc:creator>
  <dc:description/>
  <dc:language>en-US</dc:language>
  <cp:lastModifiedBy>Ernesto Gramsch</cp:lastModifiedBy>
  <dcterms:modified xsi:type="dcterms:W3CDTF">2004-03-23T18:38:53Z</dcterms:modified>
  <cp:revision>10</cp:revision>
  <dc:subject/>
  <dc:title>Presentación de PowerPoint</dc:title>
</cp:coreProperties>
</file>