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289-1913-4687-87CF-F072CB7E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78E-A59F-48B3-868E-8D11AABC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6C7-0A5D-4B87-87F1-0D63193E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9F5-ECBA-40AC-B71E-A74898F1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793-2CBF-4C10-9E66-00A10F08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766-CC62-45E2-AE2E-24D34C1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9F6-8D47-43D4-962B-B3E2EDF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CF4-0F26-4E8E-A6F8-8CCA6EF6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B31-BB81-4088-9415-4F96FBD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6AC-17BD-4036-8067-4EB2D48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6FB-4E05-4BA4-82E5-3AA02D4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1DC-7913-4E9A-8E6E-D027E6E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7BD-0B45-4A56-85A9-18A6C882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lla  Por Top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43704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 bloque como el de la figura c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 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ura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definen 4 regiones de deslizamien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1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es estable  y no desliza  ni su volcamiento (Topp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2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desliza  pero sufre volc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3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se  vuelca   pero no sufre desliz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4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puede  volcar  y también desliz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32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-91800"/>
            <a:ext cx="8351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RESURIZACIÓN DE TA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 que la presión del agua disminuye la estabilidad de un rajo abierto, su reducción ayuda a mantener el talud sin desli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tres principios básicos  que deben considerarse en relación a la despresurización de un talu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ir que el agua superficial ingrese al talud por las grietas de tracción y fis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r la presión de agua en la vecindad de una superficie potencial de falla  mediante drenajes superficiales o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ubicación de los drenajes debe ser tal que reducen la presión de agua en las cercanías de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982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métodos más comunes de drenaje son los siguie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o impermeabilización  de Superfi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horizontal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erforaciones de drenaje en la base de grietas de t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lector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gua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renada hacia otra áreas de modo que no reingrese a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zos de drenaje verti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Perforados desde la superficie superior con bombas down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lerías de drenaj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Suelen incluir abanicos de tiros de dren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00:20Z</dcterms:created>
  <dc:creator>Juan Alvarado</dc:creator>
  <dc:description/>
  <dc:language>en-US</dc:language>
  <cp:lastModifiedBy>Juan Alvarado</cp:lastModifiedBy>
  <dcterms:modified xsi:type="dcterms:W3CDTF">2004-11-11T20:24:46Z</dcterms:modified>
  <cp:revision>6</cp:revision>
  <dc:subject/>
  <dc:title>Falla  Por Toppling</dc:title>
</cp:coreProperties>
</file>