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75B-2741-471E-A024-68BAEEBF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684-041D-4006-A4A5-4687E2B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BEE-7286-4304-B8EA-841F8454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B10-946F-435D-AF34-8F8AB407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A03-8CD9-4C99-8422-0117E543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D05-24E3-41F9-9F42-843C1D1A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509-8603-4AAA-9F29-62070EA8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EBE-ACB9-4C6F-BFCC-E129E9AF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766-2D1E-4D25-BEB6-F0AAF1F2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83C-18FF-4CB2-9181-5AB2E62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BA5-56E8-4F30-B7FC-FDCD343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E6F-43EC-46C4-A6DA-55074D8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193-9DF8-42EF-BBAC-6AFA240E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20000" cy="482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lla  Por Top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43704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 bloque como el de la figura c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o 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ura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definen 4 regiones de deslizamien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1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g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es estable  y no desliza  ni su volcamiento (Topp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2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g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desliza  pero sufre volcamien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3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l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se  vuelca   pero no sufre deslizamien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4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l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puede  volcar  y también desliz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329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-91800"/>
            <a:ext cx="835164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RESURIZACIÓN DE TA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 que la presión del agua disminuye la estabilidad de un rajo abierto, su reducción ayuda a mantener el talud sin desliz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tres principios básicos  que deben considerarse en relación a la despresurización de un talu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ir que el agua superficial ingrese al talud por las grietas de tracción y fis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r la presión de agua en la vecindad de una superficie potencial de falla  mediante drenajes superficiales o subterrán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ubicación de los drenajes debe ser tal que reducen la presión de agua en las cercanías del t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982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métodos más comunes de drenaje son los siguie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renajes o impermeabilización  de Superfi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renajes horizontales.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erforaciones de drenaje en la base de grietas de t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lectores.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gua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renada hacia otra áreas de modo que no reingrese al t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zos de drenaje vertic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 Perforados desde la superficie superior con bombas down th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lerías de drenaj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 Suelen incluir abanicos de tiros de drena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00:20Z</dcterms:created>
  <dc:creator>Juan Alvarado</dc:creator>
  <dc:description/>
  <dc:language>en-US</dc:language>
  <cp:lastModifiedBy>Juan Alvarado</cp:lastModifiedBy>
  <dcterms:modified xsi:type="dcterms:W3CDTF">2004-11-11T20:24:46Z</dcterms:modified>
  <cp:revision>6</cp:revision>
  <dc:subject/>
  <dc:title>Falla  Por Toppling</dc:title>
</cp:coreProperties>
</file>