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1F1D-EE36-4D06-9B20-6CE628533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72BC-327B-423E-9D69-B17BF542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705A-448C-452F-828A-3396364D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5FFA-260E-41CC-A807-4AF41C1E7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CA82-F12E-4651-AEF8-B636FDCC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7044-8AF1-4FA3-A1E3-6F166D38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29FF-C8D1-4379-A98D-111E3FD3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7388-B351-4290-B306-BD00D259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69B1-C60C-4504-AD50-8C46058C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71B8-788A-4C0D-9A74-A22797D2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4422-F71B-41F3-8B3D-7AEDA1A5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35B4-AEAB-4175-AD42-74E6BED2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D2AE-FF12-498A-A496-DBDAE7BFD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920000" cy="4824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Falla  Por Top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75614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00000" y="437040"/>
            <a:ext cx="770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tiene un bloque como el de la figura c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so W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ura 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definen 4 regiones de deslizamiento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ón 1,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y  B/H  &gt; Tan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el bloque es estable  y no desliza  ni su volcamiento (Topplin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ón 2,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y  B/H  &gt; Tan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el bloque desliza  pero sufre volcamiento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ón 3,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y  B/H  &lt; Tan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el bloque se  vuelca   pero no sufre deslizamiento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ón 4,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y  B/H  &lt; Tan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el bloque puede  volcar  y también desliza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63640" y="549360"/>
            <a:ext cx="5329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-91800"/>
            <a:ext cx="8351640" cy="59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PRESURIZACIÓN DE TALU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do que la presión del agua disminuye la estabilidad de un rajo abierto, su reducción ayuda a mantener el talud sin deslizami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en tres principios básicos  que deben considerarse en relación a la despresurización de un talu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venir que el agua superficial ingrese al talud por las grietas de tracción y fisu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ir la presión de agua en la vecindad de una superficie potencial de falla  mediante drenajes superficiales o subterráne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ubicación de los drenajes debe ser tal que reducen la presión de agua en las cercanías del talu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648180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5640" y="498240"/>
            <a:ext cx="748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métodos más comunes de drenaje son los siguient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renajes o impermeabilización  de Superfic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renajes horizontales.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Perforaciones de drenaje en la base de grietas de ten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lectores.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agua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renada hacia otra áreas de modo que no reingrese al talu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ozos de drenaje vertical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  Perforados desde la superficie superior con bombas down the h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Galerías de drenaje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  Suelen incluir abanicos de tiros de drenaj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0:00:20Z</dcterms:created>
  <dc:creator>Juan Alvarado</dc:creator>
  <dc:description/>
  <dc:language>en-US</dc:language>
  <cp:lastModifiedBy>Juan Alvarado</cp:lastModifiedBy>
  <dcterms:modified xsi:type="dcterms:W3CDTF">2004-11-11T20:24:46Z</dcterms:modified>
  <cp:revision>6</cp:revision>
  <dc:subject/>
  <dc:title>Falla  Por Toppling</dc:title>
</cp:coreProperties>
</file>