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DF8-9A11-49EE-939D-74F103F6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D43-362F-4110-94E7-68D963E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8AE-FD37-4FE8-8D62-2399D615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E12-A4EF-4BD0-BF11-A7CC8A4D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050-3BD3-4012-B23F-B76A5146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FB3-9207-4B05-A9B2-9AD9CBB9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504-22FC-458E-9925-4D85EF2B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3DB-00AC-43B7-B7AA-A548D8D3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AD1-FA74-4981-84BC-B8BE3D2A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1AE-7C8F-46DE-9666-EBFF99A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5DB-FE1C-4EEE-A1A4-7393306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33E-340F-4303-85B9-38BD9B87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992-EF10-4FD0-B917-83AF04420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20000" cy="482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lla  Por Top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561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43704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iene un bloque como el de la figura c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o 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ura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definen 4 regiones de deslizamien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1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g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es estable  y no desliza  ni su volcamiento (Topp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2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g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desliza  pero sufre volcamien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3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l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se  vuelca   pero no sufre deslizamien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4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l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puede  volcar  y también desliz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329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-91800"/>
            <a:ext cx="835164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RESURIZACIÓN DE TAL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 que la presión del agua disminuye la estabilidad de un rajo abierto, su reducción ayuda a mantener el talud sin desliz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 tres principios básicos  que deben considerarse en relación a la despresurización de un talu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ir que el agua superficial ingrese al talud por las grietas de tracción y fis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r la presión de agua en la vecindad de una superficie potencial de falla  mediante drenajes superficiales o subterrán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ubicación de los drenajes debe ser tal que reducen la presión de agua en las cercanías del t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9824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métodos más comunes de drenaje son los siguie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renajes o impermeabilización  de Superfi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renajes horizontales.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erforaciones de drenaje en la base de grietas de t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lectores.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gua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renada hacia otra áreas de modo que no reingrese al t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ozos de drenaje vertic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 Perforados desde la superficie superior con bombas down the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lerías de drenaj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 Suelen incluir abanicos de tiros de drena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00:20Z</dcterms:created>
  <dc:creator>Juan Alvarado</dc:creator>
  <dc:description/>
  <dc:language>en-US</dc:language>
  <cp:lastModifiedBy>Juan Alvarado</cp:lastModifiedBy>
  <dcterms:modified xsi:type="dcterms:W3CDTF">2004-11-11T20:24:46Z</dcterms:modified>
  <cp:revision>6</cp:revision>
  <dc:subject/>
  <dc:title>Falla  Por Toppling</dc:title>
</cp:coreProperties>
</file>