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43B-0F4C-4B0C-977A-860D80DC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CDD-F980-4591-A124-0996CA44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CAF-B407-440C-94F8-6A73CBA9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3A7-0978-4136-A3A1-380FE4E7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520-D92C-4CB3-A416-AC2466A1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FA4-E909-4931-85B0-8CA09699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637-7BEB-4881-8B28-6A5B1CC0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807-0AB0-4A0C-9BC8-EE1FA517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572-AF26-453C-88E7-32C49707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258-0EA5-466C-91B9-15A24E9A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F48-B52B-468F-A611-6270056F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EEE-7456-4CCA-BC69-A98F57D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6030-66B3-4CAD-B46D-DA7A2D818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52600" y="1352520"/>
            <a:ext cx="56228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RMAS DE FALLAS DE T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Pla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Ro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en 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en Top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116000" y="-1035000"/>
            <a:ext cx="1116000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03320" y="-819000"/>
            <a:ext cx="11407680" cy="84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603360"/>
            <a:ext cx="10771200" cy="89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044720" y="-1179360"/>
            <a:ext cx="11117520" cy="92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39:18Z</dcterms:created>
  <dc:creator>Juan Alvarado</dc:creator>
  <dc:description/>
  <dc:language>en-US</dc:language>
  <cp:lastModifiedBy>Juan Alvarado</cp:lastModifiedBy>
  <dcterms:modified xsi:type="dcterms:W3CDTF">2004-10-04T20:48:11Z</dcterms:modified>
  <cp:revision>1</cp:revision>
  <dc:subject/>
  <dc:title>Diapositiva 1</dc:title>
</cp:coreProperties>
</file>