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A03-4E40-4410-87C3-A24019AE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5E7-FC61-4AA0-9F14-235C0089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A2E-7B68-4A16-9072-2C30E5BA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C4F-DA64-4FE7-858F-D87086D8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605-D805-487A-94C6-0CF110BC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946-A786-43D0-8417-179F2AA7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D8B-E633-4627-BF54-CD852FE3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110-F1B7-47ED-89EE-6DB979F1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318-2D0B-41DC-8AA7-5740EC7A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864-8047-41F9-B228-B19271C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CDF-5049-4934-B89E-17060B25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FFB-28F3-47AF-97E7-913335D2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75A6-2E0C-41CB-9574-0F68083E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52600" y="1352520"/>
            <a:ext cx="56228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RMAS DE FALLAS DE T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Plan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Ro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en 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en Top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116000" y="-1035000"/>
            <a:ext cx="1116000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003320" y="-819000"/>
            <a:ext cx="11407680" cy="84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603360"/>
            <a:ext cx="10771200" cy="89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044720" y="-1179360"/>
            <a:ext cx="11117520" cy="92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0:39:18Z</dcterms:created>
  <dc:creator>Juan Alvarado</dc:creator>
  <dc:description/>
  <dc:language>en-US</dc:language>
  <cp:lastModifiedBy>Juan Alvarado</cp:lastModifiedBy>
  <dcterms:modified xsi:type="dcterms:W3CDTF">2004-10-04T20:48:11Z</dcterms:modified>
  <cp:revision>1</cp:revision>
  <dc:subject/>
  <dc:title>Diapositiva 1</dc:title>
</cp:coreProperties>
</file>