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A70-06E4-42EB-AC5A-4F8D6B30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334-4297-4AA6-B510-6300C64A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EDA-F099-4D70-9651-3CF8FA8E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038-1F8E-492E-B578-6154DBF3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FB3-56E6-46E0-9389-8DBEE13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940-DE7B-43E0-A9C1-DE59B4F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638-1E2B-417E-8784-F97473FA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B0D-08F2-4D23-AAD6-280C26F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51C-E2D2-4099-953D-1C616F2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3B4-DCA1-494B-96AA-816EB50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93B-6397-4836-BA35-1B26CFB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C23-15A5-4A36-8695-5FEB5502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21D4-2EAD-4064-89AC-17912D82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2600" y="1352520"/>
            <a:ext cx="56228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S DE FALLAS DE T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Pl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Ro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Top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00" y="-1035000"/>
            <a:ext cx="1116000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03320" y="-819000"/>
            <a:ext cx="11407680" cy="84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603360"/>
            <a:ext cx="10771200" cy="89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44720" y="-1179360"/>
            <a:ext cx="11117520" cy="92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39:18Z</dcterms:created>
  <dc:creator>Juan Alvarado</dc:creator>
  <dc:description/>
  <dc:language>en-US</dc:language>
  <cp:lastModifiedBy>Juan Alvarado</cp:lastModifiedBy>
  <dcterms:modified xsi:type="dcterms:W3CDTF">2004-10-04T20:48:11Z</dcterms:modified>
  <cp:revision>1</cp:revision>
  <dc:subject/>
  <dc:title>Diapositiva 1</dc:title>
</cp:coreProperties>
</file>