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DFA-737E-4134-86FB-47DD38E5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E3A-FD44-4828-B2BA-4D026D8C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220-13D0-458A-82D8-D406B5D6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AC3-F5A5-42BB-BD2F-0973587E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D91-F2CC-460D-AC30-69CCAE22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D2E-B693-4D14-B2B8-BB8DC832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4DA-24B3-4B97-BA11-3F43E629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61C-8C46-47D1-9B16-5FE1A563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A8C-23CE-41FA-B881-0F507632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E31-F750-4CAA-B8CD-BC3C1AC8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BEE-2796-41EF-A1D9-9B2366D3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84E4-1609-401C-883B-F2013398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F771-D68A-432C-95B0-4EAD992AA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A POR CU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ENIERÍA DE RO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2012040"/>
            <a:ext cx="661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 de falla por cuñ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lano A     dip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 45,        Dipdir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lano B     dip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 70,        Dipdir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2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20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CA = 500 lb/f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30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CB = 1000 lb/f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a del talud             dip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 65,        Dipdir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perficie superior     dip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 12,        Dipdir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 = altura del talud =  13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2723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98480" y="-1521000"/>
            <a:ext cx="7547040" cy="9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617400"/>
            <a:ext cx="525636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3360" y="785880"/>
            <a:ext cx="8475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7812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172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47640" y="1952280"/>
            <a:ext cx="6010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LA POR C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líneas de intersección que se generan s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Intersección del Plano A  con la cara del T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Intersección del Plano B con la cara del T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Intersección del Plano A con la superficie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Intersección del Plano B con la superficie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Intersección del Plano A con el Plan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asume que el deslizamiento de la cuña se produce por a través de la línea número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81200" y="775080"/>
            <a:ext cx="758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Factor de  Seguridad del talud viene dada por la siguiente expresió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( CA X + CB Y)/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+ (A-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X)/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a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 B -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)/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a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 ,C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rresponden  a la cohesión de los planos A 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rresponden a los ángulos de  fricción de los planos A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1840" y="980280"/>
            <a:ext cx="868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rresponde al peso unitario de la 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w corresponde al peso unitario d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 es la altura total de la c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X,Y,A,B  son  factores adimensionales de que dependen de la geometría de la c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  S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/  (S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 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=   Sen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3 /  (Sen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35 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n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 =    (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 - Co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 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nb) / (S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5 Sen2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n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 =    (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 - Co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 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nb) / (S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5 Sen2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n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65080" y="1298880"/>
            <a:ext cx="7427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on los dips de los planos A y B respectiv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el dip de la línea de intersección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1nb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el ángulo entre el punto de intersección 1 y el polo del plan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2n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el ángulo  entre el punto de intersección 2 y el polo del plan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es el ángulo entre los puntos de intersección 1 y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es el ángulo entre los puntos de intersección 2 y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es el ángulo entre los puntos de intersección 3 y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es el ángulo entre los puntos de intersección 4 y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anb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el ángulo entre los polos de los planos A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ángulos requeridos para la solución de estas ecuaciones pueden ser medidos mediante un estereopl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22:14:22Z</dcterms:created>
  <dc:creator>Juan Alvarado</dc:creator>
  <dc:description/>
  <dc:language>en-US</dc:language>
  <cp:lastModifiedBy>Juan Alvarado</cp:lastModifiedBy>
  <dcterms:modified xsi:type="dcterms:W3CDTF">2004-08-27T19:41:39Z</dcterms:modified>
  <cp:revision>16</cp:revision>
  <dc:subject/>
  <dc:title>Diapositiva 1</dc:title>
</cp:coreProperties>
</file>