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8C1-F1E5-4E4E-B9F1-2D9EB6C2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F44-429D-41F1-B006-522AC5D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80B-8A58-4A69-8EE2-A365BB23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E4F-EEDB-41EB-833F-58799672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D18-3323-4495-923B-ED05597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DA5-67EA-4D60-A608-E0BC9B4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627-ABAF-42AB-9266-025A022C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5AE-D4D4-4E08-AD8A-C950D39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007-DC09-42A0-B10B-876B8117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0FB-B45E-4BEE-9DD2-B493DEAF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2E5-B454-48A1-BE75-A3786E36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C6B-4BA2-43CA-823C-E311F0D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47C-20A2-4CFC-8233-BB8265A86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ENIERÍA DE RO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12040"/>
            <a:ext cx="66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 de falla por cuñ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A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4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lano B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70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2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A = 5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30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CB = 1000 lb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a del talud        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65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perficie superior     dip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 12,        Dipdir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= altura del talud =  13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8480" y="-1521000"/>
            <a:ext cx="7547040" cy="9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17400"/>
            <a:ext cx="52563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3360" y="785880"/>
            <a:ext cx="847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7812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1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1952280"/>
            <a:ext cx="601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 POR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líneas de intersección que se generan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Intersección del Plano A 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Intersección del Plano B con la cara del T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Intersección del Plano A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Intersección del Plano B con la superficie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ntersección del Plano A con 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sume que el deslizamiento de la cuña se produce por a través de la línea númer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" y="775080"/>
            <a:ext cx="75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actor de  Seguridad del talud viene dada por la siguiente expres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( CA X + CB Y)/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+ (A-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X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 B -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 ,C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 a la cohesión de los planos A 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rresponden a los ángulos de  fricción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840" y="980280"/>
            <a:ext cx="868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sponde al peso unitario de la ro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w corresponde al peso unitario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 es la altura total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X,Y,A,B  son  factores adimensionales de que dependen de la geometría de la 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 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/ 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=   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 /  (Sen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5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=    (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 - Co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Cos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 / (Se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 Sen2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n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5080" y="1298880"/>
            <a:ext cx="742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on los dips de los planos A y B respectiv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dip de la línea de intersección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el punto de intersección 1 y el polo del plan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 entre el punto de intersección 2 y el polo del plan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1 y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2 y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3 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es el ángulo entre los puntos de intersección 4 y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anb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el ángulo entre los polos de los planos 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ángulos requeridos para la solución de estas ecuaciones pueden ser medidos mediante un estereo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2:14:22Z</dcterms:created>
  <dc:creator>Juan Alvarado</dc:creator>
  <dc:description/>
  <dc:language>en-US</dc:language>
  <cp:lastModifiedBy>Juan Alvarado</cp:lastModifiedBy>
  <dcterms:modified xsi:type="dcterms:W3CDTF">2004-08-27T19:41:39Z</dcterms:modified>
  <cp:revision>16</cp:revision>
  <dc:subject/>
  <dc:title>Diapositiva 1</dc:title>
</cp:coreProperties>
</file>