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923-D93E-40E6-BDA1-45E40002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76F-FCD4-4958-9BD2-C01F4CD8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56B-84E8-4FE9-84B1-F9D26E66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9D6-37FC-4631-BD0D-8BD6DD35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C45-B285-4889-9B06-07A5BB49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404-D7DA-40FA-82AC-01E243B8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24B-4580-4DAB-A819-18A54B49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96A-FEB9-4EED-A4C3-EC03D37B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472-6F7A-4F5C-B8FC-2738578E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339-15CE-424C-81DC-6EC9D9AB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D9D-DD98-40D4-9B5B-8F71717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FB7-AB3F-4473-BC0A-59CE2911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E9AA-F351-4B65-A9FD-A909FDBDC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A POR CU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ENIERÍA DE RO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012040"/>
            <a:ext cx="66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 de falla por cuñ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lano A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45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lano B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70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20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CA = 500 lb/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30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CB = 1000 lb/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a del talud        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65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perficie superior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12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 = altura del talud =  13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8480" y="-1521000"/>
            <a:ext cx="7547040" cy="9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617400"/>
            <a:ext cx="525636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3360" y="785880"/>
            <a:ext cx="847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7812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17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47640" y="1952280"/>
            <a:ext cx="601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 POR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líneas de intersección que se generan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Intersección del Plano A  con la cara del T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Intersección del Plano B con la cara del T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Intersección del Plano A con la superfici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Intersección del Plano B con la superfici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ntersección del Plano A con el Plan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sume que el deslizamiento de la cuña se produce por a través de la línea númer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200" y="775080"/>
            <a:ext cx="758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Factor de  Seguridad del talud viene dada por la siguiente expresió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( CA X + CB Y)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+ (A-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X)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 B -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)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,C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sponden  a la cohesión de los planos A 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sponden a los ángulos de  fricción de los planos 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1840" y="980280"/>
            <a:ext cx="868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esponde al peso unitario de la 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w corresponde al peso unitario d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 es la altura total de la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,Y,A,B  son  factores adimensionales de que dependen de la geometría de la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 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/ 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=   Sen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3 /  (Sen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5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=    (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- C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 /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 Sen2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=    (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- C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 /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 Sen2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5080" y="1298880"/>
            <a:ext cx="742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on los dips de los planos A y B respectiv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dip de la línea de intersección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n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entre el punto de intersección 1 y el polo del plan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 entre el punto de intersección 2 y el polo del pla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1 y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2 y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3 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4 y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an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entre los polos de los planos 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ángulos requeridos para la solución de estas ecuaciones pueden ser medidos mediante un estereop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2:14:22Z</dcterms:created>
  <dc:creator>Juan Alvarado</dc:creator>
  <dc:description/>
  <dc:language>en-US</dc:language>
  <cp:lastModifiedBy>Juan Alvarado</cp:lastModifiedBy>
  <dcterms:modified xsi:type="dcterms:W3CDTF">2004-08-27T19:41:39Z</dcterms:modified>
  <cp:revision>16</cp:revision>
  <dc:subject/>
  <dc:title>Diapositiva 1</dc:title>
</cp:coreProperties>
</file>