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176-4EAE-477E-A844-9FED0D65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16C-A252-463B-91DB-7ABBE58C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581-AF0A-4C96-B7AC-DBA355F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CC3-13E9-4BA9-8C4D-45711C65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BC9-D07C-4394-A7EA-3673F44C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548-F848-4FEE-A05F-6701435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7CB-763A-4FD1-84A3-612BC07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74D-BDB7-4CBD-BCDB-4DD701E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4DC-66C1-42C9-A1D0-0B599395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4CC-281E-4ABC-BDA7-385F4A4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417-BACE-4B58-B33E-CAAF137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4B1-1D51-4ED3-85D2-2A6300A1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B651-F2E1-4E8C-83AB-7A32B81D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9800" y="-1027080"/>
          <a:ext cx="5326200" cy="8870760"/>
        </p:xfrm>
        <a:graphic>
          <a:graphicData uri="http://schemas.openxmlformats.org/drawingml/2006/table">
            <a:tbl>
              <a:tblPr/>
              <a:tblGrid>
                <a:gridCol w="620640"/>
                <a:gridCol w="1257480"/>
                <a:gridCol w="895320"/>
                <a:gridCol w="1257120"/>
                <a:gridCol w="866880"/>
                <a:gridCol w="428760"/>
              </a:tblGrid>
              <a:tr h="2462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S SIMULACION MONTERCARLO, FALLA PL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HE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C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 PR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56:19Z</dcterms:created>
  <dc:creator>Juan Alvarado</dc:creator>
  <dc:description/>
  <dc:language>en-US</dc:language>
  <cp:lastModifiedBy>Juan Alvarado</cp:lastModifiedBy>
  <dcterms:modified xsi:type="dcterms:W3CDTF">2004-10-18T20:28:06Z</dcterms:modified>
  <cp:revision>2</cp:revision>
  <dc:subject/>
  <dc:title>Diapositiva 1</dc:title>
</cp:coreProperties>
</file>