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1AE-C2BF-4182-A3EC-7CB05B1A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BF5-269A-44A5-9BD3-368EF5CA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152-1926-47A6-BF43-0645FEDF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8D1-ECA4-427D-812E-912DF92C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82C-6705-4720-AF4E-DE316826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132-DA10-45FB-A4D5-93ADBA81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7BB-787B-48E1-9E2C-5190ADDA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344-F676-403D-A29F-96025679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E9B-162D-4E84-8994-F626CFF5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579-A3B8-49BC-BBF9-5640A271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35A-FCA9-4219-B32F-277B961C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B79-ECB0-4945-BE0D-B2E8B996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A2D5-3CC0-4238-B1CD-18EAC6634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909800" y="-1027080"/>
          <a:ext cx="5326200" cy="8870760"/>
        </p:xfrm>
        <a:graphic>
          <a:graphicData uri="http://schemas.openxmlformats.org/drawingml/2006/table">
            <a:tbl>
              <a:tblPr/>
              <a:tblGrid>
                <a:gridCol w="620640"/>
                <a:gridCol w="1257480"/>
                <a:gridCol w="895320"/>
                <a:gridCol w="1257120"/>
                <a:gridCol w="866880"/>
                <a:gridCol w="428760"/>
              </a:tblGrid>
              <a:tr h="24624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LTADOS SIMULACION MONTERCARLO, FALLA PL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.ALEAT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HES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.ALEAT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IC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.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.S. PRO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56:19Z</dcterms:created>
  <dc:creator>Juan Alvarado</dc:creator>
  <dc:description/>
  <dc:language>en-US</dc:language>
  <cp:lastModifiedBy>Juan Alvarado</cp:lastModifiedBy>
  <dcterms:modified xsi:type="dcterms:W3CDTF">2004-10-18T20:28:06Z</dcterms:modified>
  <cp:revision>2</cp:revision>
  <dc:subject/>
  <dc:title>Diapositiva 1</dc:title>
</cp:coreProperties>
</file>