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795-E7DD-4D32-9063-F02DEBC2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FD7-D9DB-4BD1-B1F8-0E2945E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683-37BF-4326-853D-3CF3CECB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FA2-E345-4880-95D8-D35700B1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68A-ACEF-463E-BD19-BF04983A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F98-1420-4D47-91AB-7F75013B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C49-0918-4FD2-AC93-BBBC3AFD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25B-AB7D-4F18-BAFE-8061E9BA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5B3-98A8-4271-9FEE-716C7042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358-9231-4E6D-B8B0-19C2CF80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85B-B4FC-4B8C-A7EA-36099BBA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1F4-AEA9-4E56-AAF6-FD8EF45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0FA3-2C1E-4B33-ACCF-D491D32A0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909800" y="-1027080"/>
          <a:ext cx="5326200" cy="8870760"/>
        </p:xfrm>
        <a:graphic>
          <a:graphicData uri="http://schemas.openxmlformats.org/drawingml/2006/table">
            <a:tbl>
              <a:tblPr/>
              <a:tblGrid>
                <a:gridCol w="620640"/>
                <a:gridCol w="1257480"/>
                <a:gridCol w="895320"/>
                <a:gridCol w="1257120"/>
                <a:gridCol w="866880"/>
                <a:gridCol w="428760"/>
              </a:tblGrid>
              <a:tr h="24624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ADOS SIMULACION MONTERCARLO, FALLA PL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.ALEA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HE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.ALEA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C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.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.S. PRO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56:19Z</dcterms:created>
  <dc:creator>Juan Alvarado</dc:creator>
  <dc:description/>
  <dc:language>en-US</dc:language>
  <cp:lastModifiedBy>Juan Alvarado</cp:lastModifiedBy>
  <dcterms:modified xsi:type="dcterms:W3CDTF">2004-10-18T20:28:06Z</dcterms:modified>
  <cp:revision>2</cp:revision>
  <dc:subject/>
  <dc:title>Diapositiva 1</dc:title>
</cp:coreProperties>
</file>