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A63-B120-4E4B-BE0D-78C587E8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EBE-0EDF-456C-B698-9D6AA3D3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2F5-B160-40EA-A782-0200B0DA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74C-8EDA-485C-A1D5-396A6224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43C7-CC73-4DA3-99E4-B5DBAFA5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B55A-3B1A-46CC-AE15-0926A99B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E1C0-49B7-46D4-BDF4-37464E82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02E7-302A-49B2-97A3-4597687E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A1C5-724F-449D-B511-930E245F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AB5F-0030-41EE-8550-46A79310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519F-8279-4E7E-AE4E-73B9C31B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4A1-C478-4C9B-AB65-FD9B2C34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B1CF-1561-4A83-B262-D644965B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2AC3-F9C7-452E-8AAB-39E95AB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B01E-E947-4D1D-B944-F3906DB1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90F3-2BBF-45EF-BD2E-532A457E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3769-1986-4C03-84C1-0F070237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B20-1DED-4A00-91FB-A7C3AE7D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299-1A84-41CE-B9EC-9CF3510F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AA0-D786-4B6D-A9E2-F948567C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4F0-62DC-402D-B7B6-35CDDA09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B8A-3F14-4A2E-9C65-EEE7097B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F5E-7CD6-4507-82F2-F1AE93B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0C7-CB08-4D9C-AFD7-35FAB4E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119A-A4DC-4FA8-BBAF-7E03B03AD5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6E0D-AF43-45F3-A5AB-B9CEAC5F46C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Inserta una imagen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866920" y="4190760"/>
            <a:ext cx="3124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46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 Narrow"/>
              </a:rPr>
              <a:t>En el menu insertar, escoges imagen, desde archivo , luego aparecerá un submenu como el de la figura , donde dice buscar en : colocas el nombre de la carpeta donde esté la imagen que quieras inserta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1523880"/>
          <a:ext cx="5257800" cy="39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52578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flipH="1">
            <a:off x="4266720" y="26668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286000"/>
            <a:ext cx="220968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ombre de la carpeta con las</a:t>
            </a:r>
            <a:r>
              <a:rPr b="0" lang="es-MX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mágen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54100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Insertar una ecuación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 Narrow"/>
              </a:rPr>
              <a:t>Existe un editor de ecuaciones de manera tal que quedan con un mismo formato, ordenado y claro, si no se encuentra instalada esta opcion puedes buscarla en  menu Herramientas/Personalizar, aparecerá un cuadrotexto donde deberas escoger la opcion insertar y buscar el editos de ecuaciones tal como aparece en la figura siguiente  y acepta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95280" y="380880"/>
          <a:ext cx="56390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0880"/>
                    <a:ext cx="56390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133720" y="1828800"/>
            <a:ext cx="1371600" cy="10666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9810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Con esta opcion creas un parentesis</a:t>
            </a:r>
            <a:r>
              <a:rPr b="0" lang="es-MX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352680"/>
            <a:ext cx="1219320" cy="337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Fraccion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362320"/>
            <a:ext cx="1066680" cy="533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23623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Subindice, superindic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52680" y="1600200"/>
            <a:ext cx="7621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495680" y="1599840"/>
            <a:ext cx="45720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876560" y="1599840"/>
            <a:ext cx="99036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2578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1055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Al  escoger el editor de ecuaciones aparecerá este cuadro, con las distintas opciones para plantear la ecuació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Botones 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3581280"/>
          <a:ext cx="777240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81280"/>
                    <a:ext cx="77724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V="1">
            <a:off x="2819520" y="4038480"/>
            <a:ext cx="9144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038480" y="4038480"/>
            <a:ext cx="7632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495680"/>
            <a:ext cx="1600200" cy="10670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5105520"/>
            <a:ext cx="1218960" cy="60948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343040" y="4038480"/>
            <a:ext cx="7621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495680"/>
            <a:ext cx="1676520" cy="76212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6483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Texto alineado a la izquierd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52578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Centrar tex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Justificar tex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590920"/>
            <a:ext cx="1905120" cy="703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Subindice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y superíndic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362320"/>
            <a:ext cx="2667240" cy="703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Opcion para el espacio entre lineas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048120"/>
            <a:ext cx="763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Arial Narrow"/>
              </a:rPr>
              <a:t>Crea un indice: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8840" y="50292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187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eaeaea"/>
                </a:solidFill>
                <a:latin typeface="Arial Narrow"/>
              </a:rPr>
              <a:t>Al texto que deseas que sea título le asignas el modo Titulo uno, al subtitulo título dos y si este tiene mas puntos, subtitulo tres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219320" y="4495680"/>
            <a:ext cx="121896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495680"/>
            <a:ext cx="2057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Escoges alguna de esas opciones dependiendo de que es lo que se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1981080" cy="946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Es aquí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000ff"/>
                </a:solidFill>
                <a:latin typeface="Times New Roman"/>
              </a:rPr>
              <a:t>donde debes buscar las opciones de titulo 1, 2 o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85440" y="2209680"/>
            <a:ext cx="6858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33520" y="609480"/>
          <a:ext cx="5181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5181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362320" y="4876560"/>
            <a:ext cx="6324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SzPct val="1462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Arial Narrow"/>
              </a:rPr>
              <a:t>Luego en una página vas al menú insertar, ecoges la opcion Indice y tablas, seleccionas, luego aparecerá un cuadro como el de la figura donde seleccionando la lengüeta tabla de contenidos y aceptar, lograras tener un indice en la pagina seleccionada , si cambias algo despues y el titulo queda en otra hoja , vas al indice , apretando el boton secundario aparecerá un menú, donde al escoger actualizar campos , se tendrá la pagina actualizada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 Narrow"/>
              </a:rPr>
              <a:t>Para pegar tablas desde excel, basta con seleccionar las celdas, apretar la tecla Ctrl+ c y en el sector de la página donde quieras que se inserte Ctrl+v, o con el boton secundario hacer aparecer el menu y escoger copiar y luego pega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8:19:51Z</dcterms:created>
  <dc:creator>Usuario Autorizado de HP</dc:creator>
  <dc:description/>
  <dc:language>en-US</dc:language>
  <cp:lastModifiedBy>Usuario Autorizado de HP</cp:lastModifiedBy>
  <dcterms:modified xsi:type="dcterms:W3CDTF">2004-09-15T02:51:13Z</dcterms:modified>
  <cp:revision>5</cp:revision>
  <dc:subject/>
  <dc:title>Inserta una imagen:</dc:title>
</cp:coreProperties>
</file>