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044-C016-4732-A394-64BCF6C6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E25-7F7A-4EF5-A6DB-E83B7B7F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608-91CE-4351-8299-BF4675A6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2F7-91EF-41C8-9846-BED3169F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09C7-C83E-4041-B541-526D13A2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BDB4-A336-4B13-B6E8-04182608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7D93-D9F4-4A28-9103-9AF65AA0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C4A4-9810-4877-BB94-701C0C1A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04EA-DFBE-4CF3-BB0B-12796B1F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A393-E653-4339-93CA-F5035A0E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F016-6C6C-4B45-AFA5-8A82CC53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87F-B839-4944-9BB2-1C0CD5C1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C62D-5C83-453C-8F7A-BA1A1885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898C-18C7-448E-9234-124B633D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7F79-7BE8-4C78-B94D-36982676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7E2C-35D5-4FB4-9266-649C2FA3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796C-2964-444D-B8B2-4107F088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A7A-9445-4C0D-801A-225B1B1F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735-0C33-4104-911A-5A7723B1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E36-16AE-48EA-B396-C6277114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82A-FC1A-4613-AA16-7275EF1C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A122-315A-42E9-9A37-C07F4085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797-E9FE-413C-8C6B-8C6E6815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85D-0881-49B0-BDB2-43AC6522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0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3C0B-7F57-4817-BB14-9E342B14E5D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2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8B45-4CD6-4C22-A76C-814DCD89525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Arial Narrow"/>
              </a:rPr>
              <a:t>Inserta una imagen: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866920" y="4190760"/>
            <a:ext cx="3124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462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Arial Narrow"/>
              </a:rPr>
              <a:t>En el menu insertar, escoges imagen, desde archivo , luego aparecerá un submenu como el de la figura , donde dice buscar en : colocas el nombre de la carpeta donde esté la imagen que quieras insertar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1523880"/>
          <a:ext cx="5257800" cy="39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523880"/>
                    <a:ext cx="525780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flipH="1">
            <a:off x="4266720" y="266688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286000"/>
            <a:ext cx="220968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23623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Nombre de la carpeta con las</a:t>
            </a:r>
            <a:r>
              <a:rPr b="0" lang="es-MX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mágene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5410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Arial Narrow"/>
              </a:rPr>
              <a:t>Insertar una ecuación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 Narrow"/>
              </a:rPr>
              <a:t>Existe un editor de ecuaciones de manera tal que quedan con un mismo formato, ordenado y claro, si no se encuentra instalada esta opcion puedes buscarla en  menu Herramientas/Personalizar, aparecerá un cuadrotexto donde deberas escoger la opcion insertar y buscar el editos de ecuaciones tal como aparece en la figura siguiente  y acepta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295280" y="380880"/>
          <a:ext cx="563904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0880"/>
                    <a:ext cx="563904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133720" y="1828800"/>
            <a:ext cx="1371600" cy="10666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9810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Times New Roman"/>
              </a:rPr>
              <a:t>Con esta opcion creas un parentesis</a:t>
            </a:r>
            <a:r>
              <a:rPr b="0" lang="es-MX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352680"/>
            <a:ext cx="1219320" cy="3373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Times New Roman"/>
              </a:rPr>
              <a:t>Fraccion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362320"/>
            <a:ext cx="1066680" cy="5331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236232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Times New Roman"/>
              </a:rPr>
              <a:t>Subindice, superindic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352680" y="1600200"/>
            <a:ext cx="7621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495680" y="1599840"/>
            <a:ext cx="45720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876560" y="1599840"/>
            <a:ext cx="99036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52578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51055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Al  escoger el editor de ecuaciones aparecerá este cuadro, con las distintas opciones para plantear la ecuación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Arial Narrow"/>
              </a:rPr>
              <a:t>Botones :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3581280"/>
          <a:ext cx="777240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581280"/>
                    <a:ext cx="77724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 flipV="1">
            <a:off x="2819520" y="4038480"/>
            <a:ext cx="9144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038480" y="4038480"/>
            <a:ext cx="7632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4495680"/>
            <a:ext cx="1600200" cy="10670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5105520"/>
            <a:ext cx="1218960" cy="6094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343040" y="4038480"/>
            <a:ext cx="7621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4495680"/>
            <a:ext cx="1676520" cy="76212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464832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Texto alineado a la izquierd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2578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Centrar text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Justificar text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2590920"/>
            <a:ext cx="1905120" cy="703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Subindice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y superíndic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2362320"/>
            <a:ext cx="2667240" cy="703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Opcion para el espacio entre lineas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3048120"/>
            <a:ext cx="7632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Arial Narrow"/>
              </a:rPr>
              <a:t>Crea un indice: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800600" cy="4114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8840" y="502920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187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eaeaea"/>
                </a:solidFill>
                <a:latin typeface="Arial Narrow"/>
              </a:rPr>
              <a:t>Al texto que deseas que sea título le asignas el modo Titulo uno, al subtitulo título dos y si este tiene mas puntos, subtitulo tres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1219320" y="4495680"/>
            <a:ext cx="121896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495680"/>
            <a:ext cx="20574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Times New Roman"/>
              </a:rPr>
              <a:t>Escoges alguna de esas opciones dependiendo de que es lo que sea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2819520"/>
            <a:ext cx="1981080" cy="9464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Times New Roman"/>
              </a:rPr>
              <a:t>Es aquí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0000ff"/>
                </a:solidFill>
                <a:latin typeface="Times New Roman"/>
              </a:rPr>
              <a:t>donde debes buscar las opciones de titulo 1, 2 o 3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85440" y="2209680"/>
            <a:ext cx="6858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533520" y="609480"/>
          <a:ext cx="5181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5181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362320" y="4876560"/>
            <a:ext cx="6324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SzPct val="1462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Arial Narrow"/>
              </a:rPr>
              <a:t>Luego en una página vas al menú insertar, ecoges la opcion Indice y tablas, seleccionas, luego aparecerá un cuadro como el de la figura donde seleccionando la lengüeta tabla de contenidos y aceptar, lograras tener un indice en la pagina seleccionada , si cambias algo despues y el titulo queda en otra hoja , vas al indice , apretando el boton secundario aparecerá un menú, donde al escoger actualizar campos , se tendrá la pagina actualizada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 Narrow"/>
              </a:rPr>
              <a:t>Para pegar tablas desde excel, basta con seleccionar las celdas, apretar la tecla Ctrl+ c y en el sector de la página donde quieras que se inserte Ctrl+v, o con el boton secundario hacer aparecer el menu y escoger copiar y luego pegar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8:19:51Z</dcterms:created>
  <dc:creator>Usuario Autorizado de HP</dc:creator>
  <dc:description/>
  <dc:language>en-US</dc:language>
  <cp:lastModifiedBy>Usuario Autorizado de HP</cp:lastModifiedBy>
  <dcterms:modified xsi:type="dcterms:W3CDTF">2004-09-15T02:51:13Z</dcterms:modified>
  <cp:revision>5</cp:revision>
  <dc:subject/>
  <dc:title>Inserta una imagen:</dc:title>
</cp:coreProperties>
</file>