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A78-6E69-4862-9412-39E556B5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92E-E4F6-4A9B-A28A-C43DF948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7D7-1DE4-4B18-B9DC-48FBFB4E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ACA-97D2-4AA2-845E-3B2CCF54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9F3B-F51D-4D80-AEEB-E9EA06FC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A78-E5CB-466F-9962-9D2C0DFA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426-FF26-429C-84CA-F580DC2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8815-BB2D-4780-8F8D-8102C1F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971D-63BF-46E7-9171-071D9B9E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A1C8-FC0B-4C81-BF70-73A45E6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D9B9-0A1A-4059-BBDA-5608970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564-72E6-4762-818E-7F655BFB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30A2-1582-4F6C-9ECE-C050CAE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8FFA-B0A7-40BF-AF17-A7619D2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B624-4F1D-4ABE-BF7D-61E6E9B5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7EB-D7C1-4D36-8E0C-7A4CF3AA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CEB9-B292-4804-B4A6-EC2075B3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055-8484-4373-A2DE-C32A6D3E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EB4-AAEE-466D-A2A3-7283EF4B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BAA-E24C-41C3-ACD3-888BA8F1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40C-CC07-4EA5-B6B8-DE790598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E8D-B714-4EE8-B4A3-8BBB487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493-B38D-4EA2-9AFA-39C76E6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762-F533-4821-962C-4E4B480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6BF-75AA-4DBF-9882-6DE88BB0E7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96B8-0C6A-4DC6-9705-F867D1ABA46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Inserta una imagen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6920" y="4190760"/>
            <a:ext cx="3124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46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 Narrow"/>
              </a:rPr>
              <a:t>En el menu insertar, escoges imagen, desde archivo , luego aparecerá un submenu como el de la figura , donde dice buscar en : colocas el nombre de la carpeta donde esté la imagen que quieras inserta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523880"/>
          <a:ext cx="5257800" cy="39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52578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H="1">
            <a:off x="4266720" y="26668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286000"/>
            <a:ext cx="220968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ombre de la carpeta con las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máge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410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Insertar una ecuación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 Narrow"/>
              </a:rPr>
              <a:t>Existe un editor de ecuaciones de manera tal que quedan con un mismo formato, ordenado y claro, si no se encuentra instalada esta opcion puedes buscarla en  menu Herramientas/Personalizar, aparecerá un cuadrotexto donde deberas escoger la opcion insertar y buscar el editos de ecuaciones tal como aparece en la figura siguiente  y acepta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95280" y="380880"/>
          <a:ext cx="56390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56390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133720" y="1828800"/>
            <a:ext cx="1371600" cy="10666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9810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Con esta opcion creas un parentesis</a:t>
            </a:r>
            <a:r>
              <a:rPr b="0" lang="es-MX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352680"/>
            <a:ext cx="1219320" cy="337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Fraccion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362320"/>
            <a:ext cx="1066680" cy="533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23623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Subindice, superindi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52680" y="1600200"/>
            <a:ext cx="7621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495680" y="159984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876560" y="1599840"/>
            <a:ext cx="9903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257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1055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Al  escoger el editor de ecuaciones aparecerá este cuadro, con las distintas opciones para plantear la ecuació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Botones 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3581280"/>
          <a:ext cx="77724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81280"/>
                    <a:ext cx="77724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V="1">
            <a:off x="2819520" y="403848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038480" y="4038480"/>
            <a:ext cx="7632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495680"/>
            <a:ext cx="1600200" cy="10670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5105520"/>
            <a:ext cx="1218960" cy="6094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343040" y="4038480"/>
            <a:ext cx="7621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495680"/>
            <a:ext cx="1676520" cy="7621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6483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Texto alineado a la izquierd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2578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Centrar tex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Justificar tex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590920"/>
            <a:ext cx="1905120" cy="703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Subindice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y superíndi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362320"/>
            <a:ext cx="2667240" cy="703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Opcion para el espacio entre lineas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04812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Crea un indice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8840" y="50292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87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eaeaea"/>
                </a:solidFill>
                <a:latin typeface="Arial Narrow"/>
              </a:rPr>
              <a:t>Al texto que deseas que sea título le asignas el modo Titulo uno, al subtitulo título dos y si este tiene mas puntos, subtitulo tres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219320" y="4495680"/>
            <a:ext cx="12189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495680"/>
            <a:ext cx="2057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Escoges alguna de esas opciones dependiendo de que es lo que se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1981080" cy="946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Es aquí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donde debes buscar las opciones de titulo 1, 2 o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85440" y="2209680"/>
            <a:ext cx="6858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33520" y="609480"/>
          <a:ext cx="5181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5181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362320" y="4876560"/>
            <a:ext cx="6324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SzPct val="146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 Narrow"/>
              </a:rPr>
              <a:t>Luego en una página vas al menú insertar, ecoges la opcion Indice y tablas, seleccionas, luego aparecerá un cuadro como el de la figura donde seleccionando la lengüeta tabla de contenidos y aceptar, lograras tener un indice en la pagina seleccionada , si cambias algo despues y el titulo queda en otra hoja , vas al indice , apretando el boton secundario aparecerá un menú, donde al escoger actualizar campos , se tendrá la pagina actualizada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 Narrow"/>
              </a:rPr>
              <a:t>Para pegar tablas desde excel, basta con seleccionar las celdas, apretar la tecla Ctrl+ c y en el sector de la página donde quieras que se inserte Ctrl+v, o con el boton secundario hacer aparecer el menu y escoger copiar y luego pega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8:19:51Z</dcterms:created>
  <dc:creator>Usuario Autorizado de HP</dc:creator>
  <dc:description/>
  <dc:language>en-US</dc:language>
  <cp:lastModifiedBy>Usuario Autorizado de HP</cp:lastModifiedBy>
  <dcterms:modified xsi:type="dcterms:W3CDTF">2004-09-15T02:51:13Z</dcterms:modified>
  <cp:revision>5</cp:revision>
  <dc:subject/>
  <dc:title>Inserta una imagen:</dc:title>
</cp:coreProperties>
</file>