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93AC-A32C-439E-8A6F-BA459D81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8D5C-3621-405F-B569-C12131F6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4EE5-7C70-41F8-98EC-E46EAEFC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0A22-FE73-4E13-9B87-82772659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AB18-CAB1-4DC8-AD97-D3B3BC99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0DE8-FA21-4BF0-8CEF-B20D8070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D9D1-5A96-4857-9E9D-435C10D4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410B-0D1C-4F9E-81E4-DABC32B6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C88B-E373-4C10-B7E7-A59AA926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CF49-9AC2-485F-80FC-5EF4ADAF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3AA1-D9C8-4F7E-83C0-D6ABC709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A884-7716-4747-91C2-FE4DC625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AEE4-E55E-4C36-A459-A8781565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D1EB-4C62-4574-A0D9-E51E2FB1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A539-7895-4F14-B285-1446CB01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EB9B-A09C-4E35-ADD7-D698068E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CF0C-1A23-43C0-ACBE-D29D8CFB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B383-3EEA-4C71-BB0C-403C9E34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4690-4107-4872-AAB2-36487D70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504F-A74F-43A9-9594-3D8E0068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1A5E-42C3-4493-8D09-13EBB4A4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842-073A-4916-9277-3389CDB4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BDB2-A333-4D03-BFD2-56BC4D76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08AD-CB23-4026-9CE9-D5567A8B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6018-6F76-4D0A-8549-EED1341D823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2763-51D0-4DA6-A454-75A05215B20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421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b7"/>
                </a:solidFill>
                <a:latin typeface="Arial Black"/>
              </a:rPr>
              <a:t>Bolzano - Weierstrass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3357720"/>
            <a:ext cx="80074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Sus biografías en forma resum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Sus teore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Tuvieron alguna rel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 - Weierstra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odo conjunto finito y acotado de numeros reales tiene al menos un punto de acumulación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demostración de este teorema se hace por contradi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b7"/>
                </a:solidFill>
                <a:latin typeface="Arial Black"/>
              </a:rPr>
              <a:t>EL QUE NOS IMPORTA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 – Weierstrass (II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a (A,d) un espacio métrico compacto. De toda sucesión de puntos de A, podemos obtener una subsucesión converg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demostración ya fue hecha en cl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BUENO, PERO SE RELACIONARON? SE JUNTARON A HACERLOS?            UNO LE COPIÓ AL OTRO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0" spc="-1" strike="noStrike">
                <a:solidFill>
                  <a:srgbClr val="ffffb7"/>
                </a:solidFill>
                <a:latin typeface="Arial Black"/>
              </a:rPr>
              <a:t>NO</a:t>
            </a:r>
            <a:endParaRPr b="1" lang="en-US" sz="20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ue Bolzano el que empezó con estas ideas pero con la ventaja única de haber nacido antes, Weiertrass lo que hizo fue enunciar formalidades de este teorema, y también sorprende que hayan realizado conclusiones parecidas en cuanto a distintas cos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o por el carácter riguroso de Weierstrass se cree que Weierstrass fue quien formalizó las ideas de Bolza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b7"/>
                </a:solidFill>
                <a:latin typeface="Arial Black"/>
              </a:rPr>
              <a:t>Bernard Bolzano (1781-1848)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421000"/>
            <a:ext cx="74059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ació en Praga, actual República Che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iberó al cálculo del concepto infinitesi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ue filosofo, matemático y teólo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los 15 años, ingresó a la Facultad de Filosofía de la Universidad de Pra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lí estudió filosofía y luego Matemát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cribió: “Mi placer por las Matemática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136872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4220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3772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mbién presenta “Paradojas de lo infinito” el cual presenta conceptos acerca de los numeros transfini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lí también reconoce la necesidad propia de demostrar rigurosamente proposiciones aparentemente evide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“Teoría de la Ciencia” indica un precedente a la ló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Metafísica se opuso a Kant con ideas metafísicas relacionadas con Dios y la mortalidad del al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pesar de que su fuerte fue la filosofía, es mas conocido por la lógica y la matemát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633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476280"/>
            <a:ext cx="85215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1817 enunció el Teorema de Bolzano, el cual está relacionado con los ceros de una función continua que se comporta de forma positiva y negati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adelanto al analisis de los rigurosos del siglo XIX con el concepto de función continua y demostración de sus prop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ambién enunció un criterio de convergencia de series y la existencia de las funciones continuas sin deriva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2772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549000"/>
            <a:ext cx="84502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o Praga no era una ciudad muy avanzada científicamente hablando, sus escritos se quedaron mucho tiempo en ese paí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u teoría de funciones recién aparece en 193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uere 1848, a los 67 añ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Karl Weierstrass (1815-1897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tematico Alem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ace en 1815 en Ostenfel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udió derecho en Bonn y Matemáticas en Münsten desde 1838 (23 añ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unció teorías de funciones con un rigor que nadie nunca había hec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 trabajo analítico lo concretó con teorías de series de potencias (continuación analítica de las series) y con ellas fundó el concepto de fun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 los 41 años fue profesor de un instituto en Berlín y a los 49 en la Universidad de Berlí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s obras tienen cuatro volume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rio en 189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350028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7772400" cy="25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b7"/>
                </a:solidFill>
                <a:latin typeface="Arial Black"/>
              </a:rPr>
              <a:t>¿Qué teoremas conocemos de ellos?</a:t>
            </a:r>
            <a:br>
              <a:rPr sz="7200"/>
            </a:b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00000" y="5714640"/>
            <a:ext cx="907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teorema de Bolzano dice que si una funcion continua es positiva en algún punto, y negativa en otra, entonces esa función necesariamente se anula en un pu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decir, el teorema del valor med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Weierstra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 una función f(x) está definida y es continua en un intervalo cerrado [a, b], entonces f(X) alcanza al menos un máximo y un mínimo absolutos en el intervalo [a, b]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decir, el teorema de máximos y mínim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vier Pumarino</cp:lastModifiedBy>
  <dcterms:modified xsi:type="dcterms:W3CDTF">2004-08-10T05:27:31Z</dcterms:modified>
  <cp:revision>2</cp:revision>
  <dc:subject/>
  <dc:title>PowerPoint Presentation</dc:title>
</cp:coreProperties>
</file>