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5F48B-3D73-4D48-9FB0-93221B3C5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4E6A5-26FA-4BDC-BCCB-93D75581B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7EFCC-9C29-4E20-88AD-20930DBC1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E90CE-A990-409C-9146-D7BC459D9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2627A-5CBC-4CF3-8C41-041884118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F8C52-E26D-481C-B099-6E0D542B1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7BF0A-2141-4388-BFC3-FC80AFAC4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3188A-0ECE-4141-A6F4-54865BAD3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164CF-5B1C-4708-BAFC-762B70AB1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0E293-D83C-4D01-9B73-7E5E0140F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86E7E-2D5C-4B81-84A6-245B2195A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1C273-EAEF-48D8-B02B-88CFA19CD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66631-71EC-4920-9C28-84F554949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DFADC-2B96-4DAA-B945-F160979B1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D0788-99C2-4CC7-8CE2-9271E5EDD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EAC09-BC1B-463A-937F-402E27D7D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C4A7E-350A-481C-A7CB-B72DF0E4A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F42AB-6A6D-4731-9926-B2548FBB8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61CB8-B2E7-41ED-AA4B-7BBD8CB67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B7627-780C-4C18-988B-7C58B4165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A2B87-B42A-4152-8030-DCAD04E6E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7B9AE-C11B-4D5C-8035-AA84E453E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93C18-ED25-43DC-A762-F7D7DECEF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0789C-5EFC-4640-ABD9-C4B1978CE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7DC59-4D56-4236-A782-128D74AABFBF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44CEA-B292-49B2-8C14-096FABE9677D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0920" y="609120"/>
            <a:ext cx="8642160" cy="19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fffb7"/>
                </a:solidFill>
                <a:latin typeface="Arial Black"/>
              </a:rPr>
              <a:t>Bolzano - Weierstrass</a:t>
            </a:r>
            <a:endParaRPr b="1" lang="en-US" sz="6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7720" y="3357720"/>
            <a:ext cx="8007480" cy="273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- Sus biografías en forma resumid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- Sus teorem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- Tuvieron alguna relació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b7"/>
                </a:solidFill>
                <a:latin typeface="Arial Black"/>
              </a:rPr>
              <a:t>Teorema de Bolzano - Weierstras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Todo conjunto finito y acotado de numeros reales tiene al menos un punto de acumulación.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La demostración de este teorema se hace por contradicció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ffffb7"/>
                </a:solidFill>
                <a:latin typeface="Arial Black"/>
              </a:rPr>
              <a:t>EL QUE NOS IMPORTA…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b7"/>
                </a:solidFill>
                <a:latin typeface="Arial Black"/>
              </a:rPr>
              <a:t>Teorema de Bolzano – Weierstrass (II)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50920" y="1904760"/>
            <a:ext cx="85946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Sea (A,d) un espacio métrico compacto. De toda sucesión de puntos de A, podemos obtener una subsucesión convergent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La demostración ya fue hecha en clas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Arial"/>
              </a:rPr>
              <a:t>BUENO, PERO SE RELACIONARON? SE JUNTARON A HACERLOS?            UNO LE COPIÓ AL OTRO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0" spc="-1" strike="noStrike">
                <a:solidFill>
                  <a:srgbClr val="ffffb7"/>
                </a:solidFill>
                <a:latin typeface="Arial Black"/>
              </a:rPr>
              <a:t>NO</a:t>
            </a:r>
            <a:endParaRPr b="1" lang="en-US" sz="20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333000"/>
            <a:ext cx="800748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Fue Bolzano el que empezó con estas ideas pero con la ventaja única de haber nacido antes, Weiertrass lo que hizo fue enunciar formalidades de este teorema, y también sorprende que hayan realizado conclusiones parecidas en cuanto a distintas cosa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Pero por el carácter riguroso de Weierstrass se cree que Weierstrass fue quien formalizó las ideas de Bolzan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b7"/>
                </a:solidFill>
                <a:latin typeface="Arial Black"/>
              </a:rPr>
              <a:t>Bernard Bolzano (1781-1848)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2421000"/>
            <a:ext cx="7405920" cy="36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Nació en Praga, actual República Chec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Liberó al cálculo del concepto infinitesima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Fue filosofo, matemático y teólog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A los 15 años, ingresó a la Facultad de Filosofía de la Universidad de Prag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Allí estudió filosofía y luego Matemática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scribió: “Mi placer por las Matemáticas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826920" y="1341360"/>
            <a:ext cx="1368720" cy="9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-142200"/>
            <a:ext cx="83851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68360" y="404280"/>
            <a:ext cx="8377200" cy="56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También presenta “Paradojas de lo infinito” el cual presenta conceptos acerca de los numeros transfinito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Allí también reconoce la necesidad propia de demostrar rigurosamente proposiciones aparentemente evident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n “Teoría de la Ciencia” indica un precedente a la lógic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n Metafísica se opuso a Kant con ideas metafísicas relacionadas con Dios y la mortalidad del alm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A pesar de que su fuerte fue la filosofía, es mas conocido por la lógica y la matemátic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-63360"/>
            <a:ext cx="83851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23640" y="476280"/>
            <a:ext cx="852156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En 1817 enunció el Teorema de Bolzano, el cual está relacionado con los ceros de una función continua que se comporta de forma positiva y negativ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Se adelanto al analisis de los rigurosos del siglo XIX con el concepto de función continua y demostración de sus propiedad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También enunció un criterio de convergencia de series y la existencia de las funciones continuas sin derivada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-27720"/>
            <a:ext cx="83851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94920" y="549000"/>
            <a:ext cx="8450280" cy="55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Como Praga no era una ciudad muy avanzada científicamente hablando, sus escritos se quedaron mucho tiempo en ese paí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Su teoría de funciones recién aparece en 1930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Muere 1848, a los 67 año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b7"/>
                </a:solidFill>
                <a:latin typeface="Arial Black"/>
              </a:rPr>
              <a:t>Karl Weierstrass (1815-1897)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Matematico Alemá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Nace en 1815 en Ostenfeld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studió derecho en Bonn y Matemáticas en Münsten desde 1838 (23 año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nunció teorías de funciones con un rigor que nadie nunca había hech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Su trabajo analítico lo concretó con teorías de series de potencias (continuación analítica de las series) y con ellas fundó el concepto de funcion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A los 41 años fue profesor de un instituto en Berlín y a los 49 en la Universidad de Berlí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Sus obras tienen cuatro volumen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Murio en 1897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84360" y="3500280"/>
            <a:ext cx="792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11280" y="1628640"/>
            <a:ext cx="7772400" cy="25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7200" spc="-1" strike="noStrike">
                <a:solidFill>
                  <a:srgbClr val="ffffb7"/>
                </a:solidFill>
                <a:latin typeface="Arial Black"/>
              </a:rPr>
              <a:t>¿Qué teoremas conocemos de ellos?</a:t>
            </a:r>
            <a:br>
              <a:rPr sz="7200"/>
            </a:br>
            <a:endParaRPr b="1" lang="en-US" sz="7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900000" y="5714640"/>
            <a:ext cx="90720" cy="2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b7"/>
                </a:solidFill>
                <a:latin typeface="Arial Black"/>
              </a:rPr>
              <a:t>Teorema de Bolzano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El teorema de Bolzano dice que si una funcion continua es positiva en algún punto, y negativa en otra, entonces esa función necesariamente se anula en un punt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Es decir, el teorema del valor medi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b7"/>
                </a:solidFill>
                <a:latin typeface="Arial Black"/>
              </a:rPr>
              <a:t>Teorema de Weierstras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Si una función f(x) está definida y es continua en un intervalo cerrado [a, b], entonces f(X) alcanza al menos un máximo y un mínimo absolutos en el intervalo [a, b]. 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Es decir, el teorema de máximos y mínimo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avier Pumarino</cp:lastModifiedBy>
  <dcterms:modified xsi:type="dcterms:W3CDTF">2004-08-10T05:27:31Z</dcterms:modified>
  <cp:revision>2</cp:revision>
  <dc:subject/>
  <dc:title>PowerPoint Presentation</dc:title>
</cp:coreProperties>
</file>