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B2A-9D90-4DB4-92D0-11CE1BC5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A46-2B13-49B7-A0C2-0F411A60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1EDC-1745-4BB1-8B03-B90CA2B3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0AE-80E8-426D-ABD8-C3CF21BB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E480-F7D0-4FE3-9398-F489550F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A65-F4E9-4D2B-BE4D-BC354892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B5DE-9FEB-4B52-B457-933869A7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EA40-0622-43D2-A4BF-10941D6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BF5B-F9A7-46A3-B36E-05608AEC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8BFD-31DD-4947-80FC-5CFD345E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BE80-756E-4AA8-8C77-F77B8E41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7285-BC5B-4A6E-B40C-E4522157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5462-7E50-4574-9E3D-F033E9A7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2D19-3CA7-4B7F-97EF-A3A69B3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8BA-DAFB-4FCA-B405-684448D0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FCB5-53FF-40C9-BDA2-40B8FC1F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00C5-CC4F-4413-8C25-BA58343DB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D01-4335-43F8-ACC8-73C0E1D0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1C9-1C9A-4C9F-905A-59D2789D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9D8-12A8-49C5-BBD1-60F72F7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F67C-276D-48D4-B8E5-FB7B749F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F54-B6B3-4D6D-9D16-54777DF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E8E7-C5AC-40AD-926F-9749724C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125F-FE02-4249-9DA8-C2FB4147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6D6-804A-46FC-9EC9-15D366329BC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89C9-33A4-4E6B-A68E-CE2AF1C608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609120"/>
            <a:ext cx="86421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b7"/>
                </a:solidFill>
                <a:latin typeface="Arial Black"/>
              </a:rPr>
              <a:t>Bolzano - Weierstrass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3357720"/>
            <a:ext cx="8007480" cy="27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biografías en forma resum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Sus teorem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- Tuvieron alguna re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-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do conjunto finito y acotado de numeros reales tiene al menos un punto de acumulación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de este teorema se hace por contradi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b7"/>
                </a:solidFill>
                <a:latin typeface="Arial Black"/>
              </a:rPr>
              <a:t>EL QUE NOS IMPORTA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 – Weierstrass (I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a (A,d) un espacio métrico compacto. De toda sucesión de puntos de A, podemos obtener una subsucesión converg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demostración ya fue hecha en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BUENO, PERO SE RELACIONARON? SE JUNTARON A HACERLOS?            UNO LE COPIÓ AL OTRO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0" spc="-1" strike="noStrike">
                <a:solidFill>
                  <a:srgbClr val="ffffb7"/>
                </a:solidFill>
                <a:latin typeface="Arial Black"/>
              </a:rPr>
              <a:t>NO</a:t>
            </a:r>
            <a:endParaRPr b="1" lang="en-US" sz="20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333000"/>
            <a:ext cx="8007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Fue Bolzano el que empezó con estas ideas pero con la ventaja única de haber nacido antes, Weiertrass lo que hizo fue enunciar formalidades de este teorema, y también sorprende que hayan realizado conclusiones parecidas en cuanto a distintas cos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o por el carácter riguroso de Weierstrass se cree que Weierstrass fue quien formalizó las ideas de Bolz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b7"/>
                </a:solidFill>
                <a:latin typeface="Arial Black"/>
              </a:rPr>
              <a:t>Bernard Bolzano (1781-1848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21000"/>
            <a:ext cx="74059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ació en Praga, actual República Ch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eró al cálculo del concepto infinitesim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filosofo, matemático y teólo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los 15 años, ingresó a la Facultad de Filosofía de la Universidad de Pra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estudió filosofía y luego Matemát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cribió: “Mi placer por las Matemátic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136872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4220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3772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bién presenta “Paradojas de lo infinito” el cual presenta conceptos acerca de los numeros transfinit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lí también reconoce la necesidad propia de demostrar rigurosamente proposiciones aparentemente evid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“Teoría de la Ciencia” indica un precedente a la 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Metafísica se opuso a Kant con ideas metafísicas relacionadas con Dios y la mortalidad del al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pesar de que su fuerte fue la filosofía, es mas conocido por la lógica y la matemá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6336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5215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1817 enunció el Teorema de Bolzano, el cual está relacionado con los ceros de una función continua que se comporta de forma positiva y negat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adelanto al analisis de los rigurosos del siglo XIX con el concepto de función continua y demostración de sus prop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ambién enunció un criterio de convergencia de series y la existencia de las funciones continuas sin deriv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27720"/>
            <a:ext cx="8385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502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o Praga no era una ciudad muy avanzada científicamente hablando, sus escritos se quedaron mucho tiempo en ese paí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 teoría de funciones recién aparece en 193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uere 1848, a los 67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Karl Weierstrass (1815-1897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tematico Alemá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ace en 1815 en Ostenfel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udió derecho en Bonn y Matemáticas en Münsten desde 1838 (23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unció teorías de funciones con un rigor que nadie nunca había hec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 trabajo analítico lo concretó con teorías de series de potencias (continuación analítica de las series) y con ellas fundó el concepto de fun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 los 41 años fue profesor de un instituto en Berlín y a los 49 en la Universidad de Berlí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s obras tienen cuatro volum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urio en 189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3500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ffffb7"/>
                </a:solidFill>
                <a:latin typeface="Arial Black"/>
              </a:rPr>
              <a:t>¿Qué teoremas conocemos de ellos?</a:t>
            </a:r>
            <a:br>
              <a:rPr sz="72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900000" y="5714640"/>
            <a:ext cx="907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Bolzan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orema de Bolzano dice que si una funcion continua es positiva en algún punto, y negativa en otra, entonces esa función necesariamente se anula en un p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l valor med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b7"/>
                </a:solidFill>
                <a:latin typeface="Arial Black"/>
              </a:rPr>
              <a:t>Teorema de Weierstras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 una función f(x) está definida y es continua en un intervalo cerrado [a, b], entonces f(X) alcanza al menos un máximo y un mínimo absolutos en el intervalo [a, b]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decir, el teorema de máximos y mínim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vier Pumarino</cp:lastModifiedBy>
  <dcterms:modified xsi:type="dcterms:W3CDTF">2004-08-10T05:27:31Z</dcterms:modified>
  <cp:revision>2</cp:revision>
  <dc:subject/>
  <dc:title>PowerPoint Presentation</dc:title>
</cp:coreProperties>
</file>