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AC09-C421-4EAE-8525-11C05368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B35D-A71D-4E8D-A408-7C8EAA29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D904-71EE-4467-906F-2F55BF56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284F-8648-470A-A494-25DAB1BB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A9C9-521E-42A4-B0B2-54E0A5D3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AF21-6DD6-4DBA-A5B4-5C3EDBF9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EEEF-FA34-4BA6-98D5-885749A9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B38A-6318-4F4F-9991-4F0D205B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5541-AF5A-482C-B10B-AB4DAC76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6B5E-51E3-4F62-9F32-2FFD422A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6B51-91EF-4477-844F-B1F52B01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77B2-0ED6-45FE-8B00-B69CD37F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EB60-116F-411A-B28B-C0E292BC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E213-F5C4-417A-9849-12227619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A875-2030-4790-AD6A-5EA27FE9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F671-89BF-4BED-8312-AA36DADC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59A2-9CDD-490D-AF93-8F400365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5C55-9530-4894-B056-CC62FE4D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4125-5FFE-4FE1-A1AC-8ABCB1E5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29F5-1366-40C3-B980-2A2DCC97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BD99-4FE3-4E2D-886C-52555825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123C-C1D1-4280-9E2D-44880BA5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FE14-02DA-4E7A-88B1-143FECA9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3A51-D65D-479F-BA17-3F301613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D744-10F0-442F-964F-1A9C75F60AF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FDD5-FCDA-4A6C-B29D-A13C9BA060F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421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b7"/>
                </a:solidFill>
                <a:latin typeface="Arial Black"/>
              </a:rPr>
              <a:t>Bolzano - Weierstrass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3357720"/>
            <a:ext cx="80074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Sus biografías en forma resum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Sus teore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Tuvieron alguna rel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 - Weierstra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odo conjunto finito y acotado de numeros reales tiene al menos un punto de acumulación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demostración de este teorema se hace por contradi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b7"/>
                </a:solidFill>
                <a:latin typeface="Arial Black"/>
              </a:rPr>
              <a:t>EL QUE NOS IMPORTA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 – Weierstrass (II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a (A,d) un espacio métrico compacto. De toda sucesión de puntos de A, podemos obtener una subsucesión converg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demostración ya fue hecha en cl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BUENO, PERO SE RELACIONARON? SE JUNTARON A HACERLOS?            UNO LE COPIÓ AL OTRO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0" spc="-1" strike="noStrike">
                <a:solidFill>
                  <a:srgbClr val="ffffb7"/>
                </a:solidFill>
                <a:latin typeface="Arial Black"/>
              </a:rPr>
              <a:t>NO</a:t>
            </a:r>
            <a:endParaRPr b="1" lang="en-US" sz="20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ue Bolzano el que empezó con estas ideas pero con la ventaja única de haber nacido antes, Weiertrass lo que hizo fue enunciar formalidades de este teorema, y también sorprende que hayan realizado conclusiones parecidas en cuanto a distintas cos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o por el carácter riguroso de Weierstrass se cree que Weierstrass fue quien formalizó las ideas de Bolza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b7"/>
                </a:solidFill>
                <a:latin typeface="Arial Black"/>
              </a:rPr>
              <a:t>Bernard Bolzano (1781-1848)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421000"/>
            <a:ext cx="74059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ació en Praga, actual República Che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iberó al cálculo del concepto infinitesi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ue filosofo, matemático y teólo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los 15 años, ingresó a la Facultad de Filosofía de la Universidad de Pra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lí estudió filosofía y luego Matemát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cribió: “Mi placer por las Matemática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136872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4220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3772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mbién presenta “Paradojas de lo infinito” el cual presenta conceptos acerca de los numeros transfini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lí también reconoce la necesidad propia de demostrar rigurosamente proposiciones aparentemente evide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“Teoría de la Ciencia” indica un precedente a la ló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Metafísica se opuso a Kant con ideas metafísicas relacionadas con Dios y la mortalidad del al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pesar de que su fuerte fue la filosofía, es mas conocido por la lógica y la matemát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633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476280"/>
            <a:ext cx="85215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1817 enunció el Teorema de Bolzano, el cual está relacionado con los ceros de una función continua que se comporta de forma positiva y negati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adelanto al analisis de los rigurosos del siglo XIX con el concepto de función continua y demostración de sus prop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ambién enunció un criterio de convergencia de series y la existencia de las funciones continuas sin deriva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2772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549000"/>
            <a:ext cx="84502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o Praga no era una ciudad muy avanzada científicamente hablando, sus escritos se quedaron mucho tiempo en ese paí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u teoría de funciones recién aparece en 193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uere 1848, a los 67 añ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Karl Weierstrass (1815-1897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tematico Alem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ace en 1815 en Ostenfel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udió derecho en Bonn y Matemáticas en Münsten desde 1838 (23 añ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unció teorías de funciones con un rigor que nadie nunca había hec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 trabajo analítico lo concretó con teorías de series de potencias (continuación analítica de las series) y con ellas fundó el concepto de fun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 los 41 años fue profesor de un instituto en Berlín y a los 49 en la Universidad de Berlí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s obras tienen cuatro volume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rio en 189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350028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7772400" cy="25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b7"/>
                </a:solidFill>
                <a:latin typeface="Arial Black"/>
              </a:rPr>
              <a:t>¿Qué teoremas conocemos de ellos?</a:t>
            </a:r>
            <a:br>
              <a:rPr sz="7200"/>
            </a:b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00000" y="5714640"/>
            <a:ext cx="907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teorema de Bolzano dice que si una funcion continua es positiva en algún punto, y negativa en otra, entonces esa función necesariamente se anula en un pu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decir, el teorema del valor med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Weierstra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 una función f(x) está definida y es continua en un intervalo cerrado [a, b], entonces f(X) alcanza al menos un máximo y un mínimo absolutos en el intervalo [a, b]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decir, el teorema de máximos y mínim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vier Pumarino</cp:lastModifiedBy>
  <dcterms:modified xsi:type="dcterms:W3CDTF">2004-08-10T05:27:31Z</dcterms:modified>
  <cp:revision>2</cp:revision>
  <dc:subject/>
  <dc:title>PowerPoint Presentation</dc:title>
</cp:coreProperties>
</file>