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6327-6596-4AC8-8DE5-09163490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A27-A053-4F69-B244-B191D60E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213-1A02-4EAE-BBD7-DFCB56AA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E6E-8C76-4552-ADC8-DD2A4F30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6626-FD87-4433-AF7F-668E5A8F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3E95-9201-4CAE-84EC-3B8D4448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50C3-87D4-4516-92EB-0A5AA5CC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84C9-F552-41C2-B8BC-2BF86283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49A2-EE10-48D7-9F87-7CA3DF2B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5E38-AA7E-407C-8C1F-5C948779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7774-50BE-4E68-878B-FC98E142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E64-6320-4AAE-BD5E-C02294B5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EDE8-7769-4899-9CF2-A0A1CF6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4C16-32BA-4221-A6FF-E6C145FB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FC68-E039-4049-8EF5-0F3FDC0A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225A-B76B-481C-9C7F-0B2C8559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2F2B-8450-4DCA-B137-8B8307D6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DC78-D3A5-4C76-A5D9-561542DF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4D4-C7DB-4726-92EA-E56F3D8B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D76-FA77-4916-A970-BFA8878A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29F-27CD-4894-A3E7-4711CC68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847-2F36-44C9-AD5F-99EADCFE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ABA-9C88-4730-9DDB-972C3AF3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830-CEC6-4CE1-8684-8BDF54D7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3527-4639-4223-A538-6278DB4502A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7DAF-8200-4829-A0F1-DD509A9257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Matemática es la reina de las Ciencias y la teoría de números es la reina de la Matemática ”      (Gaus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l caso de que                 y que el producto punto entre los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vectores v y w se define como                     y la norma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tilizada es la norma euclidiana, la desigualdad de Cauchy-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chwartz se expresa de la sgte manera: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$ \mathbf{x}=(x_1,x_2,\ldots,x_n)$"/>
          <p:cNvPicPr/>
          <p:nvPr/>
        </p:nvPicPr>
        <p:blipFill>
          <a:blip r:embed="rId1"/>
          <a:stretch/>
        </p:blipFill>
        <p:spPr>
          <a:xfrm>
            <a:off x="1704960" y="2517840"/>
            <a:ext cx="2075040" cy="474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$ \mathbf{y}=(y_1,y_2,\ldots,y_n)$"/>
          <p:cNvPicPr/>
          <p:nvPr/>
        </p:nvPicPr>
        <p:blipFill>
          <a:blip r:embed="rId2"/>
          <a:stretch/>
        </p:blipFill>
        <p:spPr>
          <a:xfrm>
            <a:off x="5076720" y="2492280"/>
            <a:ext cx="1944720" cy="455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$\displaystyle \vert \mathbf{x}\cdot \mathbf{y}\vert=\vert x_1y_1+x_2y_2+\cdots+... ...^2}\sqrt{y_1^2+y_2^2+\cdots+y_n^2}=\Vert \mathbf{x}\Vert\Vert \mathbf{y} \Vert,$"/>
          <p:cNvPicPr/>
          <p:nvPr/>
        </p:nvPicPr>
        <p:blipFill>
          <a:blip r:embed="rId3"/>
          <a:stretch/>
        </p:blipFill>
        <p:spPr>
          <a:xfrm>
            <a:off x="395280" y="3573360"/>
            <a:ext cx="8459640" cy="671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$ V=\mathbbmss{R}^n$"/>
          <p:cNvPicPr/>
          <p:nvPr/>
        </p:nvPicPr>
        <p:blipFill>
          <a:blip r:embed="rId4"/>
          <a:stretch/>
        </p:blipFill>
        <p:spPr>
          <a:xfrm>
            <a:off x="2987640" y="260280"/>
            <a:ext cx="1081080" cy="27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$ \langle v,w\rangle = v^t w$"/>
          <p:cNvPicPr/>
          <p:nvPr/>
        </p:nvPicPr>
        <p:blipFill>
          <a:blip r:embed="rId5"/>
          <a:stretch/>
        </p:blipFill>
        <p:spPr>
          <a:xfrm>
            <a:off x="5076720" y="692280"/>
            <a:ext cx="1584360" cy="568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-838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38080" y="3230640"/>
          <a:ext cx="9144000" cy="3664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$\displaystyle (x_1y_1+x_2y_2+\cdots+x_ny_n)\sp2 \le\left(x_1^2+x_2^2+\cdots+x_n^2\right)\left( y_1^2+y_2^2+\cdots+y_n^2\right) $"/>
          <p:cNvPicPr/>
          <p:nvPr/>
        </p:nvPicPr>
        <p:blipFill>
          <a:blip r:embed="rId6"/>
          <a:stretch/>
        </p:blipFill>
        <p:spPr>
          <a:xfrm>
            <a:off x="324000" y="5229360"/>
            <a:ext cx="849600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abe notar que esta desigualdad de Cauchy – Schwartz es similar a la desigualdad triangular bien conocida como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 la desigualdad de Cauchy – Schwartz 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ambien conocida como la desigualdad de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auchy-Bunyakovsky-Schwartz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$\displaystyle \Vert\mathbf{x}+\mathbf{y}\Vert\leq\Vert \mathbf{x}\Vert+\Vert \mathbf{y}\Vert$"/>
          <p:cNvPicPr/>
          <p:nvPr/>
        </p:nvPicPr>
        <p:blipFill>
          <a:blip r:embed="rId1"/>
          <a:stretch/>
        </p:blipFill>
        <p:spPr>
          <a:xfrm>
            <a:off x="3203640" y="2565360"/>
            <a:ext cx="2808360" cy="5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0"/>
          <a:ext cx="493560" cy="1432080"/>
        </p:xfrm>
        <a:graphic>
          <a:graphicData uri="http://schemas.openxmlformats.org/drawingml/2006/table">
            <a:tbl>
              <a:tblPr/>
              <a:tblGrid>
                <a:gridCol w="277560"/>
                <a:gridCol w="21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" descr="$\displaystyle \vert\mathbf{x}\cdot\mathbf{y}\vert\leq\Vert \mathbf{x}\Vert\cdot\Vert \mathbf{y}\Vert$"/>
          <p:cNvPicPr/>
          <p:nvPr/>
        </p:nvPicPr>
        <p:blipFill>
          <a:blip r:embed="rId2"/>
          <a:stretch/>
        </p:blipFill>
        <p:spPr>
          <a:xfrm>
            <a:off x="2987640" y="4149720"/>
            <a:ext cx="28814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Fin de la presentació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"/>
              </a:rPr>
              <a:t>Biografía de Agustín Cauch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89360" y="1795320"/>
            <a:ext cx="336528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EM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spectos biográfic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legado de Cauc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sigualdad de Cauchy-Schwart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spectos Biográfic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Nace el año 1789 en París , Franc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rece en Arcueil donde ingresa a la escuela a la edad de 13 añ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gresa a la ecolé Polytechnique parisina a la edad de 16 años y a los 18 años asiste a una escuela de ingeniería civil donde se gradúa 3 años mas tar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auchy, trabajó como un ingeniero militar y en 1810 llegó a Cherbourg a trabajar junto a Napoleón en la invasión a Inglaterra. En 1813 retornó a París y luego fue persuadido por Laplace y Lagrange para convertirse en un devoto de las matemática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1830 se exilió en Turín, donde trabajó como profesor de física matemática hasta que regresó a París (1838). Pasó el resto de su vida haciendo clases en La Sorbo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uere el año 1857 en Sceaux (cerca de Paris) , Franc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"/>
              </a:rPr>
              <a:t>El legado de Cauch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ionero en el análisis y la teoría de permutación de grupos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vestigó la convergencia y la divergencia de las series infinitas, ecuaciones diferenciales, determinantes, probabilidad y física matemá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1814 el publicó la memoria de la integral definida que llegó a ser la base de la teoría de las funciones complej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nalyse Algébrique, de 182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eorema integral de Cauchy, la teoría de las funciones complejas, las ecuaciones de Cauchy-Riemann y Secuencias de Cauchy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ublica un total 789 trabaj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Su extensa obra introdujo y consolidó el concepto fundamental de rigor matemátic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sigualadad de Cauchy-Schwartz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ermann Amandus Schwartz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(1983-1921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chwartz nunca conocío a Cauchy, sin embargo sus estudios sobre geometría le permitieron encontrar métodos mas generales para solucionar problemas estrechos y específicos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9131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spíritu de la desigualdad de Cauchy-Schwartz es el siguiente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 tiene un espacio vectorial V y un producto punto &lt; , &gt; (dot).  Se define una norma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dicho espacio, esta desigualdad sostiene qu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a todo v, w en 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$\displaystyle \Vert x\Vert = \sqrt{\langle x,x\rangle}.$"/>
          <p:cNvPicPr/>
          <p:nvPr/>
        </p:nvPicPr>
        <p:blipFill>
          <a:blip r:embed="rId1"/>
          <a:stretch/>
        </p:blipFill>
        <p:spPr>
          <a:xfrm>
            <a:off x="3780000" y="2637000"/>
            <a:ext cx="1800000" cy="64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$\displaystyle \vert \langle v,w\rangle\vert\le \Vert v\Vert\Vert w\Vert$"/>
          <p:cNvPicPr/>
          <p:nvPr/>
        </p:nvPicPr>
        <p:blipFill>
          <a:blip r:embed="rId2"/>
          <a:stretch/>
        </p:blipFill>
        <p:spPr>
          <a:xfrm>
            <a:off x="3348000" y="4437000"/>
            <a:ext cx="26640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4:07Z</dcterms:created>
  <dc:creator>valenzuela volkwein</dc:creator>
  <dc:description/>
  <dc:language>en-US</dc:language>
  <cp:lastModifiedBy>valenzuela volkwein</cp:lastModifiedBy>
  <dcterms:modified xsi:type="dcterms:W3CDTF">2004-08-06T15:51:27Z</dcterms:modified>
  <cp:revision>7</cp:revision>
  <dc:subject/>
  <dc:title>“ La Matemática es la reina da las Ciencias y la teoria de números es la reina de la Matemática ”      (Gauss)</dc:title>
</cp:coreProperties>
</file>