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E0ED-482F-4B95-B8E5-692A6DFA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25E1-7020-4344-BAD4-3CD34C03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1A8C-D367-4947-92B6-93ECC3BC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85C2-2537-49E3-B85A-786DBD60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098D-34BB-4510-96BE-FACF8C66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B954-4336-49BA-8220-68A10603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A1C2-46FB-4F8D-AD48-8449A448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8E0D-744E-4754-9540-4DEB097D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3A4E-929A-4F28-BBE2-5E143C12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535F-67B7-4BB5-8683-30C5575A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F18E-166E-4690-A1D6-8B2F870B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5AC0-9AAE-4C58-B1A7-17B15A1E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F60D-CB04-4EEF-ABBB-2420856A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45A3-B92D-4EB5-84E5-D9DD845B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7104-67AB-4492-A168-5BEBD339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E1A6-D904-4944-B3B3-F2B051A1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55F5-F87E-451D-8755-942C6D49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522C-755F-4D7A-8691-59F97FC6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C216-ED79-4171-9319-9C09B23A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ADD2-D127-4A43-A8B5-D3C36A74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B5CD-BD45-4A32-A00F-38294A92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569C-D386-4513-AA34-63C56F92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D947-057A-4AE3-8DCE-BF46F3A1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731B-ACFD-4D5E-803A-4CC68647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2965-043C-4495-BB7E-D5B868417AC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F231-90AF-493F-8F70-EB02993766B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Matemática es la reina de las Ciencias y la teoría de números es la reina de la Matemática ”      (Gauss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n el caso de que                 y que el producto punto entre los 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vectores v y w se define como                     y la norma 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tilizada es la norma euclidiana, la desigualdad de Cauchy-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chwartz se expresa de la sgte manera: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8" name="" descr="$ \mathbf{x}=(x_1,x_2,\ldots,x_n)$"/>
          <p:cNvPicPr/>
          <p:nvPr/>
        </p:nvPicPr>
        <p:blipFill>
          <a:blip r:embed="rId1"/>
          <a:stretch/>
        </p:blipFill>
        <p:spPr>
          <a:xfrm>
            <a:off x="1704960" y="2517840"/>
            <a:ext cx="2075040" cy="474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$ \mathbf{y}=(y_1,y_2,\ldots,y_n)$"/>
          <p:cNvPicPr/>
          <p:nvPr/>
        </p:nvPicPr>
        <p:blipFill>
          <a:blip r:embed="rId2"/>
          <a:stretch/>
        </p:blipFill>
        <p:spPr>
          <a:xfrm>
            <a:off x="5076720" y="2492280"/>
            <a:ext cx="1944720" cy="4557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$\displaystyle \vert \mathbf{x}\cdot \mathbf{y}\vert=\vert x_1y_1+x_2y_2+\cdots+... ...^2}\sqrt{y_1^2+y_2^2+\cdots+y_n^2}=\Vert \mathbf{x}\Vert\Vert \mathbf{y} \Vert,$"/>
          <p:cNvPicPr/>
          <p:nvPr/>
        </p:nvPicPr>
        <p:blipFill>
          <a:blip r:embed="rId3"/>
          <a:stretch/>
        </p:blipFill>
        <p:spPr>
          <a:xfrm>
            <a:off x="395280" y="3573360"/>
            <a:ext cx="8459640" cy="671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$ V=\mathbbmss{R}^n$"/>
          <p:cNvPicPr/>
          <p:nvPr/>
        </p:nvPicPr>
        <p:blipFill>
          <a:blip r:embed="rId4"/>
          <a:stretch/>
        </p:blipFill>
        <p:spPr>
          <a:xfrm>
            <a:off x="2987640" y="260280"/>
            <a:ext cx="1081080" cy="270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$ \langle v,w\rangle = v^t w$"/>
          <p:cNvPicPr/>
          <p:nvPr/>
        </p:nvPicPr>
        <p:blipFill>
          <a:blip r:embed="rId5"/>
          <a:stretch/>
        </p:blipFill>
        <p:spPr>
          <a:xfrm>
            <a:off x="5076720" y="692280"/>
            <a:ext cx="1584360" cy="568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-8380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838080" y="3230640"/>
          <a:ext cx="9144000" cy="3664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5" name="" descr="$\displaystyle (x_1y_1+x_2y_2+\cdots+x_ny_n)\sp2 \le\left(x_1^2+x_2^2+\cdots+x_n^2\right)\left( y_1^2+y_2^2+\cdots+y_n^2\right) $"/>
          <p:cNvPicPr/>
          <p:nvPr/>
        </p:nvPicPr>
        <p:blipFill>
          <a:blip r:embed="rId6"/>
          <a:stretch/>
        </p:blipFill>
        <p:spPr>
          <a:xfrm>
            <a:off x="324000" y="5229360"/>
            <a:ext cx="8496000" cy="59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Cabe notar que esta desigualdad de Cauchy – Schwartz es similar a la desigualdad triangular bien conocida como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y la desigualdad de Cauchy – Schwartz e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Tambien conocida como la desigualdad de 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Cauchy-Bunyakovsky-Schwartz 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0"/>
          <a:ext cx="9144000" cy="3668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" descr="$\displaystyle \Vert\mathbf{x}+\mathbf{y}\Vert\leq\Vert \mathbf{x}\Vert+\Vert \mathbf{y}\Vert$"/>
          <p:cNvPicPr/>
          <p:nvPr/>
        </p:nvPicPr>
        <p:blipFill>
          <a:blip r:embed="rId1"/>
          <a:stretch/>
        </p:blipFill>
        <p:spPr>
          <a:xfrm>
            <a:off x="3203640" y="2565360"/>
            <a:ext cx="2808360" cy="58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0" y="0"/>
          <a:ext cx="493560" cy="1432080"/>
        </p:xfrm>
        <a:graphic>
          <a:graphicData uri="http://schemas.openxmlformats.org/drawingml/2006/table">
            <a:tbl>
              <a:tblPr/>
              <a:tblGrid>
                <a:gridCol w="277560"/>
                <a:gridCol w="216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2" name="" descr="$\displaystyle \vert\mathbf{x}\cdot\mathbf{y}\vert\leq\Vert \mathbf{x}\Vert\cdot\Vert \mathbf{y}\Vert$"/>
          <p:cNvPicPr/>
          <p:nvPr/>
        </p:nvPicPr>
        <p:blipFill>
          <a:blip r:embed="rId2"/>
          <a:stretch/>
        </p:blipFill>
        <p:spPr>
          <a:xfrm>
            <a:off x="2987640" y="4149720"/>
            <a:ext cx="28814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Fin de la presentación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ffff"/>
                </a:solidFill>
                <a:uFillTx/>
                <a:latin typeface="Arial"/>
              </a:rPr>
              <a:t>Biografía de Agustín Cauch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889360" y="1795320"/>
            <a:ext cx="3365280" cy="41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EM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Aspectos biográfic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l legado de Cauch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a desigualdad de Cauchy-Schwart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spectos Biográfico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Nace el año 1789 en París , Franci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rece en Arcueil donde ingresa a la escuela a la edad de 13 añ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Ingresa a la ecolé Polytechnique parisina a la edad de 16 años y a los 18 años asiste a una escuela de ingeniería civil donde se gradúa 3 años mas tard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auchy, trabajó como un ingeniero militar y en 1810 llegó a Cherbourg a trabajar junto a Napoleón en la invasión a Inglaterra. En 1813 retornó a París y luego fue persuadido por Laplace y Lagrange para convertirse en un devoto de las matemática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n 1830 se exilió en Turín, donde trabajó como profesor de física matemática hasta que regresó a París (1838). Pasó el resto de su vida haciendo clases en La Sorbon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Muere el año 1857 en Sceaux (cerca de Paris) , Franci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ffff"/>
                </a:solidFill>
                <a:uFillTx/>
                <a:latin typeface="Arial"/>
              </a:rPr>
              <a:t>El legado de Cauchy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ionero en el análisis y la teoría de permutación de grupos 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investigó la convergencia y la divergencia de las series infinitas, ecuaciones diferenciales, determinantes, probabilidad y física matemát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n 1814 el publicó la memoria de la integral definida que llegó a ser la base de la teoría de las funciones complej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nalyse Algébrique, de 1822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eorema integral de Cauchy, la teoría de las funciones complejas, las ecuaciones de Cauchy-Riemann y Secuencias de Cauchy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ublica un total 789 trabaj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Su extensa obra introdujo y consolidó el concepto fundamental de rigor matemático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Desigualadad de Cauchy-Schwartz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Hermann Amandus Schwartz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(1983-1921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chwartz nunca conocío a Cauchy, sin embargo sus estudios sobre geometría le permitieron encontrar métodos mas generales para solucionar problemas estrechos y específicos.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435640" y="1773360"/>
            <a:ext cx="29131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espíritu de la desigualdad de Cauchy-Schwartz es el siguiente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e tiene un espacio vectorial V y un producto punto &lt; , &gt; (dot).  Se define una norma 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n dicho espacio, esta desigualdad sostiene qu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ara todo v, w en V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$\displaystyle \Vert x\Vert = \sqrt{\langle x,x\rangle}.$"/>
          <p:cNvPicPr/>
          <p:nvPr/>
        </p:nvPicPr>
        <p:blipFill>
          <a:blip r:embed="rId1"/>
          <a:stretch/>
        </p:blipFill>
        <p:spPr>
          <a:xfrm>
            <a:off x="3780000" y="2637000"/>
            <a:ext cx="1800000" cy="647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$\displaystyle \vert \langle v,w\rangle\vert\le \Vert v\Vert\Vert w\Vert$"/>
          <p:cNvPicPr/>
          <p:nvPr/>
        </p:nvPicPr>
        <p:blipFill>
          <a:blip r:embed="rId2"/>
          <a:stretch/>
        </p:blipFill>
        <p:spPr>
          <a:xfrm>
            <a:off x="3348000" y="4437000"/>
            <a:ext cx="26640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4:07Z</dcterms:created>
  <dc:creator>valenzuela volkwein</dc:creator>
  <dc:description/>
  <dc:language>en-US</dc:language>
  <cp:lastModifiedBy>valenzuela volkwein</cp:lastModifiedBy>
  <dcterms:modified xsi:type="dcterms:W3CDTF">2004-08-06T15:51:27Z</dcterms:modified>
  <cp:revision>7</cp:revision>
  <dc:subject/>
  <dc:title>“ La Matemática es la reina da las Ciencias y la teoria de números es la reina de la Matemática ”      (Gauss)</dc:title>
</cp:coreProperties>
</file>