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FE08-11CB-491A-A89F-3D8C1FE1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6BE-F711-49FF-9E3D-1AE95C98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9F9-F861-4A74-90CD-7C68D455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9DF-0440-4FD8-8E33-EC2AFA79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EEB2-484F-4351-88FC-114E2FC1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CE9A-5AD1-4AA1-8782-9C53AAA3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1C8C-5594-40BF-8B55-948C4D32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1D0C-25B4-49DE-AB0A-28D6B711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6DAE-5ACF-49D8-BD09-62128F8E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936A-4E55-4BE4-8E58-0FB43C8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FBC5-B7D1-4835-AD48-B44F6B3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4AD-506D-476C-B2D9-7D5BBC8A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58DB-A7E4-4334-9564-C8E9BD5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4107-3EA0-4811-82EC-07DF7E0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6197-DBE6-4B4F-B910-965DA8C3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D3D7-CCFC-4048-95F5-82548938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B266-01A0-469C-ABF1-E13BCFBA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181-5C57-4858-B9E3-ADA12B2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944-3D40-447A-9D1A-83994C2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755-434C-43C4-91DB-A013C24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986-755D-4FBD-868C-ABFC9832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21F-481D-4BA0-909C-C000B09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755-DF27-4140-9631-AAA92A35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09C-E987-410E-9F44-EF27523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02D1-85C0-4011-8688-D4243F630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B943-0B6D-4C1F-84A7-175F44112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-astronomy.mps.ohio-state.edu/~pogge/Ast161/Unit1/number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b7"/>
                </a:solidFill>
                <a:latin typeface="Arial Black"/>
              </a:rPr>
              <a:t>El Tiemp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Breve Expl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b7"/>
                </a:solidFill>
                <a:latin typeface="Arial Black"/>
              </a:rPr>
              <a:t>Consecuencias de este espacio para la Teoría de Relatividad Gral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 problema no insignificante – según la mécanica Newtoniana, efectos gravitaciónales son instantaneas, o sea, movimiento de un cuerpo masivo afecta inmediatamente a otro cuerpo masivo – o sea, a velocidad infinita, cosa que causa conflicto con la relatividad que sostiene que C es la mayor velocidad que exis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inuación – Relatividad Gener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Relatividad General (Einstein 1915) sostiene que este espacio 4-dimensional tiene una deformación debido a la distribución de masa (o energía, son equivalentes por E=mc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uego, objetos que aparentan mover en recorridos que no corresponden a la métrica más corta en nuestra visión 3-dimensionales, en realidad siguen el recorrido más corto según la métrica 4-dimensional que incluye los efectos de las mas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papel de la Luz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luz es afectada también, por viajar en rectas en el espacio 3dimensional que nosotros observamos, debe viajar en curvas en el “tiempoespacio” 4dimen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ecuencia – la gravedad tiene el efecto de entorpecer la luz, y desde luego el tiempo – un observador en un campo gravitacional más fuerte tiene un tiempo más lento que un observado en un campo más debil. (Esto tiene consecuencias practicas para la navegación, etc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l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 una consecuencia de la relatividad general (como demostrado por S. Hawking) que el universo nuestro tiene un principio, es finito, expande, y posiblemente tiene un f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l universo expanda tan rápido que nunca puede decelerar totalmente, y eventualmente llega a un equilibrio de expansión, donde la fuerza de gravedad iguala a la fuerza expansiv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 eventualmente la gravedad causara una contracción que resultara en la devolución al estado original del universo (pre- big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equilibr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evolución al estado pre-big ba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Hoyos negros y Viajes por 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sten fenómenos llamados “hoyos negros” que se forman cuando una estrella de masa suficiente agota su combustible, debido a esto agota su resistencia a la fuerza gravitacional.  Toda la masa lo comprime en un punto limite de densidad infinito.  Obviamente la cantidad de masa infinita tiene consecuencias graves para las metricas del espacio 4 dimens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teoría es posible (pero muy improbable) que un observador atraído por las fuerzas gravitacionales de la masa se podría encontrar de repente en otra región de tiempo-espacio (el llamado hoyo-gusan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nalogia de viaje por tiempo espaci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905120"/>
            <a:ext cx="6396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clu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 demuestra optimismo de que estamos bastante cerca al descubrimiento de una teoría univers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un eso no implica que haya comprensión completa de todos los eventos que ocurren a nuestro alrede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Fuente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-astronomy.mps.ohio-state.edu/~pogge/Ast161/Unit1/numb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wking, Stephen,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A Brief History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Contenid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ción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ncipios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tualidad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turo d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licaciones para Nosot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medición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segundo (En SI, el sistema M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iginalmente definido como 1/86,400 del día terres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 definido como 9,192,631,770 oscilaciones de un reloj que usa Cesio Cs</a:t>
            </a:r>
            <a:r>
              <a:rPr b="0" lang="es-CL" sz="2800" spc="-1" strike="noStrike" baseline="30000">
                <a:solidFill>
                  <a:srgbClr val="ffffff"/>
                </a:solidFill>
                <a:latin typeface="Arial"/>
              </a:rPr>
              <a:t>133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Ya veremos que el tiempo es mucho más complicado de lo que se desprende de sus 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La primera noción de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dere que un evento ocurre dentro de un marco de referencia estacionario – entonces puede ocurrir dos eventos a diferentes tiempos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r contraste, para una persona que observa desde un marco no estacionario respecto al primer marco, dos eventos en diferentes tiempos nunca ocurren en el mismo lugar del espa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Algunos 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o fue perturbador para los que creían en posición absoluto, desde luego ellos se creían en una medición absoluto del tiempo – que existiera un tiempo universal que separará dos mismos eventos de manera unica para toda posició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Un Valor Absolut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óximo paso fue descubrir la naturaleza de la Luz, siendo que existen muchos conflictos al resp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stiones de propagación, velocidad relativo, etc. – eventualmente resuelto experimentalmente llegando al valor C como velocidad de la luz, constante en todo marco de refer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Diferencias entre Teoría de Relatividad y la Clás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n diferencias entre lo que pasa con el tiempo que ocupa un pulso de luz en viajar una distancia en la mecánica Newtoniana y la de relativ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a Newtoniana, como tiempo es absoluto, espacio variable, V. de luz camb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Relatividad, Tiempo Variable, espacio variable, V. de luz luego puede ser constante (como es confirmado experimentalme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ransición a la modernidad del Tiemp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n la consideración de estos hechos, se puede definir una distancia como un “luz-segundo”, o la distancia que viaja un pulso de luz en un segundo, consecuencia siendo que un metro es igual a cierto porcentaje del “luz-segun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hora, es importante considerar que en “luz” de estos hechos, el tiempo y el espacio no son muy diferent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b7"/>
                </a:solidFill>
                <a:latin typeface="Arial Black"/>
              </a:rPr>
              <a:t>Tiempo como la 4rta Dimens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Justamente por lo anterior, podemos justificar que el tiempo es otra dimensión más en un espacio de 4 dimens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sando la definición de espacio como luz segundo, es fácil crear definiciones de la distancia en este espacio de 4 dimensiones (es un espacio métr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02:24Z</dcterms:created>
  <dc:creator>Alexander Sideman</dc:creator>
  <dc:description/>
  <dc:language>en-US</dc:language>
  <cp:lastModifiedBy>Alexander Sideman</cp:lastModifiedBy>
  <dcterms:modified xsi:type="dcterms:W3CDTF">2004-08-27T17:31:01Z</dcterms:modified>
  <cp:revision>3</cp:revision>
  <dc:subject/>
  <dc:title>El Tiempo</dc:title>
</cp:coreProperties>
</file>