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png" ContentType="image/png"/>
  <Override PartName="/ppt/media/image21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9.png" ContentType="image/png"/>
  <Override PartName="/ppt/media/image22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18D-1201-4418-A969-7F0C45CD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253-0895-410F-81FC-A7EFD84E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AFD-7054-4AE9-8AFC-6DA01620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4FD-CAC3-4622-9A73-5D88151A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8F6-EDB5-49A7-BDB7-6CCD06C5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69D-6645-449F-B00A-A5842957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9FAF-1880-4A78-9D4D-CE689791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648-2C0B-43D2-889A-1CC9479E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3AD-B3B6-4921-8C2E-FC6A0D0C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5FA-74E7-4F1A-A587-D9958D48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C27-F4E5-432E-A83D-F7318C1F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71F-F7B2-4CFF-B927-3338EB4F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3DFF-370D-4BBF-83BF-21A3FD82E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Electrof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Purific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5803920" cy="311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867280" y="4368960"/>
            <a:ext cx="3022560" cy="2489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80880"/>
            <a:ext cx="830592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Protein fractionation in multi-well device using Off-gel  isoelectric 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elveticaNeue-Light"/>
              </a:rPr>
              <a:t>P. Michel, F. Reymond, DiagnoSwiss SA, Monthey/CH;I. Arnaud, J. Josserand, H. Girault, Ecole Polytechnique Fédérale de Lausanne/CH; J.S. Rossier, DiagnoSwiss SA, Monthey/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55627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raccionamiento inicial por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28800" y="0"/>
            <a:ext cx="556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les 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pI y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344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1371600"/>
          <a:ext cx="7391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391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09480" y="1905120"/>
          <a:ext cx="3934080" cy="30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905120"/>
                    <a:ext cx="393408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Geles 2D automáticos</a:t>
            </a:r>
            <a:br>
              <a:rPr sz="4400"/>
            </a:br>
            <a:br>
              <a:rPr sz="4400"/>
            </a:br>
            <a:r>
              <a:rPr b="1" lang="es-ES" sz="2400" spc="-1" strike="noStrike">
                <a:solidFill>
                  <a:srgbClr val="000000"/>
                </a:solidFill>
                <a:latin typeface="HelveticaNeue-Bold"/>
              </a:rPr>
              <a:t>Laboratory system based on a plastic chip for 2D</a:t>
            </a:r>
            <a:br>
              <a:rPr sz="2400"/>
            </a:br>
            <a:r>
              <a:rPr b="0" lang="es-ES" sz="2000" spc="-1" strike="noStrike">
                <a:solidFill>
                  <a:srgbClr val="000000"/>
                </a:solidFill>
                <a:latin typeface="HelveticaNeue-Light"/>
              </a:rPr>
              <a:t>A. Griebel, S. Rund, W. Dörner, R. Konrad, Institut für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HelveticaNeue-Light"/>
              </a:rPr>
              <a:t>Mikrotechnik Mainz GmbH/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724280" cy="314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5867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año de una tarjeta de cré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360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747960" y="304920"/>
          <a:ext cx="539604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960" y="304920"/>
                    <a:ext cx="539604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0" y="137160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tradicionales de electroforesis analí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380880"/>
            <a:ext cx="4952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 Horizontal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Usos a nivel prepa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metodología de geles en un soporte sólido pueden llegar a ser tediosos, dado que se debe cortar el gel y luego eluir la proteína, motivo por el cual se han desarrollado otras metodologías como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-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rabajar en medio líquido de películas muy delgadas o mediante membra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s tecnologías más utilizada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 de flujo libre más recirculación</a:t>
            </a: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609480"/>
            <a:ext cx="822960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hay recirculación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stancias pequeñas de migración o estabilización rot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Películas De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rriente continua y puntual de muestra sobre el buffer que se mueve en forma vertical entre 2 capas. En la parte lateral están los electrodos, hay un enfriamiento por refriger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so para la separación 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artículas sub-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ponent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85920" y="847800"/>
            <a:ext cx="6572160" cy="5162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927680" cy="581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08720" y="4762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quema de un equipo de electroforesis de flujo continuo en una celda de electrofor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5734080"/>
            <a:ext cx="431640" cy="574560"/>
          </a:xfrm>
          <a:prstGeom prst="can">
            <a:avLst>
              <a:gd name="adj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lectroforesis an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ilindro externo gira hasta 150 rpm (lento) para neutralizar los efectos convectivos radiales.</a:t>
            </a:r>
            <a:r>
              <a:rPr b="1" lang="es-ES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76520" y="1295280"/>
          <a:ext cx="5790960" cy="526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790960" cy="52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pos de flujo libre con re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eldas tipo tam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esenta compartimientos separados por discos de membranas de poliéster con poros de 10 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, opera con gradiente de pH, la descarga es por vac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lícula delgada con re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realizan ciclos de la muestra que ingresa en diferentes canales como un isoelectroenfo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Electrofor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4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una de las técnicas más poderosas para la purificación de moléculas biológ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Defin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transporte de partículas cargadas a través de un campo eléctrico. Basada en la migración diferencial de las partículas carg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03640" y="4105440"/>
          <a:ext cx="319068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105440"/>
                    <a:ext cx="319068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00400" y="3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0" y="0"/>
          <a:ext cx="5118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118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Procesos Integrado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- Cromatografía de Lecho expandido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Comic Sans MS"/>
              </a:rPr>
              <a:t>-Cromatografía Anular Pla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Lechos Expandi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052640"/>
            <a:ext cx="7345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oceso consiste esencialmente de 6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tiene el lecho almace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stabiliza el lecho expandido a un determinad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equilibrio el lecho con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carga el caldo directo de la fer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lava el l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uye y regenera el l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Lechos Expandid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22492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217800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160720" cy="288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221436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9640" y="4724280"/>
            <a:ext cx="25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 de estabilización 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4724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 de carga del c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debe purificar un producto extra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caldo se inyecta  directamente a la columna, se ahorran las etapa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s Continuas: Cromatografía Anula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3194280" cy="5334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114800" cy="4003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480" y="990720"/>
            <a:ext cx="4800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Id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omic Sans MS"/>
              </a:rPr>
              <a:t>Inyectar continuament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yectar continuamente la muestra, reemplaza a los carruseles de colum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Afinidad en membra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523880"/>
          <a:ext cx="350532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5053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429000" y="4114800"/>
            <a:ext cx="6858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4419720"/>
            <a:ext cx="458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luente Libre de células y productos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819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Membrana de afi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1447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 1 se carga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romatografía de Afinidad en membra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44197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uye sólo la proteína de interes que estaba adsorbida en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819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Membrana de afi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1295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 2 se eluye la proteína adsor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752480"/>
          <a:ext cx="3029040" cy="41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3029040" cy="41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048120" y="4038480"/>
            <a:ext cx="7617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819520"/>
            <a:ext cx="0" cy="7617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2286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utilizar tanto en esc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alítica ( más conoc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pa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spectos que afectas  la separación: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arga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amaño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orma de la proteína</a:t>
            </a:r>
            <a:r>
              <a:rPr b="1" lang="es-ES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95480" y="3886200"/>
          <a:ext cx="54104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86200"/>
                    <a:ext cx="54104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ioreactor%20filter%20DrIng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380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lles de un sistema inte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495680" y="4572000"/>
          <a:ext cx="4496040" cy="17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572000"/>
                    <a:ext cx="4496040" cy="1700280"/>
                  </a:xfrm>
                  <a:prstGeom prst="rect">
                    <a:avLst/>
                  </a:prstGeom>
                  <a:ln w="1260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800600" y="3505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lles de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ados de la Integ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1433520"/>
            <a:ext cx="7848720" cy="4249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43280" y="640080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Castilho LR, Anspach FB, Deckwer WD (2002), </a:t>
            </a: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An integrated process for mammalian cell perfusion </a:t>
            </a:r>
            <a:br>
              <a:rPr sz="1400"/>
            </a:br>
            <a:r>
              <a:rPr b="0" i="1" sz="1400" spc="-1" strike="noStrike">
                <a:solidFill>
                  <a:srgbClr val="000000"/>
                </a:solidFill>
                <a:latin typeface="Times New Roman"/>
              </a:rPr>
              <a:t>cultivation and product purification using a dynamic filter.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 Biotechnol. Prog., 18, 776-7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aluación de los niveles de recu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80" y="562464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ución ciclo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9920" y="16765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estra des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 Biore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5791320"/>
            <a:ext cx="21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ución cic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Condi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debe purificar un producto extra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caldo se inyecta  directamente a la columna, se ahorran las etapas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u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flujos altos pues la membrana es re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00"/>
                </a:solidFill>
                <a:latin typeface="Comic Sans MS"/>
              </a:rPr>
              <a:t>Electro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84360" y="2133720"/>
          <a:ext cx="491832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133720"/>
                    <a:ext cx="491832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066680" y="10666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 a la que se le aplica un campo eléctrico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torta se minimiza y el proceso es má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609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ectro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Tecnología de purificación magnética para proteínas inmovi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5238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dea consiste en inmovilizar la proteína a partículas que tengan propiedades magné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14400" y="2514600"/>
          <a:ext cx="715320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1532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457200"/>
            <a:ext cx="72392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teriormente, las partículas magnéticas son atrapadas en un campo eléctrico, quedando solo ellas retenidas y el resto de las especies de la mezcla son elimin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ultimo, se desorben las proteínas desde las partículas mag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Diagrama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agnetos4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610840" cy="5538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Nuevos Materiales Cromatográficos</a:t>
            </a:r>
            <a:br>
              <a:rPr sz="4000"/>
            </a:br>
            <a:r>
              <a:rPr b="0" lang="es-ES" sz="2000" spc="-1" strike="noStrike">
                <a:solidFill>
                  <a:srgbClr val="b1161d"/>
                </a:solidFill>
                <a:latin typeface="SSFranklinGothic-Heavy"/>
              </a:rPr>
              <a:t>Monolith Separation Technology</a:t>
            </a:r>
            <a:br>
              <a:rPr sz="2000"/>
            </a:br>
            <a:r>
              <a:rPr b="0" lang="es-ES" sz="2000" spc="-1" strike="noStrike">
                <a:solidFill>
                  <a:srgbClr val="b1161d"/>
                </a:solidFill>
                <a:latin typeface="SSFranklinGothic-Heavy"/>
              </a:rPr>
              <a:t>http://www.monoliths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770280" cy="295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4120" y="2819520"/>
            <a:ext cx="32004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porte Monol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les son una sola pieza, altamente interconectada con grandes y pequeños ca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3352320" y="4191120"/>
            <a:ext cx="1981800" cy="2057400"/>
            <a:chOff x="3352320" y="4191120"/>
            <a:chExt cx="1981800" cy="2057400"/>
          </a:xfrm>
        </p:grpSpPr>
        <p:sp>
          <p:nvSpPr>
            <p:cNvPr id="170" name=""/>
            <p:cNvSpPr/>
            <p:nvPr/>
          </p:nvSpPr>
          <p:spPr>
            <a:xfrm>
              <a:off x="3733920" y="4876920"/>
              <a:ext cx="990360" cy="13716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91120" y="4191120"/>
              <a:ext cx="0" cy="1218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5715000"/>
              <a:ext cx="762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571500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533520"/>
            <a:ext cx="7620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cortos de s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os activos fácilmente acce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as capacidades para moléculas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s tipo de cromatografía: Intercambio Iónico, Filtración por g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as,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ración por G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rmalmente se trabajan a flujos &lt; 1.0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evos materiales  Flujos = 5 ml/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Fund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icialmente se desarrollaba electroforesis en medio líquido, pero se producía dispersión, se requirió de medios que proporcionarán mayor resistencia mecánica, tale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elul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oliacrilam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chos medios resultan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ás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tamente hidra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0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isminuyen los efectos de calor gen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do el sistema sumido en un electrolito que sirve como buffer.</a:t>
            </a:r>
            <a:r>
              <a:rPr b="0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3809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partícula al estar cargada genera capas de iones que la rod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36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1948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28800" y="380880"/>
          <a:ext cx="445788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0880"/>
                    <a:ext cx="445788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componente se mueve a diferente velocidad, entonces se logra separar la mezcla. Dicha velocidad de movilidad, velocidad de la partícula (v) por unidad de campo eléctrico (E),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vilidad = v/E = k (pH-pI)/ 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asa a pH = pI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roteínas se demoran más en migrar, las grandes o las pequeñ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¿ Qué pasa se aplico un campo eléctrico muy gran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0"/>
            <a:ext cx="82296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USOS A NIVEL ANA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ectroforesis se puede utilizar para determin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so molecular de proteínas por medio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eles nativos (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eles denaturantes (SDS-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unto isoléctrico por geles de isoelectroenf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urvas de titulación por geles de isoelectroenfoque en dos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so molecular y pI por geles en 2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ctividad de enzimas por zimogra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28800" y="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SDS-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masa molecular,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62320" y="1066680"/>
          <a:ext cx="47037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66680"/>
                    <a:ext cx="47037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743200" y="12193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2193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K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52480" y="1676520"/>
          <a:ext cx="548640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548640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905120" y="533520"/>
            <a:ext cx="556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Isoelectroenf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paración por 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20:29:52Z</dcterms:created>
  <dc:creator>Maria Elena Lienqueo C.</dc:creator>
  <dc:description/>
  <dc:language>en-US</dc:language>
  <cp:lastModifiedBy>Maria Elena Lienqueo C.</cp:lastModifiedBy>
  <dcterms:modified xsi:type="dcterms:W3CDTF">2004-10-25T02:17:05Z</dcterms:modified>
  <cp:revision>63</cp:revision>
  <dc:subject/>
  <dc:title>Cromatografía en Lecho Fijo</dc:title>
</cp:coreProperties>
</file>