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BC4B-2B93-4085-81F3-194FCDAE4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0FC4-D862-49C2-835A-E04D0C0D6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04BE-5EBA-4806-8E8F-ED1AD1980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8FB4-2ABE-470F-A687-01CF5AB5F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1151-40DA-40A1-A917-A751556C2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6ACA-F4D8-429E-985B-8B983955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A124-F1B9-4D7E-B7AD-D11CCBD4A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BA28-2ECD-4420-A0B2-D22BB13C5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9433-DB32-40BA-9646-918A19C61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B28E-E2A6-4AE5-B934-445DEEB0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9D7C-4CB8-4BCD-8A33-CC14C84F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86B8-0BD2-4C76-A0F0-1685A948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E1D1-E198-4B17-8C80-CFF93CBC50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Operaciones de Refinamiento Fi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440160" y="4067280"/>
            <a:ext cx="2263680" cy="19540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Algunos tipos de dependencia de la solubilidad con la temperatura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36040" cy="37958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457200" y="609480"/>
            <a:ext cx="8496000" cy="6037560"/>
            <a:chOff x="457200" y="609480"/>
            <a:chExt cx="8496000" cy="6037560"/>
          </a:xfrm>
        </p:grpSpPr>
        <p:grpSp>
          <p:nvGrpSpPr>
            <p:cNvPr id="71" name=""/>
            <p:cNvGrpSpPr/>
            <p:nvPr/>
          </p:nvGrpSpPr>
          <p:grpSpPr>
            <a:xfrm>
              <a:off x="463320" y="613800"/>
              <a:ext cx="8482680" cy="6028200"/>
              <a:chOff x="463320" y="613800"/>
              <a:chExt cx="8482680" cy="6028200"/>
            </a:xfrm>
          </p:grpSpPr>
          <p:grpSp>
            <p:nvGrpSpPr>
              <p:cNvPr id="72" name=""/>
              <p:cNvGrpSpPr/>
              <p:nvPr/>
            </p:nvGrpSpPr>
            <p:grpSpPr>
              <a:xfrm>
                <a:off x="463320" y="613800"/>
                <a:ext cx="1719000" cy="764280"/>
                <a:chOff x="463320" y="613800"/>
                <a:chExt cx="1719000" cy="76428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521640" y="613800"/>
                  <a:ext cx="160236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po de dependenci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463320" y="613800"/>
                  <a:ext cx="1719000" cy="76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2182680" y="613800"/>
                <a:ext cx="3087000" cy="764280"/>
                <a:chOff x="2182680" y="613800"/>
                <a:chExt cx="3087000" cy="76428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2241360" y="613800"/>
                  <a:ext cx="296964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o de Oper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2182680" y="613800"/>
                  <a:ext cx="3087000" cy="76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5270400" y="613800"/>
                <a:ext cx="3675600" cy="764280"/>
                <a:chOff x="5270400" y="613800"/>
                <a:chExt cx="3675600" cy="76428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5329080" y="613800"/>
                  <a:ext cx="355824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5270400" y="613800"/>
                  <a:ext cx="3675600" cy="76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463320" y="1378080"/>
                <a:ext cx="1719000" cy="2886480"/>
                <a:chOff x="463320" y="1378080"/>
                <a:chExt cx="1719000" cy="288648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521640" y="1378080"/>
                  <a:ext cx="1602360" cy="288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con solubilidad sensible a la temperatu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463320" y="1378080"/>
                  <a:ext cx="1719000" cy="288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2182680" y="1378080"/>
                <a:ext cx="3087000" cy="1782720"/>
                <a:chOff x="2182680" y="1378080"/>
                <a:chExt cx="3087000" cy="178272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2241360" y="1378080"/>
                  <a:ext cx="2969640" cy="178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obresaturación por enfriamien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2182680" y="1378080"/>
                  <a:ext cx="3087000" cy="178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5270400" y="1378080"/>
                <a:ext cx="3675600" cy="1782720"/>
                <a:chOff x="5270400" y="1378080"/>
                <a:chExt cx="3675600" cy="178272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5329080" y="1378080"/>
                  <a:ext cx="3558240" cy="178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s de Oper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tercambio de cal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íquido refrigerante inmiscible en la solu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lto rendimien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jo consumo de energí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5270400" y="1378080"/>
                  <a:ext cx="3675600" cy="178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2182680" y="3160800"/>
                <a:ext cx="3087000" cy="1103760"/>
                <a:chOff x="2182680" y="3160800"/>
                <a:chExt cx="3087000" cy="110376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2241360" y="3160800"/>
                  <a:ext cx="2969640" cy="110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obresaturación por enfriamiento evaporativ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2182680" y="3160800"/>
                  <a:ext cx="3087000" cy="110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5270400" y="3160800"/>
                <a:ext cx="3675600" cy="1103760"/>
                <a:chOff x="5270400" y="3160800"/>
                <a:chExt cx="3675600" cy="110376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5329080" y="3160800"/>
                  <a:ext cx="3558240" cy="110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 Oper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limentación se encuentra a mayor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   temperatura que el evaporad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nfriamiento adiabático por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5270400" y="3160800"/>
                  <a:ext cx="3675600" cy="110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463320" y="4264920"/>
                <a:ext cx="1719000" cy="933840"/>
                <a:chOff x="463320" y="4264920"/>
                <a:chExt cx="1719000" cy="93384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521640" y="4264920"/>
                  <a:ext cx="1602360" cy="93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insensible a la temperatu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463320" y="4264920"/>
                  <a:ext cx="1719000" cy="93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2182680" y="4264920"/>
                <a:ext cx="3087000" cy="933840"/>
                <a:chOff x="2182680" y="4264920"/>
                <a:chExt cx="3087000" cy="93384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2241360" y="4264920"/>
                  <a:ext cx="2969640" cy="93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obresaturación por evaporación térmic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2182680" y="4264920"/>
                  <a:ext cx="3087000" cy="93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5270400" y="4264920"/>
                <a:ext cx="3675600" cy="933840"/>
                <a:chOff x="5270400" y="4264920"/>
                <a:chExt cx="3675600" cy="93384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5329080" y="4264920"/>
                  <a:ext cx="3558240" cy="93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 Operación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 evapora el solven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tercambiador con vap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5270400" y="4264920"/>
                  <a:ext cx="3675600" cy="93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463320" y="5198760"/>
                <a:ext cx="1719000" cy="1443240"/>
                <a:chOff x="463320" y="5198760"/>
                <a:chExt cx="1719000" cy="144324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521640" y="5198760"/>
                  <a:ext cx="1602360" cy="144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con solubilidad que depende en forma intermedia con la  temperatu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463320" y="5198760"/>
                  <a:ext cx="1719000" cy="1443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2182680" y="5198760"/>
                <a:ext cx="3087000" cy="1443240"/>
                <a:chOff x="2182680" y="5198760"/>
                <a:chExt cx="3087000" cy="144324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2241360" y="5198760"/>
                  <a:ext cx="2969640" cy="144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vaporación térmica al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2182680" y="5198760"/>
                  <a:ext cx="3087000" cy="1443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5270400" y="5198760"/>
                <a:ext cx="3675600" cy="1443240"/>
                <a:chOff x="5270400" y="5198760"/>
                <a:chExt cx="3675600" cy="144324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5329080" y="5198760"/>
                  <a:ext cx="3558240" cy="144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 Operación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a alimentación se encuentra a mayor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   temperatura que en el evaporad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vaporación en presencia de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5270400" y="5198760"/>
                  <a:ext cx="3675600" cy="1443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4" name=""/>
            <p:cNvSpPr/>
            <p:nvPr/>
          </p:nvSpPr>
          <p:spPr>
            <a:xfrm>
              <a:off x="457200" y="609480"/>
              <a:ext cx="8496000" cy="60375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533520" y="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Modos de operación de Cristalizadores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371600" y="2286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ductos con solubilidad sensible a la 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438280" y="3879720"/>
            <a:ext cx="4419720" cy="2977920"/>
            <a:chOff x="2438280" y="3879720"/>
            <a:chExt cx="4419720" cy="2977920"/>
          </a:xfrm>
        </p:grpSpPr>
        <p:sp>
          <p:nvSpPr>
            <p:cNvPr id="118" name=""/>
            <p:cNvSpPr/>
            <p:nvPr/>
          </p:nvSpPr>
          <p:spPr>
            <a:xfrm>
              <a:off x="2438280" y="38797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990033"/>
                  </a:solidFill>
                  <a:latin typeface="Comic Sans MS"/>
                  <a:ea typeface="Times New Roman"/>
                </a:rPr>
                <a:t>Productos insensible a la temperatur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9" name=""/>
            <p:cNvGraphicFramePr/>
            <p:nvPr/>
          </p:nvGraphicFramePr>
          <p:xfrm>
            <a:off x="2743200" y="4412880"/>
            <a:ext cx="2530440" cy="2444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43200" y="4412880"/>
                      <a:ext cx="2530440" cy="244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21" name=""/>
          <p:cNvGraphicFramePr/>
          <p:nvPr/>
        </p:nvGraphicFramePr>
        <p:xfrm>
          <a:off x="2484360" y="836640"/>
          <a:ext cx="3724200" cy="295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836640"/>
                    <a:ext cx="372420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71600" y="304920"/>
            <a:ext cx="647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ductos con solubilidad que depende en forma intermedia con la  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124000" y="1498680"/>
          <a:ext cx="4000680" cy="31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498680"/>
                    <a:ext cx="4000680" cy="31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85345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Tipos de Equi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r>
              <a:rPr b="1" lang="es-ES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os equipos pueden operar en for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33"/>
              </a:buClr>
              <a:buFont typeface="Comic Sans MS"/>
              <a:buChar char="•"/>
              <a:tabLst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·        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Batch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12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sultando la mayoría de los productos biotecnológ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12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 tiempos de operación entre 2 a 8 ho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835280" y="2209680"/>
          <a:ext cx="525780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209680"/>
                    <a:ext cx="52578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8305920" cy="21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Tipos de Equi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tinu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12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circulación del líquido de manera de recuperar todo el soluto de interés</a:t>
            </a:r>
            <a:r>
              <a:rPr b="1" lang="es-ES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12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852640" y="2085840"/>
            <a:ext cx="3438720" cy="37911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4367160" cy="5616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403280" y="40464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istalizador Evapor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194440" y="1628640"/>
            <a:ext cx="3949560" cy="48657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292720" y="40464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istalizador Contacto Dir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362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Sec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ducir el contenido de solvente (agua) por evaporación o subli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V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stabiliza el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eserva la ac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duce el volumen, lo cual lo hace más fácil de traspor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cupera el solvente, en el caso de no ser a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Métodos de se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l método de secado a utilizar dependerá 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1720" indent="-310680" algn="just">
              <a:lnSpc>
                <a:spcPct val="90000"/>
              </a:lnSpc>
              <a:spcBef>
                <a:spcPts val="451"/>
              </a:spcBef>
              <a:buClr>
                <a:srgbClr val="990033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Tipo de produ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1720" indent="-310680" algn="just">
              <a:lnSpc>
                <a:spcPct val="90000"/>
              </a:lnSpc>
              <a:spcBef>
                <a:spcPts val="451"/>
              </a:spcBef>
              <a:buClr>
                <a:srgbClr val="990033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piedades fisicoquímicas del produ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1720" indent="-310680" algn="just">
              <a:lnSpc>
                <a:spcPct val="90000"/>
              </a:lnSpc>
              <a:spcBef>
                <a:spcPts val="451"/>
              </a:spcBef>
              <a:buClr>
                <a:srgbClr val="990033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Tolerancia a la 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br>
              <a:rPr sz="2000"/>
            </a:b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80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1363680" y="1027080"/>
            <a:ext cx="6418080" cy="4805280"/>
            <a:chOff x="1363680" y="1027080"/>
            <a:chExt cx="6418080" cy="4805280"/>
          </a:xfrm>
        </p:grpSpPr>
        <p:grpSp>
          <p:nvGrpSpPr>
            <p:cNvPr id="137" name=""/>
            <p:cNvGrpSpPr/>
            <p:nvPr/>
          </p:nvGrpSpPr>
          <p:grpSpPr>
            <a:xfrm>
              <a:off x="1368360" y="1031760"/>
              <a:ext cx="6408720" cy="4795920"/>
              <a:chOff x="1368360" y="1031760"/>
              <a:chExt cx="6408720" cy="4795920"/>
            </a:xfrm>
          </p:grpSpPr>
          <p:grpSp>
            <p:nvGrpSpPr>
              <p:cNvPr id="138" name=""/>
              <p:cNvGrpSpPr/>
              <p:nvPr/>
            </p:nvGrpSpPr>
            <p:grpSpPr>
              <a:xfrm>
                <a:off x="1368360" y="1031760"/>
                <a:ext cx="1898640" cy="639720"/>
                <a:chOff x="1368360" y="1031760"/>
                <a:chExt cx="1898640" cy="63972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412640" y="1031760"/>
                  <a:ext cx="18100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mbr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368360" y="1031760"/>
                  <a:ext cx="1898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3267000" y="1031760"/>
                <a:ext cx="2733840" cy="639720"/>
                <a:chOff x="3267000" y="1031760"/>
                <a:chExt cx="2733840" cy="63972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3311640" y="1031760"/>
                  <a:ext cx="26445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3267000" y="1031760"/>
                  <a:ext cx="27338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6000840" y="1031760"/>
                <a:ext cx="1776240" cy="639720"/>
                <a:chOff x="6000840" y="1031760"/>
                <a:chExt cx="1776240" cy="639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6045120" y="1031760"/>
                  <a:ext cx="16876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000840" y="1031760"/>
                  <a:ext cx="1776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1368360" y="1671480"/>
                <a:ext cx="6408720" cy="776160"/>
                <a:chOff x="1368360" y="1671480"/>
                <a:chExt cx="6408720" cy="77616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1412640" y="1671480"/>
                  <a:ext cx="6320160" cy="77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990033"/>
                      </a:solidFill>
                      <a:latin typeface="Times New Roman"/>
                      <a:ea typeface="Times New Roman"/>
                    </a:rPr>
                    <a:t>Contacto directo con aire caliente en forma adiabátic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368360" y="1671480"/>
                  <a:ext cx="6408720" cy="77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1368360" y="2447640"/>
                <a:ext cx="1897200" cy="1187640"/>
                <a:chOff x="1368360" y="2447640"/>
                <a:chExt cx="1897200" cy="118764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1412640" y="2447640"/>
                  <a:ext cx="180828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cho fluidizad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368360" y="2447640"/>
                  <a:ext cx="189720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265560" y="2447640"/>
                <a:ext cx="2735280" cy="1187640"/>
                <a:chOff x="3265560" y="2447640"/>
                <a:chExt cx="2735280" cy="11876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3309840" y="2447640"/>
                  <a:ext cx="264636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l sólido (concentraciones del orden de 30% o más de sólido) se ponen en contacto con aire calien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ratamiento de grandes volúmenes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265560" y="2447640"/>
                  <a:ext cx="273528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6000840" y="2447640"/>
                <a:ext cx="1776240" cy="1187640"/>
                <a:chOff x="6000840" y="2447640"/>
                <a:chExt cx="1776240" cy="118764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6045120" y="2447640"/>
                  <a:ext cx="168768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vadur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6000840" y="2447640"/>
                  <a:ext cx="177624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1368360" y="3635280"/>
                <a:ext cx="1897200" cy="1187280"/>
                <a:chOff x="1368360" y="3635280"/>
                <a:chExt cx="1897200" cy="118728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1412640" y="3635280"/>
                  <a:ext cx="180828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cado por aspersión o spra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1368360" y="3635280"/>
                  <a:ext cx="189720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3265560" y="3635280"/>
                <a:ext cx="2735280" cy="1187280"/>
                <a:chOff x="3265560" y="3635280"/>
                <a:chExt cx="2735280" cy="118728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3309840" y="3635280"/>
                  <a:ext cx="264636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 termolábi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randes Volúmen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a solución debe tener más de un 25% de sólidos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3265560" y="3635280"/>
                  <a:ext cx="273528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6000840" y="3635280"/>
                <a:ext cx="1776240" cy="1187280"/>
                <a:chOff x="6000840" y="3635280"/>
                <a:chExt cx="1776240" cy="11872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6045120" y="3635280"/>
                  <a:ext cx="168768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nzim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vadur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teínas unicelular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000840" y="3635280"/>
                  <a:ext cx="177624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1368360" y="4822560"/>
                <a:ext cx="1897200" cy="1005120"/>
                <a:chOff x="1368360" y="4822560"/>
                <a:chExt cx="1897200" cy="100512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1412640" y="4822560"/>
                  <a:ext cx="180828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stantáneo o Flas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368360" y="4822560"/>
                  <a:ext cx="189720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3265560" y="4822560"/>
                <a:ext cx="2735280" cy="1005120"/>
                <a:chOff x="3265560" y="4822560"/>
                <a:chExt cx="2735280" cy="100512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3309840" y="4822560"/>
                  <a:ext cx="264636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ólidos con baja humedad y difíciles de manejar (por tamaño o pegajosos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3265560" y="4822560"/>
                  <a:ext cx="27352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6000840" y="4822560"/>
                <a:ext cx="1776240" cy="1005120"/>
                <a:chOff x="6000840" y="4822560"/>
                <a:chExt cx="1776240" cy="100512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6045120" y="4822560"/>
                  <a:ext cx="168768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que no toleran altas temperatur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6000840" y="4822560"/>
                  <a:ext cx="177624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7" name=""/>
            <p:cNvSpPr/>
            <p:nvPr/>
          </p:nvSpPr>
          <p:spPr>
            <a:xfrm>
              <a:off x="1363680" y="1027080"/>
              <a:ext cx="6418080" cy="48052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362320" y="30492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Métodos de secado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36232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105600" cy="49831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554560" y="836640"/>
            <a:ext cx="38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cador spray o por asp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0"/>
          <a:ext cx="8915400" cy="629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15400" cy="62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3352680" y="4038480"/>
            <a:ext cx="5791320" cy="2590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36232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5925960" cy="48020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624400" y="620640"/>
            <a:ext cx="35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cador flash o instantán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36232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600200" y="990720"/>
          <a:ext cx="5791320" cy="381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990720"/>
                    <a:ext cx="5791320" cy="38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1235160" y="-11160"/>
            <a:ext cx="6673680" cy="6464160"/>
            <a:chOff x="1235160" y="-11160"/>
            <a:chExt cx="6673680" cy="6464160"/>
          </a:xfrm>
        </p:grpSpPr>
        <p:grpSp>
          <p:nvGrpSpPr>
            <p:cNvPr id="189" name=""/>
            <p:cNvGrpSpPr/>
            <p:nvPr/>
          </p:nvGrpSpPr>
          <p:grpSpPr>
            <a:xfrm>
              <a:off x="1239840" y="-6120"/>
              <a:ext cx="6664320" cy="6454800"/>
              <a:chOff x="1239840" y="-6120"/>
              <a:chExt cx="6664320" cy="6454800"/>
            </a:xfrm>
          </p:grpSpPr>
          <p:grpSp>
            <p:nvGrpSpPr>
              <p:cNvPr id="190" name=""/>
              <p:cNvGrpSpPr/>
              <p:nvPr/>
            </p:nvGrpSpPr>
            <p:grpSpPr>
              <a:xfrm>
                <a:off x="1239840" y="-6120"/>
                <a:ext cx="1898640" cy="639720"/>
                <a:chOff x="1239840" y="-6120"/>
                <a:chExt cx="1898640" cy="63972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1284120" y="-6120"/>
                  <a:ext cx="18100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mbr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1239840" y="-6120"/>
                  <a:ext cx="1898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3138480" y="-6120"/>
                <a:ext cx="2965320" cy="639720"/>
                <a:chOff x="3138480" y="-6120"/>
                <a:chExt cx="2965320" cy="63972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3183120" y="-6120"/>
                  <a:ext cx="28764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3138480" y="-6120"/>
                  <a:ext cx="29653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6103800" y="-6120"/>
                <a:ext cx="1800360" cy="639720"/>
                <a:chOff x="6103800" y="-6120"/>
                <a:chExt cx="1800360" cy="63972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6148440" y="-6120"/>
                  <a:ext cx="17114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6103800" y="-6120"/>
                  <a:ext cx="18003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1239840" y="633600"/>
                <a:ext cx="6434280" cy="1704960"/>
                <a:chOff x="1239840" y="633600"/>
                <a:chExt cx="6434280" cy="1704960"/>
              </a:xfrm>
            </p:grpSpPr>
            <p:grpSp>
              <p:nvGrpSpPr>
                <p:cNvPr id="200" name=""/>
                <p:cNvGrpSpPr/>
                <p:nvPr/>
              </p:nvGrpSpPr>
              <p:grpSpPr>
                <a:xfrm>
                  <a:off x="1284120" y="633600"/>
                  <a:ext cx="6345360" cy="1509480"/>
                  <a:chOff x="1284120" y="633600"/>
                  <a:chExt cx="6345360" cy="150948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>
                    <a:off x="1284120" y="633600"/>
                    <a:ext cx="6345360" cy="412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1284120" y="1227600"/>
                    <a:ext cx="6345360" cy="915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900" spc="-1" strike="noStrike">
                        <a:solidFill>
                          <a:srgbClr val="990033"/>
                        </a:solidFill>
                        <a:latin typeface="Times New Roman"/>
                        <a:ea typeface="Times New Roman"/>
                      </a:rPr>
                      <a:t>No adiabático por conducción: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900" spc="-1" strike="noStrike">
                        <a:solidFill>
                          <a:srgbClr val="990033"/>
                        </a:solidFill>
                        <a:latin typeface="Times New Roman"/>
                        <a:ea typeface="Times New Roman"/>
                      </a:rPr>
                      <a:t>Método indirecto por conducción a través de paredes metálicas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1239840" y="633600"/>
                  <a:ext cx="6434280" cy="170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1239840" y="2338560"/>
                <a:ext cx="1897200" cy="1917720"/>
                <a:chOff x="1239840" y="2338560"/>
                <a:chExt cx="1897200" cy="191772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1284120" y="2338560"/>
                  <a:ext cx="1808280" cy="19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iofilizador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239840" y="2338560"/>
                  <a:ext cx="1897200" cy="19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3137040" y="2338560"/>
                <a:ext cx="2968560" cy="1917720"/>
                <a:chOff x="3137040" y="2338560"/>
                <a:chExt cx="2968560" cy="191772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181320" y="2338560"/>
                  <a:ext cx="2879640" cy="19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Poductos muy lábiles, frágiles o muy soluble. Cuenta con varias etapas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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tapa de Filtrado, concentración 5-25% p/v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gelado de la solu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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shidratación por calentamiento </a:t>
                  </a:r>
                  <a:r>
                    <a:rPr b="1" lang="es-ES_tradnl" sz="12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Times New Roman"/>
                    </a:rPr>
                    <a:t>al vacío,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el agua siempre se encuentra en forma sólida y su pérdida es sólo por sublimación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137040" y="2338560"/>
                  <a:ext cx="2968560" cy="19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6105600" y="2338560"/>
                <a:ext cx="1798560" cy="1917720"/>
                <a:chOff x="6105600" y="2338560"/>
                <a:chExt cx="1798560" cy="191772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6149880" y="2338560"/>
                  <a:ext cx="1710000" cy="19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nzim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rmon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teínas terapéu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105600" y="2338560"/>
                  <a:ext cx="1798560" cy="19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1239840" y="4256280"/>
                <a:ext cx="1897200" cy="1187640"/>
                <a:chOff x="1239840" y="4256280"/>
                <a:chExt cx="1897200" cy="118764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1284120" y="4256280"/>
                  <a:ext cx="180828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stufa al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1239840" y="4256280"/>
                  <a:ext cx="189720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3137040" y="4256280"/>
                <a:ext cx="2968560" cy="1187640"/>
                <a:chOff x="3137040" y="4256280"/>
                <a:chExt cx="2968560" cy="118764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3181320" y="4256280"/>
                  <a:ext cx="287964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jo Nivel de produc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lto valor del produc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lábi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plicación de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137040" y="4256280"/>
                  <a:ext cx="296856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6105600" y="4256280"/>
                <a:ext cx="1798560" cy="1187640"/>
                <a:chOff x="6105600" y="4256280"/>
                <a:chExt cx="1798560" cy="118764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6149880" y="4256280"/>
                  <a:ext cx="171000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6105600" y="4256280"/>
                  <a:ext cx="179856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1239840" y="5443920"/>
                <a:ext cx="1897200" cy="1004760"/>
                <a:chOff x="1239840" y="5443920"/>
                <a:chExt cx="1897200" cy="100476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1284120" y="5443920"/>
                  <a:ext cx="180828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istemas Rotatori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1239840" y="5443920"/>
                  <a:ext cx="189720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3137040" y="5443920"/>
                <a:ext cx="2968560" cy="1004760"/>
                <a:chOff x="3137040" y="5443920"/>
                <a:chExt cx="2968560" cy="100476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3181320" y="5443920"/>
                  <a:ext cx="287964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stufa giratoria a la cual se le aplica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137040" y="5443920"/>
                  <a:ext cx="296856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6105600" y="5443920"/>
                <a:ext cx="1798560" cy="1004760"/>
                <a:chOff x="6105600" y="5443920"/>
                <a:chExt cx="1798560" cy="100476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6149880" y="5443920"/>
                  <a:ext cx="171000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105600" y="5443920"/>
                  <a:ext cx="179856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1" name=""/>
            <p:cNvSpPr/>
            <p:nvPr/>
          </p:nvSpPr>
          <p:spPr>
            <a:xfrm>
              <a:off x="1235160" y="-11160"/>
              <a:ext cx="6673680" cy="64641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36232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6240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228600" y="609480"/>
          <a:ext cx="2860560" cy="32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09480"/>
                    <a:ext cx="286056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6496200" y="4726080"/>
            <a:ext cx="2468520" cy="19429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4"/>
          <a:stretch/>
        </p:blipFill>
        <p:spPr>
          <a:xfrm>
            <a:off x="2347920" y="1125360"/>
            <a:ext cx="4448160" cy="39625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46060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36240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7470720" cy="33181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246400" y="1052640"/>
            <a:ext cx="383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99"/>
                </a:solidFill>
                <a:uFillTx/>
                <a:latin typeface="Times New Roman"/>
              </a:rPr>
              <a:t>Secadores rotatorios a vac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46060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36240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4648320" y="1676520"/>
          <a:ext cx="2438280" cy="20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76520"/>
                    <a:ext cx="2438280" cy="20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1143000" y="1676520"/>
          <a:ext cx="3124080" cy="230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676520"/>
                    <a:ext cx="3124080" cy="23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3615840" y="1001880"/>
            <a:ext cx="189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iofiliz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1600200"/>
            <a:ext cx="19047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stema de refrig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0880" y="3352680"/>
            <a:ext cx="1905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c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0" y="2362320"/>
            <a:ext cx="19051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ción Conge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705720" y="3505320"/>
            <a:ext cx="19047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lacas calefacto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 flipV="1">
            <a:off x="6248160" y="3352320"/>
            <a:ext cx="53316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6400440" y="2666880"/>
            <a:ext cx="685800" cy="304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5"/>
          <a:stretch/>
        </p:blipFill>
        <p:spPr>
          <a:xfrm>
            <a:off x="2286000" y="3843360"/>
            <a:ext cx="4068720" cy="3014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Técnicas de Refinamiento Final o  Acab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Obje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Incrementar la pureza 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 algn="just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liminar principalmente sales y agua, muy pocas proteínas (no purifica significativamen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Facilitar su mane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 algn="just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s más fácil transportar un sólido que soluciones líqu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 algn="just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as proteínas en estado sólido son más estab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Mejora la apa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as principales técnicas aplicadas para estas etapas de Acabado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     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ristaliz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     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Crista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siste en la  separación de un soluto desde una solución </a:t>
            </a:r>
            <a:r>
              <a:rPr b="1" lang="es-ES_tradnl" sz="2000" spc="-1" strike="noStrike" u="sng">
                <a:solidFill>
                  <a:srgbClr val="990033"/>
                </a:solidFill>
                <a:uFillTx/>
                <a:latin typeface="Comic Sans MS"/>
                <a:ea typeface="Times New Roman"/>
              </a:rPr>
              <a:t>sobresaturada, 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mediante la formación de cristales en el seno de la solución. La idea es que se formen los cristales y luego crezc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Uso Princip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ducción de: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Antibió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Ácidos orgán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ductos terapéuticos, proteí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Ventaj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n una sola etapa se logran purezas superiores al 99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 puede controlar el tamaño de los cristales con tamaño uniforme, por medio de control de las condiciones de oper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a cristalización mejora la apariencia del producto come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 puede trabajar a temperatura moderada</a:t>
            </a:r>
            <a:r>
              <a:rPr b="1" lang="es-E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3733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Proceso de Crist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l proceso global de cristalización involucra a lo menos 3 etap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ristalización : Esta etapa es controlada por la solubilidad que presenta tanto las proteínas como impurezas a diferentes temperatur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xiste una relación del tip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 = A +B*T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 : Solu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T : Tempera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paración sólido-liquido: adicionalmente se realiza un lavado de los cristales para eliminar impurezas solu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cado: etapa donde se elimina el remanente de agua.</a:t>
            </a:r>
            <a:r>
              <a:rPr b="1" lang="es-E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304920" y="1828800"/>
            <a:ext cx="7848360" cy="3733560"/>
            <a:chOff x="304920" y="1828800"/>
            <a:chExt cx="7848360" cy="3733560"/>
          </a:xfrm>
        </p:grpSpPr>
        <p:sp>
          <p:nvSpPr>
            <p:cNvPr id="52" name=""/>
            <p:cNvSpPr/>
            <p:nvPr/>
          </p:nvSpPr>
          <p:spPr>
            <a:xfrm>
              <a:off x="1394640" y="3136680"/>
              <a:ext cx="1416960" cy="93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ristaliz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66080" y="3136680"/>
              <a:ext cx="1416960" cy="93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eparad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ólido-Líqui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37160" y="3136680"/>
              <a:ext cx="1416960" cy="93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ecad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83040" y="3510720"/>
              <a:ext cx="653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1800" y="3510720"/>
              <a:ext cx="7628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19840" y="2202480"/>
              <a:ext cx="0" cy="934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119840" y="4071240"/>
              <a:ext cx="0" cy="934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4920" y="1828800"/>
              <a:ext cx="1089720" cy="130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liment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u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ven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purez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029760" y="2015640"/>
              <a:ext cx="871920" cy="93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vente de lava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484720" y="4254480"/>
              <a:ext cx="1362240" cy="130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vent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uto disuel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purez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954120" y="3510720"/>
              <a:ext cx="653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664880" y="2389320"/>
              <a:ext cx="1526040" cy="56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ólido Húme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627240" y="2389320"/>
              <a:ext cx="1526040" cy="56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ducto Se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989280" y="457200"/>
            <a:ext cx="7040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Diagrama del Proceso de Crist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43280" y="3500280"/>
            <a:ext cx="576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442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Modos de Ope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ependiendo de la relación entre la solubilidad y la temperatura se pueden presentar diferentes modos de operación para llevar a cabo la cristalización. Esto se debe a que las curvas de solubilidad permit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eterminar si el sólido que cristaliza sólo contiene el soluto de inter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leccionar el solv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stablecer el rango de temperatura y presión de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ocer las concentraciones del líquido de salida del cristaliz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eterminar la recuperación máx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5T02:16:40Z</dcterms:created>
  <dc:creator>Maria Elena Lienqueo C.</dc:creator>
  <dc:description/>
  <dc:language>en-US</dc:language>
  <cp:lastModifiedBy>Maria Elena Lienqueo C.</cp:lastModifiedBy>
  <dcterms:modified xsi:type="dcterms:W3CDTF">2004-10-25T02:16:49Z</dcterms:modified>
  <cp:revision>1</cp:revision>
  <dc:subject/>
  <dc:title>Operaciones de Refinamiento Final</dc:title>
</cp:coreProperties>
</file>