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ED1-2C93-4595-9EC8-EC8C9E63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A756-2908-4B6E-A568-DC557688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7B86-697D-4C91-942E-1D764C83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350-D3BE-481D-9939-1839C338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649-9545-49DC-B351-6081654E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1A0-FCE6-4148-9870-CC9FBE92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B7B-D1DD-4453-BBCF-16D0EA9C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EE0-44D9-41DE-8D01-E60B90AB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372D-F88C-4204-A750-80246DCD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D65-A735-4367-8726-80CB35F5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679-B546-4A41-BE8C-BD04D151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485A-8196-4623-A01E-111B0494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4DC7-ACD9-4ACB-B2BF-2180C8880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609480"/>
            <a:ext cx="769608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omic Sans MS"/>
              </a:rPr>
              <a:t>Modelos para predecir los perfiles cromatográ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457200"/>
            <a:ext cx="533376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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: graficando ([t/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-1]</a:t>
            </a:r>
            <a:r>
              <a:rPr b="0" lang="es-ES_tradnl" sz="20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)/-2</a:t>
            </a:r>
            <a:r>
              <a:rPr b="0" lang="es-ES_tradnl" sz="20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versus  ln(y/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867280" y="914400"/>
                <a:ext cx="285768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4" name=""/>
          <p:cNvGraphicFramePr/>
          <p:nvPr/>
        </p:nvGraphicFramePr>
        <p:xfrm>
          <a:off x="1066680" y="3276720"/>
          <a:ext cx="541044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541044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28600"/>
            <a:ext cx="8226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108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533520" y="3124080"/>
            <a:ext cx="8610480" cy="3738600"/>
            <a:chOff x="533520" y="3124080"/>
            <a:chExt cx="8610480" cy="3738600"/>
          </a:xfrm>
        </p:grpSpPr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609480" y="510552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" name=""/>
            <p:cNvSpPr/>
            <p:nvPr/>
          </p:nvSpPr>
          <p:spPr>
            <a:xfrm>
              <a:off x="4038480" y="4979880"/>
              <a:ext cx="510552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Las constantes A, B y C incluyen los efectos de transferencia de material líquido sólido, la dispersión axial hacia delante y atrás y la distribución no lineal del líquido  a través del rellen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520" y="312408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58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60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umen o tiempo necesario para transportar al soluto a través de una columna hasta que sale su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876920" y="2133720"/>
          <a:ext cx="352404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133720"/>
                    <a:ext cx="352404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380880" y="4114800"/>
            <a:ext cx="8458200" cy="2422080"/>
            <a:chOff x="380880" y="4114800"/>
            <a:chExt cx="8458200" cy="2422080"/>
          </a:xfrm>
        </p:grpSpPr>
        <p:sp>
          <p:nvSpPr>
            <p:cNvPr id="166" name=""/>
            <p:cNvSpPr/>
            <p:nvPr/>
          </p:nvSpPr>
          <p:spPr>
            <a:xfrm>
              <a:off x="380880" y="4114800"/>
              <a:ext cx="4419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 u="sng">
                  <a:solidFill>
                    <a:srgbClr val="3333cc"/>
                  </a:solidFill>
                  <a:uFillTx/>
                  <a:latin typeface="Comic Sans MS"/>
                  <a:ea typeface="Times New Roman"/>
                </a:rPr>
                <a:t>2.Factor de Capac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447920" y="4788000"/>
                  <a:ext cx="17348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3505320" y="5486400"/>
              <a:ext cx="5333760" cy="10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V</a:t>
              </a:r>
              <a:r>
                <a:rPr b="0" lang="es-CL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H</a:t>
              </a: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: Volumen de huecos, ie, el volumen de líquido existente en la columna que no se encuentra en el interior de las partícu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73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09480" y="3581280"/>
                <a:ext cx="809172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de Tablas de Integ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572000" y="320040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33520" y="1752480"/>
            <a:ext cx="8610480" cy="1685880"/>
            <a:chOff x="533520" y="1752480"/>
            <a:chExt cx="8610480" cy="168588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4572000" y="1752480"/>
                  <a:ext cx="4572000" cy="16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ield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533520" y="2209680"/>
              <a:ext cx="8076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 t</a:t>
              </a:r>
              <a:r>
                <a:rPr b="0" lang="es-CL" sz="2000" spc="-1" strike="noStrike" baseline="-25000">
                  <a:solidFill>
                    <a:srgbClr val="3333cc"/>
                  </a:solidFill>
                  <a:latin typeface="Comic Sans MS"/>
                  <a:ea typeface="Times New Roman"/>
                </a:rPr>
                <a:t>1</a:t>
              </a: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7" name=""/>
          <p:cNvGraphicFramePr/>
          <p:nvPr/>
        </p:nvGraphicFramePr>
        <p:xfrm>
          <a:off x="533520" y="2971800"/>
          <a:ext cx="47242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47242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ía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94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1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80880" y="380988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36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8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cc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42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43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5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51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0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5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7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8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533520" y="457200"/>
            <a:ext cx="42670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724280" y="914400"/>
          <a:ext cx="44197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914400"/>
                    <a:ext cx="44197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57200" y="3657600"/>
            <a:ext cx="39625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533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Ana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67280" y="2286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05520" y="41911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o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o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33520" y="0"/>
            <a:ext cx="80769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t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= Vo 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) Vc/F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Vc/F = L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 = (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457200"/>
            <a:ext cx="80769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tiempo de retención del peak, to, es 93 minutos y la desviación estándar, s, es de 0,129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cc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304920" y="1371600"/>
          <a:ext cx="8458200" cy="5497560"/>
        </p:xfrm>
        <a:graphic>
          <a:graphicData uri="http://schemas.openxmlformats.org/drawingml/2006/table">
            <a:tbl>
              <a:tblPr/>
              <a:tblGrid>
                <a:gridCol w="1447560"/>
                <a:gridCol w="666720"/>
                <a:gridCol w="1057320"/>
                <a:gridCol w="1057320"/>
                <a:gridCol w="974880"/>
                <a:gridCol w="1139760"/>
                <a:gridCol w="1057320"/>
                <a:gridCol w="1057320"/>
              </a:tblGrid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76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78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600200" y="2362320"/>
                <a:ext cx="488160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752480" y="4648320"/>
                <a:ext cx="396252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Maria Elena Lienqueo C.</cp:lastModifiedBy>
  <dcterms:modified xsi:type="dcterms:W3CDTF">2004-09-24T10:55:04Z</dcterms:modified>
  <cp:revision>164</cp:revision>
  <dc:subject/>
  <dc:title>Separación Sólido-Líquido</dc:title>
</cp:coreProperties>
</file>