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C25-D1F3-4331-BAF6-4783B414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DCA-D8B4-436E-A2A5-F241073B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F73-8BBB-4718-9887-D957F6E4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D03-7E62-404E-9CB0-2FA39370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8DE-6213-4F65-BF23-B3EFAC2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1DA-C65B-4FA4-B3DB-97826A7E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C0B-C853-42A0-90F0-B221A63D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806-8CE4-4EB3-8844-F96254B2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290-D7C0-432C-805B-A7A19EF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930-0738-4B47-95F6-348FE8EB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74A-DC8A-4317-83AA-E94F28B3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1D5-00E4-42D6-9392-F305484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B48-13A5-4E11-A51E-F97AFFF83F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90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5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7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8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1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7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1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2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8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286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9-22T10:59:58Z</dcterms:modified>
  <cp:revision>116</cp:revision>
  <dc:subject/>
  <dc:title>Separación Sólido-Líquido</dc:title>
</cp:coreProperties>
</file>