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7BC-ADE5-4238-AC9E-A1AA206F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AF7-537E-4A23-BDD1-674F3DA3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F9E-74D0-46CC-8B28-5863A986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FEC-6892-4601-82D9-0A4D30D3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B31-8E16-424F-A06E-A65A0B8C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646-BC76-4EE4-844B-F77DEB8D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94D-6F2D-4001-B7FF-1CDFE11E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FA3-BF35-434A-B5CC-554E956C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F84-56A7-400D-9E75-AEA8E50B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DD8-4C65-4BEC-8270-AC10167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919-C3A9-4EE5-8DA9-45DCC37A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77B-63C8-4847-BAB6-EFD11DF0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BB48-3B8C-4415-A85A-2B632E0F0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7:17:19Z</dcterms:created>
  <dc:creator>li</dc:creator>
  <dc:description/>
  <dc:language>en-US</dc:language>
  <cp:lastModifiedBy>Maria Elena Lienqueo C.</cp:lastModifiedBy>
  <dcterms:modified xsi:type="dcterms:W3CDTF">2002-08-30T23:03:35Z</dcterms:modified>
  <cp:revision>11</cp:revision>
  <dc:subject/>
  <dc:title>Tratamiento de desechos celulares</dc:title>
</cp:coreProperties>
</file>