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EE6-0FFE-41F6-8F5F-2F4D6A48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A42-99FE-4435-9BEC-24373B47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648-FF80-456F-B9B7-5CEB6E1B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855-224F-4F7E-8789-C3346B7E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BCA-35A3-4F53-9479-E6CF61CE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CB2-1A0D-4A5F-B312-4D872607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9DD-8D3C-4EAD-8D42-EAF21B0D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8019-65DF-44FC-B8DF-4F73ED31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84C-7AB8-499A-A119-B4B25BC3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1BA-154E-4A5F-8FEF-871CD524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1F3-230E-4F44-A001-4EC74A26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BAE-B84A-42CF-9289-431C9CAC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B69D-3655-4957-A47F-189239E29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Tratamiento de desech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80880"/>
            <a:ext cx="297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proteína  40  a 50 % del total de polipéptidos que forman estas agreg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es de de separar de otros desechos celulares y componentes solubles de la célula por medio de centrifugación mode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091040" y="228600"/>
          <a:ext cx="505296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1040" y="228600"/>
                    <a:ext cx="505296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33520"/>
            <a:ext cx="83059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ost tratamiento (Renatu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los cuerpos in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tamiento con  Hidrocloruro de guanidina (GdmC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s proteínas contienen cisteína se debe agregar un agente reductor como D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proteína contiene enlaces disulfuro el DTT debe ser eliminado por medio de di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olding (Re-enrol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do de proteínas deben ser diluidas a una concentración muy bajas (5 - 20 mg/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icionar buffer fosfato con una solución de glutathione reducido y glutathione oxid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Separación de desechos celulares</a:t>
            </a: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Clarificación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amaño de los desechos celulare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debris)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Viscosidad del extra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9520" y="472428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Esta etapa resulta ser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de las etapas más difíciles y costo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 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8288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entrifug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icro o Ultrafil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Extracción en dos fases acuosa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utilizando un sistema de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olietilenglicol (PEG) -dext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Adsorción en lechos expandido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Expanded bed adsorp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Tipos de dese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2860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rote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rozo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Organelos celul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uerpos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05740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bajar a bajas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justar el pH quí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0574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l DNA aumenta la viscosidad del extracto, por otra parte si el producto es de uso terapéutico e inyectable todos los ácidos nucleicos deben ser removi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s alternativ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recipitar el DNA formando agregados con macromoléculas policationicas, tales como sulfato de prota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Utilizar DNA-asa para reducir la viscosidad, pero se deber en cuenta que al agregar productos al extracto se dificultan las etapas siguientes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Trozo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0574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Los trozos de membrana se pueden separar utilizado las operaciones de separación sólido-líquido ya mencionadas como son microfiltración, centrifugación o extracción líquido-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Organel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057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ara cada organelo, ya se sea mitocondria, cloroplasto, núcleo, etc. existen procedimientos especí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ris and Angel (1989) “ Protein purification methods: a practical approach”, IRL Press, pp 97-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cesamiento de proteínas agregadas </a:t>
            </a:r>
            <a:br>
              <a:rPr sz="2800"/>
            </a:b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Inclusion bod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371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modificadas genéticamente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roteínas recombinante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uerpos inc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n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solu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ción beneficiosa: Agregaciones no son degradadas significativamente por proteasas, ya que los sitios sensible a la actividad de proteasas se encuentran inaccesi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867280" y="2514600"/>
          <a:ext cx="25718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5718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7:17:19Z</dcterms:created>
  <dc:creator>li</dc:creator>
  <dc:description/>
  <dc:language>en-US</dc:language>
  <cp:lastModifiedBy>Maria Elena Lienqueo C.</cp:lastModifiedBy>
  <dcterms:modified xsi:type="dcterms:W3CDTF">2002-08-30T23:03:35Z</dcterms:modified>
  <cp:revision>11</cp:revision>
  <dc:subject/>
  <dc:title>Tratamiento de desechos celulares</dc:title>
</cp:coreProperties>
</file>