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90A-FC0C-4509-ADE4-050CC0AA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F9B-CB6E-46FD-81B2-4D11E7EB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FF6-9F1C-4760-B18F-2E5ABCD8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35E-2D8C-423D-8509-92893667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3C4-CDCC-4200-A859-99C3E3B2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399-C24A-48F7-AF61-08C252C2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CD7-3F34-4FE8-8EE1-74257509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E26-E282-416C-91C6-CC22F4E4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7CA-5A4A-4DDF-9AE6-6D2456A0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67C-B4D8-4984-B254-7A9FEA9C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63C-41CA-4104-B4B7-27D821A8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39C-EFBD-4D80-A100-B934D3C2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26EC-6C42-48D0-973F-C07844C2F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art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447920" y="1989000"/>
          <a:ext cx="7315200" cy="46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9000"/>
                    <a:ext cx="7315200" cy="46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04920" y="304920"/>
            <a:ext cx="73152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Concentración de Proteínas, Cp</a:t>
            </a:r>
            <a:r>
              <a:rPr b="1" lang="es-ES_tradnl" sz="2000" spc="-1" strike="noStrike" u="sng" baseline="-25000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p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86868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Velocidades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,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U) : En cierta forma se está formando un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133720"/>
          <a:ext cx="792504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925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57200"/>
            <a:ext cx="8229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Para la región 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lt;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Se puede considerar que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,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hay control por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J depende de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, pero los aumentos producen un aumento e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alcanzándose un máx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2438280"/>
          <a:ext cx="670572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67057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19320" y="266688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457200"/>
            <a:ext cx="82296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Para la región I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gt;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No hay efectos por la diferencia de presión hay un cambio en el control, ahora 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Los incrementos en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 sólo aumenta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, en esta zona sólo hay una dependencia con la velocidad de los flujos cruzados y la concentración de proteí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52480" y="3051000"/>
          <a:ext cx="6477120" cy="38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51000"/>
                    <a:ext cx="647712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800600" y="297180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 para la determinación de una expresión para el Flujo de permeado,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0"/>
            <a:ext cx="8229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 –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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Flux de Perme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676520" y="4724280"/>
                <a:ext cx="1512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6483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47920"/>
            <a:ext cx="54100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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ión osmótica, En el caso de macromoléculas en solución y dispersiones coloidales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proteínas y células)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muy 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rechazo del soluto por la membra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181480" y="1981080"/>
            <a:ext cx="3695760" cy="4515480"/>
            <a:chOff x="5181480" y="1981080"/>
            <a:chExt cx="3695760" cy="4515480"/>
          </a:xfrm>
        </p:grpSpPr>
        <p:grpSp>
          <p:nvGrpSpPr>
            <p:cNvPr id="115" name=""/>
            <p:cNvGrpSpPr/>
            <p:nvPr/>
          </p:nvGrpSpPr>
          <p:grpSpPr>
            <a:xfrm>
              <a:off x="5181480" y="2133720"/>
              <a:ext cx="3695760" cy="4362840"/>
              <a:chOff x="5181480" y="2133720"/>
              <a:chExt cx="3695760" cy="4362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181480" y="4648320"/>
                <a:ext cx="3695760" cy="18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B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en el seno de la solución a la cual se desea llegar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P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perme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6629400" y="2133720"/>
                <a:ext cx="1980720" cy="1828800"/>
                <a:chOff x="6629400" y="2133720"/>
                <a:chExt cx="1980720" cy="18288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543440" y="2133720"/>
                  <a:ext cx="152280" cy="1828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629400" y="2895840"/>
                  <a:ext cx="761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62940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07696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2" name=""/>
            <p:cNvSpPr/>
            <p:nvPr/>
          </p:nvSpPr>
          <p:spPr>
            <a:xfrm>
              <a:off x="7772400" y="2895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0100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09480" y="57913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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tención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0 Retención N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Modelo de polarización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un fenómeno de polarización en la capa límite próxima a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erfiles se ven modificados sólo por cambios en 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038480" y="2362320"/>
            <a:ext cx="457200" cy="121896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676520" y="1860480"/>
          <a:ext cx="56196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60480"/>
                    <a:ext cx="56196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934320" y="28954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41911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579132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95288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914400"/>
            <a:ext cx="784872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Balance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de soluto a la interfas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08160" y="838080"/>
                <a:ext cx="58626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C     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J</m:t>
                        </m:r>
                      </m:e>
                      <m:sup/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762120" y="1981080"/>
            <a:ext cx="6858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n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nsideraciones de bor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0 C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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 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Integr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00400" y="5029200"/>
                <a:ext cx="29574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3049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de soluto a  la interf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8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2286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 hay un coeficiente  rechazo total 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=1 entonces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s-ES" sz="24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905120" y="838080"/>
                <a:ext cx="38210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685800" y="198108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es el coeficiente de transferencia de masa, el cual se determina por medio de correlaciones o experiment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00200" y="2971800"/>
            <a:ext cx="6552720" cy="3582720"/>
            <a:chOff x="1600200" y="2971800"/>
            <a:chExt cx="6552720" cy="3582720"/>
          </a:xfrm>
        </p:grpSpPr>
        <p:grpSp>
          <p:nvGrpSpPr>
            <p:cNvPr id="145" name=""/>
            <p:cNvGrpSpPr/>
            <p:nvPr/>
          </p:nvGrpSpPr>
          <p:grpSpPr>
            <a:xfrm>
              <a:off x="1600200" y="2971800"/>
              <a:ext cx="6552720" cy="3582720"/>
              <a:chOff x="1600200" y="2971800"/>
              <a:chExt cx="6552720" cy="3582720"/>
            </a:xfrm>
          </p:grpSpPr>
          <p:graphicFrame>
            <p:nvGraphicFramePr>
              <p:cNvPr id="146" name=""/>
              <p:cNvGraphicFramePr/>
              <p:nvPr/>
            </p:nvGraphicFramePr>
            <p:xfrm>
              <a:off x="1600200" y="2971800"/>
              <a:ext cx="6552720" cy="35827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4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00200" y="2971800"/>
                        <a:ext cx="6552720" cy="358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8" name=""/>
              <p:cNvSpPr/>
              <p:nvPr/>
            </p:nvSpPr>
            <p:spPr>
              <a:xfrm>
                <a:off x="4840920" y="4359960"/>
                <a:ext cx="0" cy="51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40920" y="4871880"/>
                <a:ext cx="84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5223240" y="3508920"/>
              <a:ext cx="25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ferentes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Gothic"/>
                </a:rPr>
                <a:t>P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0384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457200"/>
            <a:ext cx="8229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ido a las diferentes velocidades de transporte de los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erentes soluto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 produce un gradiente de concentración en la proximidad de la membrana, este efecto se conoce como “Efecto de Polarización”. </a:t>
            </a: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No se trata de formación de to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age2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1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228600"/>
            <a:ext cx="800100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Modelo de polarización en película y capa de 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Sólo en Regió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i se supone que el aumento de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Comic Sans MS"/>
              </a:rPr>
              <a:t>w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 con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TM tiene un límite C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donde se forma la llamada “capa g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048120" y="2590920"/>
                <a:ext cx="2008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71600" y="3808440"/>
            <a:ext cx="6477120" cy="3049560"/>
            <a:chOff x="1371600" y="3808440"/>
            <a:chExt cx="6477120" cy="3049560"/>
          </a:xfrm>
        </p:grpSpPr>
        <p:grpSp>
          <p:nvGrpSpPr>
            <p:cNvPr id="156" name=""/>
            <p:cNvGrpSpPr/>
            <p:nvPr/>
          </p:nvGrpSpPr>
          <p:grpSpPr>
            <a:xfrm>
              <a:off x="1371600" y="3808440"/>
              <a:ext cx="6477120" cy="3049560"/>
              <a:chOff x="1371600" y="3808440"/>
              <a:chExt cx="6477120" cy="3049560"/>
            </a:xfrm>
          </p:grpSpPr>
          <p:graphicFrame>
            <p:nvGraphicFramePr>
              <p:cNvPr id="157" name=""/>
              <p:cNvGraphicFramePr/>
              <p:nvPr/>
            </p:nvGraphicFramePr>
            <p:xfrm>
              <a:off x="1371600" y="3808440"/>
              <a:ext cx="6477120" cy="30495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5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3808440"/>
                        <a:ext cx="6477120" cy="304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9" name=""/>
              <p:cNvSpPr/>
              <p:nvPr/>
            </p:nvSpPr>
            <p:spPr>
              <a:xfrm>
                <a:off x="4574880" y="4989960"/>
                <a:ext cx="0" cy="43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74880" y="542556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6019920" y="5789520"/>
              <a:ext cx="609480" cy="228600"/>
            </a:xfrm>
            <a:prstGeom prst="line">
              <a:avLst/>
            </a:prstGeom>
            <a:ln w="572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609444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50021"/>
                  </a:solidFill>
                  <a:latin typeface="Times New Roman"/>
                </a:rPr>
                <a:t>Ln C</a:t>
              </a:r>
              <a:r>
                <a:rPr b="1" lang="es-ES" sz="2400" spc="-1" strike="noStrike" baseline="-25000">
                  <a:solidFill>
                    <a:srgbClr val="a50021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38088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 de la capa 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e producen problemas por incrustaciones en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Este efecto es diferente a la polarización de la membr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2590920"/>
          <a:ext cx="883908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8390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5867280" y="3048120"/>
            <a:ext cx="76320" cy="2286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38088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Las incrustaciones disminuyen las porosidad de la membrana necesitándose tratamientos físicos y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Aumen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Disminuyendo la vida útil de los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0"/>
            <a:ext cx="83822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oblema 1  Microfiltración Modelo de la capa de polar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 base a los datos de la siguiente tabla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.- Coeficiente de transferencia de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2.- La concentración de la “capa gel”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a 1 Flux a diferentes condiciones de presión y concentr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09480" y="2590920"/>
            <a:ext cx="8153280" cy="4267080"/>
            <a:chOff x="609480" y="2590920"/>
            <a:chExt cx="8153280" cy="4267080"/>
          </a:xfrm>
        </p:grpSpPr>
        <p:grpSp>
          <p:nvGrpSpPr>
            <p:cNvPr id="170" name=""/>
            <p:cNvGrpSpPr/>
            <p:nvPr/>
          </p:nvGrpSpPr>
          <p:grpSpPr>
            <a:xfrm>
              <a:off x="618480" y="2592720"/>
              <a:ext cx="8133480" cy="4262400"/>
              <a:chOff x="618480" y="2592720"/>
              <a:chExt cx="8133480" cy="42624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618480" y="2592720"/>
                <a:ext cx="2725200" cy="628920"/>
                <a:chOff x="618480" y="2592720"/>
                <a:chExt cx="2725200" cy="6289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05600" y="2592720"/>
                  <a:ext cx="2550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Comic Sans MS"/>
                      <a:ea typeface="Times New Roman"/>
                    </a:rPr>
                    <a:t>PT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18480" y="2592720"/>
                  <a:ext cx="272520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344040" y="2592720"/>
                <a:ext cx="5407920" cy="628920"/>
                <a:chOff x="3344040" y="2592720"/>
                <a:chExt cx="5407920" cy="6289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431880" y="2592720"/>
                  <a:ext cx="523152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Concentración en el seno de la solución C</a:t>
                  </a: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[ % en peso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344040" y="2592720"/>
                  <a:ext cx="540792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18480" y="3221640"/>
                <a:ext cx="2725200" cy="349200"/>
                <a:chOff x="618480" y="3221640"/>
                <a:chExt cx="2725200" cy="3492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05600" y="32216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Kg/cm</a:t>
                  </a:r>
                  <a:r>
                    <a:rPr b="0" lang="es-ES_tradnl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18480" y="32216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344040" y="3221640"/>
                <a:ext cx="1328040" cy="349200"/>
                <a:chOff x="3344040" y="3221640"/>
                <a:chExt cx="1328040" cy="3492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431880" y="32216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344040" y="32216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4672440" y="3221640"/>
                <a:ext cx="1419120" cy="349200"/>
                <a:chOff x="4672440" y="3221640"/>
                <a:chExt cx="1419120" cy="3492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7602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6724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92280" y="3221640"/>
                <a:ext cx="1240200" cy="349200"/>
                <a:chOff x="6092280" y="3221640"/>
                <a:chExt cx="1240200" cy="3492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179400" y="32216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92280" y="32216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332840" y="3221640"/>
                <a:ext cx="1419120" cy="349200"/>
                <a:chOff x="7332840" y="3221640"/>
                <a:chExt cx="1419120" cy="3492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74206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328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18480" y="3570840"/>
                <a:ext cx="2725200" cy="349200"/>
                <a:chOff x="618480" y="3570840"/>
                <a:chExt cx="2725200" cy="3492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705600" y="35708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18480" y="35708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344040" y="3570840"/>
                <a:ext cx="1328040" cy="349200"/>
                <a:chOff x="3344040" y="3570840"/>
                <a:chExt cx="1328040" cy="3492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431880" y="35708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344040" y="35708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4672440" y="3570840"/>
                <a:ext cx="1419120" cy="349200"/>
                <a:chOff x="4672440" y="3570840"/>
                <a:chExt cx="1419120" cy="3492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7602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724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92280" y="3570840"/>
                <a:ext cx="1240200" cy="349200"/>
                <a:chOff x="6092280" y="3570840"/>
                <a:chExt cx="1240200" cy="349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79400" y="35708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92280" y="35708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7332840" y="3570840"/>
                <a:ext cx="1419120" cy="349200"/>
                <a:chOff x="7332840" y="3570840"/>
                <a:chExt cx="1419120" cy="349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4206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3328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18480" y="3920400"/>
                <a:ext cx="2725200" cy="489240"/>
                <a:chOff x="618480" y="3920400"/>
                <a:chExt cx="2725200" cy="4892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05600" y="392040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8480" y="392040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344040" y="3920400"/>
                <a:ext cx="1328040" cy="489240"/>
                <a:chOff x="3344040" y="3920400"/>
                <a:chExt cx="1328040" cy="4892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431880" y="392040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344040" y="392040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672440" y="3920400"/>
                <a:ext cx="1419120" cy="489240"/>
                <a:chOff x="4672440" y="3920400"/>
                <a:chExt cx="1419120" cy="4892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7602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6724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092280" y="3920400"/>
                <a:ext cx="1240200" cy="489240"/>
                <a:chOff x="6092280" y="3920400"/>
                <a:chExt cx="1240200" cy="4892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179400" y="392040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092280" y="392040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332840" y="3920400"/>
                <a:ext cx="1419120" cy="489240"/>
                <a:chOff x="7332840" y="3920400"/>
                <a:chExt cx="1419120" cy="4892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4206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3328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8480" y="4409640"/>
                <a:ext cx="2725200" cy="488880"/>
                <a:chOff x="618480" y="4409640"/>
                <a:chExt cx="2725200" cy="4888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05600" y="44096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8480" y="44096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344040" y="4409640"/>
                <a:ext cx="1328040" cy="488880"/>
                <a:chOff x="3344040" y="4409640"/>
                <a:chExt cx="1328040" cy="4888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431880" y="44096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344040" y="44096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672440" y="4409640"/>
                <a:ext cx="1419120" cy="488880"/>
                <a:chOff x="4672440" y="4409640"/>
                <a:chExt cx="1419120" cy="4888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7602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724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092280" y="4409640"/>
                <a:ext cx="1240200" cy="488880"/>
                <a:chOff x="6092280" y="4409640"/>
                <a:chExt cx="1240200" cy="4888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79400" y="44096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,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092280" y="44096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7332840" y="4409640"/>
                <a:ext cx="1419120" cy="488880"/>
                <a:chOff x="7332840" y="4409640"/>
                <a:chExt cx="1419120" cy="4888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74206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3328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618480" y="4898880"/>
                <a:ext cx="2725200" cy="488880"/>
                <a:chOff x="618480" y="4898880"/>
                <a:chExt cx="2725200" cy="4888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05600" y="489888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18480" y="489888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3344040" y="4898880"/>
                <a:ext cx="1328040" cy="488880"/>
                <a:chOff x="3344040" y="4898880"/>
                <a:chExt cx="1328040" cy="4888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3431880" y="489888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344040" y="489888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4672440" y="4898880"/>
                <a:ext cx="1419120" cy="488880"/>
                <a:chOff x="4672440" y="4898880"/>
                <a:chExt cx="1419120" cy="4888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7602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724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092280" y="4898880"/>
                <a:ext cx="1240200" cy="488880"/>
                <a:chOff x="6092280" y="4898880"/>
                <a:chExt cx="1240200" cy="48888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179400" y="489888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092280" y="489888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332840" y="4898880"/>
                <a:ext cx="1419120" cy="488880"/>
                <a:chOff x="7332840" y="4898880"/>
                <a:chExt cx="1419120" cy="4888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4206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3328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18480" y="5387760"/>
                <a:ext cx="2725200" cy="489240"/>
                <a:chOff x="618480" y="5387760"/>
                <a:chExt cx="2725200" cy="4892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05600" y="538776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18480" y="538776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344040" y="5387760"/>
                <a:ext cx="1328040" cy="489240"/>
                <a:chOff x="3344040" y="5387760"/>
                <a:chExt cx="1328040" cy="4892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3431880" y="538776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344040" y="538776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672440" y="5387760"/>
                <a:ext cx="1419120" cy="489240"/>
                <a:chOff x="4672440" y="5387760"/>
                <a:chExt cx="1419120" cy="489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7602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6724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92280" y="5387760"/>
                <a:ext cx="1240200" cy="489240"/>
                <a:chOff x="6092280" y="5387760"/>
                <a:chExt cx="1240200" cy="489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79400" y="538776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2280" y="538776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7332840" y="5387760"/>
                <a:ext cx="1419120" cy="489240"/>
                <a:chOff x="7332840" y="5387760"/>
                <a:chExt cx="1419120" cy="4892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4206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3328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18480" y="5877360"/>
                <a:ext cx="2725200" cy="488880"/>
                <a:chOff x="618480" y="5877360"/>
                <a:chExt cx="2725200" cy="488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05600" y="587736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18480" y="587736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344040" y="5877360"/>
                <a:ext cx="1328040" cy="488880"/>
                <a:chOff x="3344040" y="5877360"/>
                <a:chExt cx="1328040" cy="4888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431880" y="587736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344040" y="587736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672440" y="5877360"/>
                <a:ext cx="1419120" cy="488880"/>
                <a:chOff x="4672440" y="5877360"/>
                <a:chExt cx="1419120" cy="4888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7602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6724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092280" y="5877360"/>
                <a:ext cx="1240200" cy="488880"/>
                <a:chOff x="6092280" y="5877360"/>
                <a:chExt cx="1240200" cy="4888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179400" y="587736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092280" y="587736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332840" y="5877360"/>
                <a:ext cx="1419120" cy="488880"/>
                <a:chOff x="7332840" y="5877360"/>
                <a:chExt cx="1419120" cy="4888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4206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3328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18480" y="6366240"/>
                <a:ext cx="2725200" cy="488880"/>
                <a:chOff x="618480" y="6366240"/>
                <a:chExt cx="2725200" cy="4888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600" y="63662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2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18480" y="63662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344040" y="6366240"/>
                <a:ext cx="1328040" cy="488880"/>
                <a:chOff x="3344040" y="6366240"/>
                <a:chExt cx="1328040" cy="4888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431880" y="63662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344040" y="63662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672440" y="6366240"/>
                <a:ext cx="1419120" cy="488880"/>
                <a:chOff x="4672440" y="6366240"/>
                <a:chExt cx="1419120" cy="4888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7602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6724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092280" y="6366240"/>
                <a:ext cx="1240200" cy="488880"/>
                <a:chOff x="6092280" y="6366240"/>
                <a:chExt cx="1240200" cy="48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179400" y="63662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092280" y="63662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7332840" y="6366240"/>
                <a:ext cx="1419120" cy="488880"/>
                <a:chOff x="7332840" y="6366240"/>
                <a:chExt cx="1419120" cy="48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4206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3328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7" name=""/>
            <p:cNvSpPr/>
            <p:nvPr/>
          </p:nvSpPr>
          <p:spPr>
            <a:xfrm>
              <a:off x="609480" y="2590920"/>
              <a:ext cx="8153280" cy="4267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0" y="914400"/>
          <a:ext cx="899172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9917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1600200" y="6095880"/>
            <a:ext cx="624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J = -20.22*ln (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30.3) = 20.22* ln (30.3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2286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     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676520" y="1219320"/>
          <a:ext cx="6191280" cy="29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619128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4327560"/>
            <a:ext cx="822960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Inici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manente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eado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-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onst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3733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743200" y="2286000"/>
                <a:ext cx="3348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685800" y="53352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Balance de Masa del Solu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La masa que disminuye del tanque de reciclo es la que aumente en el tanque de perm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200400"/>
            <a:ext cx="87631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l permeado (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 se mantiene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 = t, 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 es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838080" y="4572000"/>
                <a:ext cx="7174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 flipV="1">
            <a:off x="5334120" y="4572000"/>
            <a:ext cx="380880" cy="4572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6104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276720" y="5715000"/>
                <a:ext cx="2757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560680" y="1322280"/>
                <a:ext cx="37130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regla de la cadena al lad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514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orden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743200" y="2971800"/>
                <a:ext cx="3405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42670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386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724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01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305160" y="4059360"/>
                <a:ext cx="227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0" y="5105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112920" y="5369040"/>
                <a:ext cx="2759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o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sup>
                              <m:e/>
                            </m:nary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76960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01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685800" y="533520"/>
            <a:ext cx="7772400" cy="1393560"/>
            <a:chOff x="685800" y="533520"/>
            <a:chExt cx="7772400" cy="1393560"/>
          </a:xfrm>
        </p:grpSpPr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3505320" y="1066680"/>
                  <a:ext cx="17161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31" name=""/>
            <p:cNvSpPr/>
            <p:nvPr/>
          </p:nvSpPr>
          <p:spPr>
            <a:xfrm>
              <a:off x="685800" y="5335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Por otra parte, el flux se puede calcul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777240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0" y="2209680"/>
            <a:ext cx="8763120" cy="1220760"/>
            <a:chOff x="0" y="2209680"/>
            <a:chExt cx="8763120" cy="1220760"/>
          </a:xfrm>
        </p:grpSpPr>
        <p:sp>
          <p:nvSpPr>
            <p:cNvPr id="334" name=""/>
            <p:cNvSpPr/>
            <p:nvPr/>
          </p:nvSpPr>
          <p:spPr>
            <a:xfrm>
              <a:off x="0" y="220968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lux promedio, &lt;J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2012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2819520" y="2514600"/>
                  <a:ext cx="289692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&gt;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7" name=""/>
          <p:cNvGrpSpPr/>
          <p:nvPr/>
        </p:nvGrpSpPr>
        <p:grpSpPr>
          <a:xfrm>
            <a:off x="0" y="3657600"/>
            <a:ext cx="8763120" cy="1436760"/>
            <a:chOff x="0" y="3657600"/>
            <a:chExt cx="8763120" cy="1436760"/>
          </a:xfrm>
        </p:grpSpPr>
        <p:sp>
          <p:nvSpPr>
            <p:cNvPr id="338" name=""/>
            <p:cNvSpPr/>
            <p:nvPr/>
          </p:nvSpPr>
          <p:spPr>
            <a:xfrm>
              <a:off x="7696080" y="4114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3657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Aplicando regla de la cadena a (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2736720" y="4149720"/>
                  <a:ext cx="264348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1" name=""/>
          <p:cNvGrpSpPr/>
          <p:nvPr/>
        </p:nvGrpSpPr>
        <p:grpSpPr>
          <a:xfrm>
            <a:off x="0" y="5105520"/>
            <a:ext cx="8763120" cy="1428480"/>
            <a:chOff x="0" y="5105520"/>
            <a:chExt cx="8763120" cy="1428480"/>
          </a:xfrm>
        </p:grpSpPr>
        <p:sp>
          <p:nvSpPr>
            <p:cNvPr id="342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 la ecuación 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20120" y="56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3054240" y="5562720"/>
                  <a:ext cx="2421000" cy="97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887400" y="976320"/>
                <a:ext cx="70610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o</m:t>
                                        </m:r>
                                      </m:sub>
                                    </m:sSub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sup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C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(10) en 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2320" y="1447920"/>
            <a:ext cx="761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58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0" y="4191120"/>
            <a:ext cx="8763120" cy="2498760"/>
            <a:chOff x="0" y="4191120"/>
            <a:chExt cx="8763120" cy="2498760"/>
          </a:xfrm>
        </p:grpSpPr>
        <p:sp>
          <p:nvSpPr>
            <p:cNvPr id="350" name=""/>
            <p:cNvSpPr/>
            <p:nvPr/>
          </p:nvSpPr>
          <p:spPr>
            <a:xfrm>
              <a:off x="0" y="4191120"/>
              <a:ext cx="87631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Integr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ara  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   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676600" y="5105520"/>
                  <a:ext cx="363204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2" name=""/>
            <p:cNvSpPr/>
            <p:nvPr/>
          </p:nvSpPr>
          <p:spPr>
            <a:xfrm>
              <a:off x="7620120" y="5638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0" y="2514600"/>
            <a:ext cx="9144000" cy="1539720"/>
            <a:chOff x="0" y="2514600"/>
            <a:chExt cx="9144000" cy="1539720"/>
          </a:xfrm>
        </p:grpSpPr>
        <p:sp>
          <p:nvSpPr>
            <p:cNvPr id="354" name=""/>
            <p:cNvSpPr/>
            <p:nvPr/>
          </p:nvSpPr>
          <p:spPr>
            <a:xfrm>
              <a:off x="0" y="2514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1880" y="3200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2579760" y="2529000"/>
                  <a:ext cx="3882960" cy="15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o</m:t>
                                          </m:r>
                                        </m:sub>
                                      </m:sSub>
                                    </m:sub>
                                    <m:sup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B</m:t>
                                          </m:r>
                                        </m:sub>
                                      </m:sSub>
                                    </m:sup>
                                    <m:e>
                                      <m:f>
                                        <m:num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C</m:t>
                                          </m:r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nary>
                                </m:e>
                              </m:d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600200"/>
            <a:ext cx="43434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sminución flux (F/A) de solvente (aumento en la resistenc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ón del soluto con la membrana, provocando incrus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800600" y="1371600"/>
          <a:ext cx="40863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371600"/>
                    <a:ext cx="4086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0" y="49528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Diáli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Disminución gradiente de concentración efectivo, disminuyendo el flux de impurez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8088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, UltraFiltración , Osmasis In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1676520"/>
            <a:ext cx="2514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51055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expresión permitiría determinar el tiempo necesario para alcanzar una determinada concentración, si se conoce A y una expresión del fl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85800" y="533520"/>
            <a:ext cx="8001000" cy="2041560"/>
            <a:chOff x="685800" y="533520"/>
            <a:chExt cx="8001000" cy="2041560"/>
          </a:xfrm>
        </p:grpSpPr>
        <p:sp>
          <p:nvSpPr>
            <p:cNvPr id="359" name=""/>
            <p:cNvSpPr/>
            <p:nvPr/>
          </p:nvSpPr>
          <p:spPr>
            <a:xfrm>
              <a:off x="685800" y="5335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Si el rechazo es total, ie, no se deja pasar nada  del sólido, C</a:t>
              </a:r>
              <a:r>
                <a:rPr b="0" lang="es-ES" sz="2000" spc="-1" strike="noStrike" baseline="-25000">
                  <a:solidFill>
                    <a:srgbClr val="000099"/>
                  </a:solidFill>
                  <a:latin typeface="Comic Sans MS"/>
                </a:rPr>
                <a:t>p</a:t>
              </a: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 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2743200" y="990720"/>
                  <a:ext cx="315432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61" name=""/>
            <p:cNvSpPr/>
            <p:nvPr/>
          </p:nvSpPr>
          <p:spPr>
            <a:xfrm>
              <a:off x="7543800" y="1828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0" y="2666880"/>
            <a:ext cx="8763120" cy="2021040"/>
            <a:chOff x="0" y="2666880"/>
            <a:chExt cx="8763120" cy="2021040"/>
          </a:xfrm>
        </p:grpSpPr>
        <p:sp>
          <p:nvSpPr>
            <p:cNvPr id="363" name=""/>
            <p:cNvSpPr/>
            <p:nvPr/>
          </p:nvSpPr>
          <p:spPr>
            <a:xfrm>
              <a:off x="0" y="2666880"/>
              <a:ext cx="876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alizando un cambio de variables a (1/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2637000" y="3297240"/>
                  <a:ext cx="352080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685800" y="533520"/>
            <a:ext cx="8001000" cy="1326960"/>
            <a:chOff x="685800" y="533520"/>
            <a:chExt cx="8001000" cy="1326960"/>
          </a:xfrm>
        </p:grpSpPr>
        <p:sp>
          <p:nvSpPr>
            <p:cNvPr id="367" name=""/>
            <p:cNvSpPr/>
            <p:nvPr/>
          </p:nvSpPr>
          <p:spPr>
            <a:xfrm>
              <a:off x="685800" y="5335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Recordando 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3352680" y="914400"/>
                  <a:ext cx="188604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9" name=""/>
          <p:cNvGrpSpPr/>
          <p:nvPr/>
        </p:nvGrpSpPr>
        <p:grpSpPr>
          <a:xfrm>
            <a:off x="0" y="2057400"/>
            <a:ext cx="8763120" cy="3447000"/>
            <a:chOff x="0" y="2057400"/>
            <a:chExt cx="8763120" cy="3447000"/>
          </a:xfrm>
        </p:grpSpPr>
        <p:sp>
          <p:nvSpPr>
            <p:cNvPr id="370" name=""/>
            <p:cNvSpPr/>
            <p:nvPr/>
          </p:nvSpPr>
          <p:spPr>
            <a:xfrm>
              <a:off x="0" y="2057400"/>
              <a:ext cx="876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se reemplaza “J” y se realiza la integración se pueden determinar “t” o “A”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Gráfica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508040" y="2790720"/>
                  <a:ext cx="5127840" cy="205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G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den>
                              </m:f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981080" y="1481040"/>
          <a:ext cx="54104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81040"/>
                    <a:ext cx="54104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4952880" y="838080"/>
            <a:ext cx="3886200" cy="1828800"/>
            <a:chOff x="4952880" y="838080"/>
            <a:chExt cx="3886200" cy="1828800"/>
          </a:xfrm>
        </p:grpSpPr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4952880" y="1066680"/>
                  <a:ext cx="35211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78" name=""/>
            <p:cNvSpPr/>
            <p:nvPr/>
          </p:nvSpPr>
          <p:spPr>
            <a:xfrm>
              <a:off x="6172200" y="838080"/>
              <a:ext cx="266688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H="1">
            <a:off x="4419360" y="2743200"/>
            <a:ext cx="2819160" cy="990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457200"/>
            <a:ext cx="861048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emplo1 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oncentrar una solución de proteína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% a 10%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peso. Por cada día de producción se tienen 4 horas de tiempo muerto (limpieza, descarga, etc.), luego el tiempo de operación es de 20 horas por d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alizaron pruebas de laboratorio utilizando una unidad de ultrafiltración de fibra hueca con tubo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0,012 [m] de diámetr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y 1,2 [m] de larg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datos de laboratorio muestran que para una caída de presión (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de 1,5 [Kg/c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 y un flujo de recirculación de 8 [L/min], el flux en [L/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] está dado por la expresión  (C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%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e el área de ultrafiltración necesaria para concentrar los 10 [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día] de la solución de proteínas en el equipo de ultrafiltración de fibra hueca considerando que el flux está dado por la expresión anterio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67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429000" y="4191120"/>
                <a:ext cx="1917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Image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0146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Image5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46748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051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45720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teoría permite predecir el flux (flujo/área transversal) a través de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eoría tiene una aplicación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arámetro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necesaria para lograr un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mp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ango de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lerancia de los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049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uerza impuls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impulsora es un gradiente de presión a través de la membrana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743200" y="1981080"/>
          <a:ext cx="276228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276228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295280" y="243828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2362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30481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514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666880" y="4876920"/>
                <a:ext cx="32292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0948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e gradiente de presión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se calcula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a50021"/>
                </a:solidFill>
                <a:uFillTx/>
                <a:latin typeface="Century Gothic"/>
              </a:rPr>
              <a:t>¿Cómo se mide en el equi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90920" y="1752480"/>
          <a:ext cx="229212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229212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828800" y="403848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980720" y="2209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8862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18288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4038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2895480"/>
            <a:ext cx="2895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J: Flux de 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Si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 = Pi –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 del flujo tang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02080" y="5562720"/>
                <a:ext cx="34938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048120" y="1981080"/>
            <a:ext cx="533160" cy="381240"/>
          </a:xfrm>
          <a:prstGeom prst="flowChartSummingJuncti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876920" y="762120"/>
                <a:ext cx="38462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ujo Volumetr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ea Transversa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457200"/>
            <a:ext cx="822960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Permeado, J,  variará c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 proteínas,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locidad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ve afectado  el flujo de permeado por cada vari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304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8380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modelación del flux comprende 2 z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nci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Zona I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&gt; </a:t>
            </a: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J = 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562200" y="1523880"/>
          <a:ext cx="5581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2200" y="1523880"/>
                    <a:ext cx="5581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4-08-14T08:06:29Z</dcterms:modified>
  <cp:revision>97</cp:revision>
  <dc:subject/>
  <dc:title>Separación Sólido-Líquido</dc:title>
</cp:coreProperties>
</file>