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3EB-70AE-4D1F-A6E3-8B669BE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32B-CF3E-42B0-9BBE-E147124B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32E-4A36-4C29-8C0C-C1D74731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203-850C-43E9-8D7D-C54DC8EF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29F-223C-4D3B-AC60-7D0C4DA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C6E-9B91-4FF7-BBD4-A8EEFCB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D9C-1CF0-4D24-A7AC-484A17B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FDB-B60C-447F-B863-6C90FE8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8FF-35D1-45BC-AB86-EE0EBB0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DA0-E61F-4935-86A4-2FCA67B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913-A91F-4CF4-A6A5-09F8B68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2E1-36CF-49EE-A163-AA87148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BEAD-BBEE-44B4-9B80-969A9AB18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1T11:47:11Z</dcterms:modified>
  <cp:revision>96</cp:revision>
  <dc:subject/>
  <dc:title>Separación Sólido-Líquido</dc:title>
</cp:coreProperties>
</file>