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5D5-0D63-4528-B274-AE28656F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5DE-50ED-4726-BB42-49C618C4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0CC0-7A4C-44BC-87DA-315C211E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6472-1623-4FDC-B72C-24F3A05B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57BB-29E0-4B86-B627-D4B16C23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682-29A9-4F6C-A238-86C5F30D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11D-B435-42AA-AF73-D13C42DA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CBF-6C51-4666-8151-1020A6D4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1F45-8D82-4A87-AC45-2AD71A6E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79E-300C-4E14-946D-F2E56027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E5D-6C7F-4174-8C80-48391B82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1AD-F3A6-457D-BC3D-4E24EE3F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CA5D-5FA5-4778-8EA8-9C8B9948C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peracione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" y="-684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404640"/>
            <a:ext cx="8915040" cy="6705720"/>
            <a:chOff x="0" y="404640"/>
            <a:chExt cx="8915040" cy="6705720"/>
          </a:xfrm>
        </p:grpSpPr>
        <p:grpSp>
          <p:nvGrpSpPr>
            <p:cNvPr id="74" name=""/>
            <p:cNvGrpSpPr/>
            <p:nvPr/>
          </p:nvGrpSpPr>
          <p:grpSpPr>
            <a:xfrm>
              <a:off x="5400" y="408600"/>
              <a:ext cx="8903520" cy="6697080"/>
              <a:chOff x="5400" y="408600"/>
              <a:chExt cx="8903520" cy="669708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5400" y="408600"/>
                <a:ext cx="1529640" cy="564840"/>
                <a:chOff x="5400" y="408600"/>
                <a:chExt cx="1529640" cy="5648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7240" y="4086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ari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400" y="4086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535400" y="408600"/>
                <a:ext cx="1900800" cy="564840"/>
                <a:chOff x="1535400" y="408600"/>
                <a:chExt cx="1900800" cy="564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58760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53540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3436560" y="408600"/>
                <a:ext cx="1900800" cy="564840"/>
                <a:chOff x="3436560" y="408600"/>
                <a:chExt cx="1900800" cy="564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348876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ltra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43656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5338080" y="408600"/>
                <a:ext cx="2322360" cy="564840"/>
                <a:chOff x="5338080" y="408600"/>
                <a:chExt cx="2322360" cy="564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390280" y="4086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Osmosis Invers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338080" y="4086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7660800" y="408600"/>
                <a:ext cx="1248120" cy="564840"/>
                <a:chOff x="7660800" y="408600"/>
                <a:chExt cx="1248120" cy="564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7712640" y="4086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60800" y="4086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400" y="973440"/>
                <a:ext cx="1529640" cy="726120"/>
                <a:chOff x="5400" y="973440"/>
                <a:chExt cx="1529640" cy="726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7240" y="973440"/>
                  <a:ext cx="142596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uerza Impulsor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400" y="973440"/>
                  <a:ext cx="152964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535400" y="973440"/>
                <a:ext cx="1900800" cy="726120"/>
                <a:chOff x="1535400" y="973440"/>
                <a:chExt cx="1900800" cy="726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58760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53540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436560" y="973440"/>
                <a:ext cx="1900800" cy="726120"/>
                <a:chOff x="3436560" y="973440"/>
                <a:chExt cx="1900800" cy="726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48876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43656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338080" y="973440"/>
                <a:ext cx="2322360" cy="726120"/>
                <a:chOff x="5338080" y="973440"/>
                <a:chExt cx="2322360" cy="726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390280" y="973440"/>
                  <a:ext cx="22176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338080" y="973440"/>
                  <a:ext cx="232236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7660800" y="973440"/>
                <a:ext cx="1248120" cy="726120"/>
                <a:chOff x="7660800" y="973440"/>
                <a:chExt cx="1248120" cy="726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712640" y="973440"/>
                  <a:ext cx="114444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660800" y="973440"/>
                  <a:ext cx="124812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5400" y="1699920"/>
                <a:ext cx="1529640" cy="887760"/>
                <a:chOff x="5400" y="1699920"/>
                <a:chExt cx="1529640" cy="887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7240" y="169992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esión de Operación [Kpa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400" y="169992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1535400" y="1699920"/>
                <a:ext cx="1900800" cy="887760"/>
                <a:chOff x="1535400" y="1699920"/>
                <a:chExt cx="1900800" cy="88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58760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53540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436560" y="1699920"/>
                <a:ext cx="1900800" cy="887760"/>
                <a:chOff x="3436560" y="1699920"/>
                <a:chExt cx="1900800" cy="88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48876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43656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5338080" y="1699920"/>
                <a:ext cx="2322360" cy="887760"/>
                <a:chOff x="5338080" y="1699920"/>
                <a:chExt cx="2322360" cy="88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5390280" y="169992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700-2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338080" y="169992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7660800" y="1699920"/>
                <a:ext cx="1248120" cy="887760"/>
                <a:chOff x="7660800" y="1699920"/>
                <a:chExt cx="1248120" cy="8877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712640" y="169992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660800" y="169992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400" y="2587680"/>
                <a:ext cx="1529640" cy="887400"/>
                <a:chOff x="5400" y="2587680"/>
                <a:chExt cx="1529640" cy="8874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7240" y="2587680"/>
                  <a:ext cx="142596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ipo de Membr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400" y="2587680"/>
                  <a:ext cx="152964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535400" y="2587680"/>
                <a:ext cx="1900800" cy="887400"/>
                <a:chOff x="1535400" y="2587680"/>
                <a:chExt cx="1900800" cy="887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58760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53540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436560" y="2587680"/>
                <a:ext cx="1900800" cy="887400"/>
                <a:chOff x="3436560" y="2587680"/>
                <a:chExt cx="1900800" cy="887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48876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43656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5338080" y="2587680"/>
                <a:ext cx="2322360" cy="887400"/>
                <a:chOff x="5338080" y="2587680"/>
                <a:chExt cx="2322360" cy="887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5390280" y="2587680"/>
                  <a:ext cx="22176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mipermeable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338080" y="2587680"/>
                  <a:ext cx="232236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660800" y="2587680"/>
                <a:ext cx="1248120" cy="887400"/>
                <a:chOff x="7660800" y="2587680"/>
                <a:chExt cx="1248120" cy="8874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712640" y="2587680"/>
                  <a:ext cx="114444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 Simétric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660800" y="2587680"/>
                  <a:ext cx="124812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400" y="3475080"/>
                <a:ext cx="1529640" cy="887760"/>
                <a:chOff x="5400" y="3475080"/>
                <a:chExt cx="1529640" cy="8877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7240" y="347508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amaño de partículas [cm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400" y="347508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535400" y="3475080"/>
                <a:ext cx="1900800" cy="887760"/>
                <a:chOff x="1535400" y="3475080"/>
                <a:chExt cx="1900800" cy="8877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58760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7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53540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436560" y="3475080"/>
                <a:ext cx="1900800" cy="887760"/>
                <a:chOff x="3436560" y="3475080"/>
                <a:chExt cx="1900800" cy="88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48876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6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3656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5338080" y="3475080"/>
                <a:ext cx="2322360" cy="887760"/>
                <a:chOff x="5338080" y="3475080"/>
                <a:chExt cx="2322360" cy="88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390280" y="347508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7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2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338080" y="347508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660800" y="3475080"/>
                <a:ext cx="1248120" cy="887760"/>
                <a:chOff x="7660800" y="3475080"/>
                <a:chExt cx="1248120" cy="88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712640" y="347508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660800" y="347508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400" y="4363200"/>
                <a:ext cx="1529640" cy="564840"/>
                <a:chOff x="5400" y="4363200"/>
                <a:chExt cx="1529640" cy="5648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7240" y="43632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lu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[l/m</a:t>
                  </a:r>
                  <a:r>
                    <a:rPr b="1" lang="es-ES_tradnl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h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400" y="43632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535400" y="4363200"/>
                <a:ext cx="1900800" cy="564840"/>
                <a:chOff x="1535400" y="4363200"/>
                <a:chExt cx="1900800" cy="564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58760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0-1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53540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436560" y="4363200"/>
                <a:ext cx="1900800" cy="564840"/>
                <a:chOff x="3436560" y="4363200"/>
                <a:chExt cx="1900800" cy="5648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48876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-2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43656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338080" y="4363200"/>
                <a:ext cx="2322360" cy="564840"/>
                <a:chOff x="5338080" y="4363200"/>
                <a:chExt cx="2322360" cy="5648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390280" y="43632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-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338080" y="43632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7660800" y="4363200"/>
                <a:ext cx="1248120" cy="564840"/>
                <a:chOff x="7660800" y="4363200"/>
                <a:chExt cx="1248120" cy="5648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712640" y="43632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60800" y="43632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400" y="4928040"/>
                <a:ext cx="1529640" cy="2177640"/>
                <a:chOff x="5400" y="4928040"/>
                <a:chExt cx="1529640" cy="217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7240" y="4928040"/>
                  <a:ext cx="142596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s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paración 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400" y="4928040"/>
                  <a:ext cx="152964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535400" y="4928040"/>
                <a:ext cx="1900800" cy="2177640"/>
                <a:chOff x="1535400" y="4928040"/>
                <a:chExt cx="1900800" cy="217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58760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Levadura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Hongo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53540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436560" y="4928040"/>
                <a:ext cx="1900800" cy="2177640"/>
                <a:chOff x="3436560" y="4928040"/>
                <a:chExt cx="1900800" cy="21776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48876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 (30–3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3656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338080" y="4928040"/>
                <a:ext cx="2322360" cy="2177640"/>
                <a:chOff x="5338080" y="4928040"/>
                <a:chExt cx="2322360" cy="2177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90280" y="4928040"/>
                  <a:ext cx="22176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liminación de 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zúcares (200–400 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Orgánicos (100–5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Iones Inorgánicos (10-1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338080" y="4928040"/>
                  <a:ext cx="232236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7660800" y="4928040"/>
                <a:ext cx="1248120" cy="2177640"/>
                <a:chOff x="7660800" y="4928040"/>
                <a:chExt cx="1248120" cy="2177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7712640" y="4928040"/>
                  <a:ext cx="114444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660800" y="4928040"/>
                  <a:ext cx="124812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0" y="404640"/>
              <a:ext cx="8915040" cy="6705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04920" y="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racterísticas de las principales operaciones de membran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40720" y="981000"/>
            <a:ext cx="115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1628640"/>
            <a:ext cx="1727280" cy="792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365720"/>
            <a:ext cx="1619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scripción y Modos de Operación de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cro y Ultrafiltración (MF-U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iminar contaminantes de alta masa mole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macromoléculas de pequeñas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752480" y="1523880"/>
          <a:ext cx="6477120" cy="30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6477120" cy="30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concentración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91440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icio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763640" y="981000"/>
          <a:ext cx="612144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81000"/>
                    <a:ext cx="61214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nal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55640" y="909720"/>
          <a:ext cx="6326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09720"/>
                    <a:ext cx="6326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diafiltración.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47628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147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260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cc66"/>
                </a:solidFill>
                <a:latin typeface="Times New Roman"/>
              </a:rPr>
              <a:t>Solución de Di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187280" y="1268280"/>
          <a:ext cx="599940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59994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835280" y="907920"/>
            <a:ext cx="504720" cy="1152720"/>
          </a:xfrm>
          <a:prstGeom prst="downArrow">
            <a:avLst>
              <a:gd name="adj1" fmla="val 50000"/>
              <a:gd name="adj2" fmla="val 57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16360" y="549360"/>
            <a:ext cx="3168720" cy="30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6094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smosis Inversa (O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 sistema que tiene una membrana semi-permeable que permite el paso sólo del solvente. La fuerza impulsora es una alta presión que debe vencer la presión osmótica, para invertir el flujo 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membrana no porosa de polímero que impiden la salida de iones que quedan solvatados y quedan atrapados en los espa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solvente continua hasta que se ejerce una presión en el capilar que detiene la dilución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716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dición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45086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Solvente pasa desde la zona menos concentrada a la mas concentrada, hasta que se alcanza la presión osmótica.(</a:t>
            </a:r>
            <a:r>
              <a:rPr b="0" lang="el-GR" sz="2400" spc="-1" strike="noStrike">
                <a:solidFill>
                  <a:srgbClr val="660033"/>
                </a:solidFill>
                <a:latin typeface="Comic Sans MS"/>
              </a:rPr>
              <a:t>Δ</a:t>
            </a:r>
            <a:r>
              <a:rPr b="0" lang="ru-RU" sz="2400" spc="-1" strike="noStrike">
                <a:solidFill>
                  <a:srgbClr val="660033"/>
                </a:solidFill>
                <a:latin typeface="Comic Sans MS"/>
              </a:rPr>
              <a:t>П</a:t>
            </a:r>
            <a:r>
              <a:rPr b="0" lang="es-CL" sz="2400" spc="-1" strike="noStrike">
                <a:solidFill>
                  <a:srgbClr val="66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32000" y="1052640"/>
          <a:ext cx="324000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52640"/>
                    <a:ext cx="32400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 flipH="1">
            <a:off x="6804000" y="2565360"/>
            <a:ext cx="72072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2916000" y="3212640"/>
            <a:ext cx="136836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3716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003640" y="1052640"/>
            <a:ext cx="3816360" cy="2369880"/>
            <a:chOff x="5003640" y="1052640"/>
            <a:chExt cx="3816360" cy="2369880"/>
          </a:xfrm>
        </p:grpSpPr>
        <p:graphicFrame>
          <p:nvGraphicFramePr>
            <p:cNvPr id="221" name=""/>
            <p:cNvGraphicFramePr/>
            <p:nvPr/>
          </p:nvGraphicFramePr>
          <p:xfrm>
            <a:off x="5003640" y="1052640"/>
            <a:ext cx="3816360" cy="236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052640"/>
                      <a:ext cx="3816360" cy="23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" name=""/>
            <p:cNvSpPr/>
            <p:nvPr/>
          </p:nvSpPr>
          <p:spPr>
            <a:xfrm>
              <a:off x="6804000" y="2349360"/>
              <a:ext cx="720720" cy="216000"/>
            </a:xfrm>
            <a:prstGeom prst="leftArrow">
              <a:avLst>
                <a:gd name="adj1" fmla="val 50000"/>
                <a:gd name="adj2" fmla="val 83417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V="1">
            <a:off x="4427640" y="3068280"/>
            <a:ext cx="1944720" cy="865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76720" y="260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Re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5157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olvente pasa la membrana y los iones que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0" y="1916280"/>
            <a:ext cx="4873680" cy="2727000"/>
            <a:chOff x="0" y="1916280"/>
            <a:chExt cx="4873680" cy="2727000"/>
          </a:xfrm>
        </p:grpSpPr>
        <p:graphicFrame>
          <p:nvGraphicFramePr>
            <p:cNvPr id="228" name=""/>
            <p:cNvGraphicFramePr/>
            <p:nvPr/>
          </p:nvGraphicFramePr>
          <p:xfrm>
            <a:off x="0" y="1916280"/>
            <a:ext cx="4873680" cy="272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16280"/>
                      <a:ext cx="4873680" cy="27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0" name=""/>
            <p:cNvSpPr/>
            <p:nvPr/>
          </p:nvSpPr>
          <p:spPr>
            <a:xfrm>
              <a:off x="2305080" y="3355560"/>
              <a:ext cx="1079640" cy="433080"/>
            </a:xfrm>
            <a:prstGeom prst="rightArrow">
              <a:avLst>
                <a:gd name="adj1" fmla="val 50000"/>
                <a:gd name="adj2" fmla="val 62323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258920" y="98100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88000" y="981000"/>
            <a:ext cx="4356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e aplica una presión mayor que la Presión osmótica que obliga a que el Solvente pase a través de la membrana y los iones queden retenidos en el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0880" y="609480"/>
            <a:ext cx="8229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álisis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membranas de tamaño de poros muy pequeñas (menores que U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oluto basándose en : peso molecular, conformación y ca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motriz es un gradiente de concentración que hace que los solutos fluyan a la solución de lav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lectrodiálisis (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álogo a la diálisis, pero la fuerza motriz se ve incrementada por un campo eléctrico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80880"/>
            <a:ext cx="8305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Dónde se  produce la mayor caída de presión en una filtración tradiciona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eliminar este efecto?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38480" y="2286000"/>
            <a:ext cx="4800600" cy="4285440"/>
            <a:chOff x="4038480" y="2286000"/>
            <a:chExt cx="4800600" cy="4285440"/>
          </a:xfrm>
        </p:grpSpPr>
        <p:graphicFrame>
          <p:nvGraphicFramePr>
            <p:cNvPr id="46" name=""/>
            <p:cNvGraphicFramePr/>
            <p:nvPr/>
          </p:nvGraphicFramePr>
          <p:xfrm>
            <a:off x="4876920" y="2286000"/>
            <a:ext cx="2904840" cy="280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286000"/>
                      <a:ext cx="2904840" cy="280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4038480" y="5257800"/>
              <a:ext cx="4800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Un flujo transversal es capaz de limpiar por si mismo el filtro, así se minimizan los efectos de resistencia de la tor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Image2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29908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0880" y="609480"/>
            <a:ext cx="822960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Microfiltración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enta mayor área por unidad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 de desconec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ben descartar cuando falla alguna parte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28600" y="1219320"/>
          <a:ext cx="891540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91540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304920" y="1523880"/>
          <a:ext cx="838188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38188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228600" y="1008000"/>
          <a:ext cx="853452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08000"/>
                    <a:ext cx="853452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609480"/>
            <a:ext cx="7848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 y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así como surge las técnicas de Microfiltración y Ultrafiltración  que se diferencian de la Filtración Tradicional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amaño de poros de los medios filtrantes, llamados membr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cruzado, que es transversal  al medio filtrante, minimiza la formación de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resistencia se localiza en la membrana y no en la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60948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orma de operación se inicia con suspensiones diluidas que se van concentrado, por medio recirculación hasta que la viscosidad y la capacidad de bombeo lo permitan. Esto lleva a que se deba continuar con una filtración tradicional u otro mé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un “Filtrado” que es la solución que ha pasado a través de la membrana y un “Remanente o Concentrado” que se recir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donde se localice el producto de interés es la solución que se colecta o descarta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¿ Cómo funcion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09680"/>
            <a:ext cx="335268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838080"/>
            <a:ext cx="2209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066680"/>
          <a:ext cx="838332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38332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581280" y="2057400"/>
            <a:ext cx="3353040" cy="228600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609480"/>
            <a:ext cx="8229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generales de las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operaciones de membranas son varias y se diferencian por los tamaños de partícula que pueden separar y por la fuerza impulsora que provoca el paso del fluido a través de la membrana. A pesar de esto las características de las membranas son simila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iten concentrar in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medios filtrantes o membranas son delgadas y micropo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oros son pequeños, lo cual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ja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 resistencia,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alta (inverso al caso de filtración tradicional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quieren de una limpieza periód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066680"/>
            <a:ext cx="487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nen 2 c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lículas delgada y densa (0.1 a 1.5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. Zon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bestructura microporosa de 0.1  a 1 mm con aberturas progresivas. Zon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04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membranas anisotróp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752480"/>
            <a:ext cx="18288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495680" y="251424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age2" descr=""/>
          <p:cNvPicPr/>
          <p:nvPr/>
        </p:nvPicPr>
        <p:blipFill>
          <a:blip r:embed="rId1"/>
          <a:stretch/>
        </p:blipFill>
        <p:spPr>
          <a:xfrm>
            <a:off x="6303960" y="990720"/>
            <a:ext cx="258588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Image3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4419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04920" y="533520"/>
            <a:ext cx="8381880" cy="3200400"/>
            <a:chOff x="304920" y="533520"/>
            <a:chExt cx="8381880" cy="3200400"/>
          </a:xfrm>
        </p:grpSpPr>
        <p:sp>
          <p:nvSpPr>
            <p:cNvPr id="66" name=""/>
            <p:cNvSpPr/>
            <p:nvPr/>
          </p:nvSpPr>
          <p:spPr>
            <a:xfrm>
              <a:off x="304920" y="533520"/>
              <a:ext cx="82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Características de los Filtros microporo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5320" y="1143000"/>
              <a:ext cx="5181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iltros microporosos no presentan una distribución muy homogénea de tamaño, lo cual implica un rango de retención de partículas.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Image2" descr=""/>
            <p:cNvPicPr/>
            <p:nvPr/>
          </p:nvPicPr>
          <p:blipFill>
            <a:blip r:embed="rId1"/>
            <a:stretch/>
          </p:blipFill>
          <p:spPr>
            <a:xfrm>
              <a:off x="914400" y="990720"/>
              <a:ext cx="2365200" cy="27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Image2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36194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W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ltros y membranas se caracterizan por un tamaño de corte según la masa molecular en base a solutos solubles (NMWC, Nominal Molecular Weight Cut-Off ) que es retenido en un 90% por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WMC varía entre 500-1.000.000 Da o 1-10.000 n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. PM-5 o XM-10 (KDa)   ¿ Cuántos gramos es un 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962520"/>
            <a:ext cx="71629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Materiales de construcción de las membr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Esteres de cel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Ny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Cloruro de vini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Acrilonitratos</a:t>
            </a: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3-08-08T07:46:11Z</dcterms:modified>
  <cp:revision>92</cp:revision>
  <dc:subject/>
  <dc:title>Separación Sólido-Líquido</dc:title>
</cp:coreProperties>
</file>