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34E-07B0-4BB5-8AF9-BDAE332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64E-67EF-4501-A124-3D66D953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E53-0763-424E-A5EC-A636CAB4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FD5-EBA2-4A53-82CA-32FF946A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0ED-E44F-4987-BE25-F3EEA8E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FB5-938C-4451-B222-F7C7B67E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BDB-CA1A-4061-8390-12E44D2B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75F-0D02-4DF0-9E18-48EA0849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327-BE90-48F4-8BEC-30B1CFE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4D7-CD6D-482D-AE84-FB1B3DD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156-E1B7-4382-931B-7589233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433-0FF6-4F2E-A289-6795B8B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832-818C-4B89-9197-2EB255C6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4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1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28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age2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Image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6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Image2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Image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3-08-08T07:46:11Z</dcterms:modified>
  <cp:revision>92</cp:revision>
  <dc:subject/>
  <dc:title>Separación Sólido-Líquido</dc:title>
</cp:coreProperties>
</file>