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869-55CA-4B82-A3A8-EB11576B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996-027D-43D7-9BF9-276937C6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6C7-A2A4-48E0-8C4B-6FDA737C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802-8BA4-4F75-A337-F3444066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CEF-091E-40CE-90F0-71D0A36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04A-9A31-45B6-AC95-3ADB7E6D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385-136B-41ED-9751-7C4C6B34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312-FB38-4752-9204-9E347A9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19B-75D5-4CA5-9DCA-CBB19C5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26A-F6E2-4B8B-AC1B-1A89631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734-E4D5-4164-B3E0-2F9E52C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A86-EFAD-4BAC-AC80-63CB7FF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748-0CC0-4174-8228-43D8D04F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4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1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28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age2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Image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6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Image2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Image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3-08-08T07:46:11Z</dcterms:modified>
  <cp:revision>92</cp:revision>
  <dc:subject/>
  <dc:title>Separación Sólido-Líquido</dc:title>
</cp:coreProperties>
</file>