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4FB-20BD-4B87-84D8-29BF2D8F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373-32BF-4F46-A55F-1B5D8526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F85-9E86-4ECD-916D-24AC4B7C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A65-0957-43D5-BA2D-1DD024D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C87-6519-46A6-A99E-E331BF78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BA1-2734-49E8-883B-8868D398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82C-1A47-4F37-A036-C56639B5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45F-8E6F-4016-B44D-16BC94F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EC8-466F-46F1-AD64-712753E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D6D-A21A-4A98-972E-D558538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ED1-689F-4B6B-B4E8-D7335D54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31F-CAB7-40A4-B97A-BEAB6C9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F22D-A631-465B-B2E2-AAD3BD74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entrifuga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centrifuge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micro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edimentation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76212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1.02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150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  Un fermentador 50 litros es usado para el crecimiento de estas células en los microcarrier para producir una vacuna.  Después que las células han crecido, la agitación es detenida y los microcarrier comienzan a sedimentar.  El estanque tiene una razón entre 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1.00 g/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1,1 cP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stime el tiempo para alcanzar esta velocidad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Arial"/>
              </a:rPr>
              <a:t>¿Cuál sería en nivel de procesamiento? [lt/dí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9320"/>
            <a:ext cx="83818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t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 C.</cp:lastModifiedBy>
  <dcterms:modified xsi:type="dcterms:W3CDTF">2004-07-26T08:39:44Z</dcterms:modified>
  <cp:revision>11</cp:revision>
  <dc:subject/>
  <dc:title>Centrifugación    Operación unitaria utilizada para la separación: sólido-líquido    líquido-líquido </dc:title>
</cp:coreProperties>
</file>