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7CF-A3F0-4F0B-A016-F27CD9F3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A93-C105-435E-B083-7A98E20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EFF-1BB1-46E4-BD2D-D147559A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12C9-D89C-46E3-AE84-A663B24E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3D0-10DA-4E86-9434-D3C15974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BD9-6F66-4E96-9C96-187AB51D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BC9-CC15-41B7-8D74-C66CF599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686-C2D3-4FC7-9C0B-C3B4A5D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BEC0-7A07-43DA-AB98-6D9D7B4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F26-350B-4236-AB59-366FAF9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8AA-4EFE-40EC-8DA2-D21B5B61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F34-A709-44F5-9323-6F8241C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6F46-360B-42A6-B1F5-F0E1FDB7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- 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6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Agosto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Contador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blo Mo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arin Henríqu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ladys Nava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laudia Orellan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89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baldo Ab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tricia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Kimlin F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ina Urmeneta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Septiembre 16:15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onzalo Águ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ol Da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los D Andu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ejandro M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ola Bustos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8T09:22:18Z</dcterms:modified>
  <cp:revision>113</cp:revision>
  <dc:subject/>
  <dc:title>El ingeniero, etica y sociedad</dc:title>
</cp:coreProperties>
</file>