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8DD-F410-461C-8290-0C2B91ED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B4C-0245-40BE-BCF7-92F6A33F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D25-9D50-490E-8489-81D84C60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1EF-645D-43D2-8E76-277863C1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B9D-78E6-4082-B9D1-2915F144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D2F-8C4C-4C69-BFD3-C1DC656A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DFF-4045-48CF-A05B-5F1753AD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57D-4B31-4814-89D8-FAFE573E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8FC-DF9D-40BE-85E1-74CB4D6A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251-57AD-47B8-BDBC-F5B7A05F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6B9-314D-4E8B-98B9-4876A13A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B55-7F7C-408A-9E05-81A8EEE2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9616-CEF6-4B49-8753-E82ADA170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6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Agost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blo Mo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arin Henrí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ladys Nava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89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baldo Ab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tricia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imlin F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onzalo Águ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los D Andu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ejandro Mo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ola Bustos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8T09:22:18Z</dcterms:modified>
  <cp:revision>113</cp:revision>
  <dc:subject/>
  <dc:title>El ingeniero, etica y sociedad</dc:title>
</cp:coreProperties>
</file>