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FA1D-F1CD-40CA-9C0E-F0652396A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93F8-52A2-4919-B4A4-71A3C391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FACC-D0E6-4E04-B093-137BA3E40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9A3D-DB58-4325-89AB-9E19A61DC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0A50-729F-49D9-B51B-B30DC424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57F7-D19C-4A75-AF59-DD48B732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E9D6-E254-4B8C-BE2B-7D89C397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52E4-AFB4-427C-8E43-4186A7CC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84C6-78C0-41D8-85A3-09547E55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B314-39C7-4312-A86E-EFC52532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8281-6C35-4DBD-A16D-B4E91C91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1A30-0FDB-4B2C-9499-62A8C373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8A8D-9705-47B9-860F-462374B54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F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lc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jar límites al proyecto, se define la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ofund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5-12/8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O DE BASES DE DATOS ESPECIALIZADAS (Biblioteca)</a:t>
            </a: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8 - 2/9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8 - 2/9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2400"/>
            </a:br>
            <a:br>
              <a:rPr sz="2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ltima semana de Clases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in del semestre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Final BT-IQ 69F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ULTIMO DIA DE EXAMEN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76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6 de Agosto 16:15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olina Contador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blo Mor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Karin Henríqu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ladys Navar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laudia Orellana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89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 de Septiembre 16:15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baldo Abr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tricia Contr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Kimlin F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olina Urmeneta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9 de Septiembre 16:15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onzalo Águi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ol Da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los D Andu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ejandro Mo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ola Bustos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 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lc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I Resultados ( y Discus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V Disc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C Concl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3429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1219320"/>
            <a:ext cx="15238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Maria Elena Lienqueo C.</cp:lastModifiedBy>
  <dcterms:modified xsi:type="dcterms:W3CDTF">2004-07-28T09:22:18Z</dcterms:modified>
  <cp:revision>113</cp:revision>
  <dc:subject/>
  <dc:title>El ingeniero, etica y sociedad</dc:title>
</cp:coreProperties>
</file>