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473-FB59-43DC-9049-3F5BF994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76E-91DF-4E24-9A46-5D86973D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D1E-6E07-4BA9-919D-86442312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E2E-E6E7-4996-9349-ECE0A81D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F3E-C10A-4371-8CAD-2971F196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956-1815-4AFA-A0A9-59DDD6D3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DC7-6B2A-45CA-B6D8-C4BA147E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F8A-5F0A-46AF-865B-28F423CC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5D4-C9B7-450D-BE8A-81E98E7B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0D9-48F1-4B75-814A-95805DB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1D9-64A8-4282-BA5E-D753733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FAA-6416-49E3-8C79-E631E7E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764C-3C50-420E-84E4-BD07AC72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2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5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8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6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7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(5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Jesus Ca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.- Determinación de la especiación del hierro en soluciones procedentes de circuitos hidrometalúrgicos mediante experimentación y la aplicación  de modelos geoquímicos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2.- Estudio del proceso de precipitación hidrotermal del hierro a escala de laboratorio. Análisis de experimentos y formulación de modelos fenomenológic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Luis Cifuente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3.- Modelación matemática de celdas de EO de cobre con cátodos particulado y fluidizado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4.- Separación de Cu y Fe mediante electrodialisis a partir de soluciones de la hidrometalurgia del C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Tomas Vargas V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6.- Rol de aditivos en la electrocristalización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7.- Cinética de disolución de minerales oxidados de cobre con soluciones lixiviantes con alta concentración iónic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8.- Influencia de la concentración iónica de soluciones lixiviantes sobre la eficiencia de la extracción por solventes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9.- Determinación de la actividad catalítica de bacterias en circuitos   de lixiviación industrial mediante métodos biooelectr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0.- Lixiviación bacteriana de minerales sulfurados de cobre con bacterias termófilas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M.Elena Lienqueo - Oriana Salaz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1.- Efecto de la distribución de aminoácidos superficiales en el comportamiento cromatográfico de las proteí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2.- Química del Arsénico: Métodos de remoción en pequeña escal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3.- Energías alternativas: Diseño de reactor para la Producción bioquímica de Hidrógeno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4.- Residuos Industriales Líquidos: Tratamientos bi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5.- Emisiones de Anhidrido Sulfuroso: Su conversión a productos valios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lanca Escob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6.- Determinación de compuestos reducidos de azufre en soluciones de  biolixiviación de sulfuros con microorganismos mesofil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puestos por empre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IOENLAC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a) " Estudio prospectivo de innovación en procesos biotecnológicos en la minerí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) " Estudio prospectivo de innovación en procesos biotecnológicos en la industria acuicol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c) " Estudio prospectivo de innovación en procesos biotecnológicos en la industria forestal ( celulosa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4:30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INTOLESI MAKUC ANG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TURANA SEPULVEDA ANDRES 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RINO SANTIS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ALES DARKER GABRIELA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6T11:05:27Z</dcterms:modified>
  <cp:revision>83</cp:revision>
  <dc:subject/>
  <dc:title>El ingeniero, etica y sociedad</dc:title>
</cp:coreProperties>
</file>