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1.wmf" ContentType="image/x-wmf"/>
  <Override PartName="/ppt/media/image3.png" ContentType="image/png"/>
  <Override PartName="/ppt/media/image21.wmf" ContentType="image/x-wmf"/>
  <Override PartName="/ppt/media/image5.png" ContentType="image/png"/>
  <Override PartName="/ppt/media/image19.png" ContentType="image/png"/>
  <Override PartName="/ppt/media/image1.png" ContentType="image/png"/>
  <Override PartName="/ppt/media/image18.wmf" ContentType="image/x-wmf"/>
  <Override PartName="/ppt/media/image20.wmf" ContentType="image/x-wmf"/>
  <Override PartName="/ppt/media/image16.png" ContentType="image/png"/>
  <Override PartName="/ppt/media/image15.png" ContentType="image/png"/>
  <Override PartName="/ppt/media/image14.png" ContentType="image/png"/>
  <Override PartName="/ppt/media/image6.png" ContentType="image/png"/>
  <Override PartName="/ppt/media/image10.wmf" ContentType="image/x-wmf"/>
  <Override PartName="/ppt/media/image2.png" ContentType="image/png"/>
  <Override PartName="/ppt/media/image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8924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DC38-D5AC-4C6C-BF3E-F663EA4D6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654A-5F40-4D87-B896-A4E8B8BBE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B08A-55EE-488F-816C-FC43F73A1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CFE3-161B-43D8-889B-1BFBD089D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E3AEA-51A4-457E-85FF-D4ADDFC50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E2A01-37A0-4B26-81E3-A037ABCF8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6B995-D0D2-4A6A-99CE-C4BCA2C60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5B97A-1847-4EAF-BE76-F50A7DC26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86BAE-A951-4977-9317-817674CA6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0E6DE-E60E-4790-B462-E12D8E016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C4E8F-884E-4A39-A2E9-0A93EF709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9AEF-1436-40AA-AE81-7CC1DC7BC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3A55B-0D24-4DBD-8856-472C2298B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9FF75-D94A-46A2-B543-BF64967C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2C8A5-A278-4918-B880-F77C67F04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68244-D92D-4BD4-8133-9D9E10D97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DA44C-D823-4A4F-8E2A-154F33F83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7075-B984-41DF-9D88-79D05743C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F1BB-8204-4909-9A54-F3262C556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FFA7-743B-49A1-ADAA-B650EE1FF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EB37-C71D-46A6-B6B3-CB07FC135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8977-97CD-48D2-BFC5-38EBB9E39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38F3-1D0A-4CF3-A0AA-AB177E408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C96C-EB24-4FD9-856F-FF0D9A20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BD0BD-FF77-479B-B731-C750D6A8F5E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D8EBD-D4FB-4D5B-8606-CAE81AEBF99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1412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Diseño óptimo de una planta batch multiproducto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roducción de proteínas recombinantes</a:t>
            </a:r>
            <a:br>
              <a:rPr sz="4000"/>
            </a:b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Definición de factor de tiempo: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Tij: Tiempo necesario en un batch para producir un 1 Kg del producto i en la etapa j.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52280" y="5865840"/>
            <a:ext cx="7162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** Unidades semi-continu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685800" y="1981080"/>
          <a:ext cx="6705720" cy="36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6705720" cy="36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sto de los equipos: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23880" y="1219320"/>
            <a:ext cx="624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 utiliza una ley de potencia para calcular el costo de cada equip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1676520" y="2057400"/>
          <a:ext cx="6095880" cy="406728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  <a:gridCol w="2032200"/>
              </a:tblGrid>
              <a:tr h="398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abla de Costo de equip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n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amañ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s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ermentad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j (m</a:t>
                      </a:r>
                      <a:r>
                        <a:rPr b="0" lang="es-E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3400 V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0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4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icro-ultra filtr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 </a:t>
                      </a:r>
                      <a:r>
                        <a:rPr b="0" lang="es-ES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retenido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(m</a:t>
                      </a:r>
                      <a:r>
                        <a:rPr b="0" lang="es-E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 </a:t>
                      </a:r>
                      <a:r>
                        <a:rPr b="0" lang="es-ES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permeado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(m</a:t>
                      </a:r>
                      <a:r>
                        <a:rPr b="0" lang="es-E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 </a:t>
                      </a:r>
                      <a:r>
                        <a:rPr b="0" lang="es-ES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filtr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750 V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0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750 V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0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900 A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0.8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omogenizad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 </a:t>
                      </a:r>
                      <a:r>
                        <a:rPr b="0" lang="es-ES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Holding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(m</a:t>
                      </a:r>
                      <a:r>
                        <a:rPr b="0" lang="es-E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p. (m</a:t>
                      </a:r>
                      <a:r>
                        <a:rPr b="0" lang="es-E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hr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750 V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0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100 cap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0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xtract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 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extractor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(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3100 V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0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romatografí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 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cromatografía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(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60000 V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0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6" name=""/>
          <p:cNvSpPr/>
          <p:nvPr/>
        </p:nvSpPr>
        <p:spPr>
          <a:xfrm>
            <a:off x="1752480" y="63244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* </a:t>
            </a: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Volumen de mantención para recircula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295280" y="2133720"/>
            <a:ext cx="69343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Tanto para etapas batch como semi-continuas se debe cumplir qu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Vij </a:t>
            </a: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Sij * B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Tij = Tijº + Tij</a:t>
            </a:r>
            <a:r>
              <a:rPr b="0" lang="es-ES" sz="2400" spc="-1" strike="noStrike" baseline="30000">
                <a:solidFill>
                  <a:srgbClr val="ffffff"/>
                </a:solidFill>
                <a:latin typeface="Times New Roman"/>
              </a:rPr>
              <a:t>1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Bi/R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8" name=""/>
          <p:cNvGraphicFramePr/>
          <p:nvPr/>
        </p:nvGraphicFramePr>
        <p:xfrm>
          <a:off x="1219320" y="1447920"/>
          <a:ext cx="5572080" cy="3795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447920"/>
                    <a:ext cx="5572080" cy="37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685800" y="152280"/>
            <a:ext cx="807732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Formas de Optimizar el proceso bat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Colocar varias unidades en parale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s cuales pueden operar de dos diferentes forma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179280" y="1844640"/>
            <a:ext cx="8686800" cy="4793400"/>
            <a:chOff x="179280" y="1844640"/>
            <a:chExt cx="8686800" cy="4793400"/>
          </a:xfrm>
        </p:grpSpPr>
        <p:grpSp>
          <p:nvGrpSpPr>
            <p:cNvPr id="272" name=""/>
            <p:cNvGrpSpPr/>
            <p:nvPr/>
          </p:nvGrpSpPr>
          <p:grpSpPr>
            <a:xfrm>
              <a:off x="179280" y="1844640"/>
              <a:ext cx="4572000" cy="4662000"/>
              <a:chOff x="179280" y="1844640"/>
              <a:chExt cx="4572000" cy="4662000"/>
            </a:xfrm>
          </p:grpSpPr>
          <p:graphicFrame>
            <p:nvGraphicFramePr>
              <p:cNvPr id="273" name=""/>
              <p:cNvGraphicFramePr/>
              <p:nvPr/>
            </p:nvGraphicFramePr>
            <p:xfrm>
              <a:off x="1246320" y="1844640"/>
              <a:ext cx="2361960" cy="22780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74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246320" y="1844640"/>
                        <a:ext cx="2361960" cy="2278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75" name=""/>
              <p:cNvSpPr/>
              <p:nvPr/>
            </p:nvSpPr>
            <p:spPr>
              <a:xfrm>
                <a:off x="179280" y="4206600"/>
                <a:ext cx="4572000" cy="230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lvl="1" marL="45720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 u="sng">
                    <a:solidFill>
                      <a:srgbClr val="ffff00"/>
                    </a:solidFill>
                    <a:uFillTx/>
                    <a:latin typeface="Times New Roman"/>
                  </a:rPr>
                  <a:t>Simultánea:</a:t>
                </a:r>
                <a:r>
                  <a:rPr b="0" lang="es-ES" sz="1800" spc="-1" strike="noStrike">
                    <a:solidFill>
                      <a:srgbClr val="ffffff"/>
                    </a:solidFill>
                    <a:latin typeface="Times New Roman"/>
                  </a:rPr>
                  <a:t> la corriente se divide Gj veces, lo cual da origen a </a:t>
                </a:r>
                <a:r>
                  <a:rPr b="1" lang="es-ES" sz="1800" spc="-1" strike="noStrike">
                    <a:solidFill>
                      <a:srgbClr val="ffcc99"/>
                    </a:solidFill>
                    <a:latin typeface="Times New Roman"/>
                  </a:rPr>
                  <a:t>Gj unidades</a:t>
                </a:r>
                <a:r>
                  <a:rPr b="1" lang="es-ES" sz="1800" spc="-1" strike="noStrike">
                    <a:solidFill>
                      <a:srgbClr val="ffffff"/>
                    </a:solidFill>
                    <a:latin typeface="Times New Roman"/>
                  </a:rPr>
                  <a:t>.</a:t>
                </a:r>
                <a:r>
                  <a:rPr b="0" lang="es-ES" sz="1800" spc="-1" strike="noStrike">
                    <a:solidFill>
                      <a:srgbClr val="ffffff"/>
                    </a:solidFill>
                    <a:latin typeface="Times New Roman"/>
                  </a:rPr>
                  <a:t> Una vez finalizada la operación se vuelven a juntar.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 u="sng">
                    <a:solidFill>
                      <a:srgbClr val="ffffff"/>
                    </a:solidFill>
                    <a:uFillTx/>
                    <a:latin typeface="Times New Roman"/>
                  </a:rPr>
                  <a:t>Objetivo:</a:t>
                </a:r>
                <a:r>
                  <a:rPr b="0" lang="es-ES" sz="1800" spc="-1" strike="noStrike">
                    <a:solidFill>
                      <a:srgbClr val="ffffff"/>
                    </a:solidFill>
                    <a:latin typeface="Times New Roman"/>
                  </a:rPr>
                  <a:t> Operar con equipos más pequeños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4675320" y="1844640"/>
              <a:ext cx="4190760" cy="4793400"/>
              <a:chOff x="4675320" y="1844640"/>
              <a:chExt cx="4190760" cy="4793400"/>
            </a:xfrm>
          </p:grpSpPr>
          <p:graphicFrame>
            <p:nvGraphicFramePr>
              <p:cNvPr id="277" name=""/>
              <p:cNvGraphicFramePr/>
              <p:nvPr/>
            </p:nvGraphicFramePr>
            <p:xfrm>
              <a:off x="5208480" y="1844640"/>
              <a:ext cx="2905200" cy="22748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78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5208480" y="1844640"/>
                        <a:ext cx="2905200" cy="2274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79" name=""/>
              <p:cNvSpPr/>
              <p:nvPr/>
            </p:nvSpPr>
            <p:spPr>
              <a:xfrm>
                <a:off x="4675320" y="4206600"/>
                <a:ext cx="4190760" cy="243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lvl="1" marL="45720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 u="sng">
                    <a:solidFill>
                      <a:srgbClr val="ffff00"/>
                    </a:solidFill>
                    <a:uFillTx/>
                    <a:latin typeface="Times New Roman"/>
                  </a:rPr>
                  <a:t>Desfasada :</a:t>
                </a:r>
                <a:r>
                  <a:rPr b="0" lang="es-ES" sz="1800" spc="-1" strike="noStrike">
                    <a:solidFill>
                      <a:srgbClr val="ffffff"/>
                    </a:solidFill>
                    <a:latin typeface="Times New Roman"/>
                  </a:rPr>
                  <a:t> la corriente se divide Mj veces para que el proceso se realice en </a:t>
                </a:r>
                <a:r>
                  <a:rPr b="1" lang="es-ES" sz="1800" spc="-1" strike="noStrike">
                    <a:solidFill>
                      <a:srgbClr val="ffcc99"/>
                    </a:solidFill>
                    <a:latin typeface="Times New Roman"/>
                  </a:rPr>
                  <a:t>Mj unidades</a:t>
                </a:r>
                <a:r>
                  <a:rPr b="0" lang="es-ES" sz="1800" spc="-1" strike="noStrike">
                    <a:solidFill>
                      <a:srgbClr val="ffffff"/>
                    </a:solidFill>
                    <a:latin typeface="Times New Roman"/>
                  </a:rPr>
                  <a:t> en forma desfasada. Finalmente se unen, pero en forma desfasada.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 u="sng">
                    <a:solidFill>
                      <a:srgbClr val="ffffff"/>
                    </a:solidFill>
                    <a:uFillTx/>
                    <a:latin typeface="Times New Roman"/>
                  </a:rPr>
                  <a:t>Objetivo:</a:t>
                </a:r>
                <a:r>
                  <a:rPr b="0" lang="es-ES" sz="1800" spc="-1" strike="noStrike">
                    <a:solidFill>
                      <a:srgbClr val="ffffff"/>
                    </a:solidFill>
                    <a:latin typeface="Times New Roman"/>
                  </a:rPr>
                  <a:t> Disminuir el efecto de los procesos limitados por el tiempo (cinéticas lentas).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ffff00"/>
                </a:solidFill>
                <a:latin typeface="Times New Roman"/>
              </a:rPr>
              <a:t>Formas de Optimizar el proceso batch (cont)</a:t>
            </a:r>
            <a:br>
              <a:rPr sz="1400"/>
            </a:br>
            <a:br>
              <a:rPr sz="1400"/>
            </a:br>
            <a:r>
              <a:rPr b="1" lang="es-ES" sz="2400" spc="-1" strike="noStrike" u="sng">
                <a:solidFill>
                  <a:srgbClr val="ffff00"/>
                </a:solidFill>
                <a:uFillTx/>
                <a:latin typeface="Times New Roman"/>
              </a:rPr>
              <a:t>2.- Colocar tanques intermedios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Objetivo: Almacenamiento de productos intermedios, de volumen </a:t>
            </a:r>
            <a:r>
              <a:rPr b="1" lang="es-ES" sz="2400" spc="-1" strike="noStrike">
                <a:solidFill>
                  <a:srgbClr val="ffcc99"/>
                </a:solidFill>
                <a:latin typeface="Times New Roman"/>
              </a:rPr>
              <a:t>VTj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,  entre 2 unidades que operan en forma batch.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sto permite el desacoplamiento del proceso, teniéndose 2 sub-procesos. Con ello se pueden tener diferentes tamaños de los batch en cada uno de los sub-procesos y también diferentes ciclos de tiempo.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1219320" y="3962520"/>
            <a:ext cx="7010280" cy="2152440"/>
            <a:chOff x="1219320" y="3962520"/>
            <a:chExt cx="7010280" cy="2152440"/>
          </a:xfrm>
        </p:grpSpPr>
        <p:graphicFrame>
          <p:nvGraphicFramePr>
            <p:cNvPr id="282" name=""/>
            <p:cNvGraphicFramePr/>
            <p:nvPr/>
          </p:nvGraphicFramePr>
          <p:xfrm>
            <a:off x="3200400" y="3962520"/>
            <a:ext cx="2657520" cy="2152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8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00400" y="3962520"/>
                      <a:ext cx="2657520" cy="21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4" name=""/>
            <p:cNvSpPr/>
            <p:nvPr/>
          </p:nvSpPr>
          <p:spPr>
            <a:xfrm>
              <a:off x="1219320" y="4571640"/>
              <a:ext cx="167616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Proces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Volumen: m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Tiempo: día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172200" y="4571640"/>
              <a:ext cx="205740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Proces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Volumen: litro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Tiempo: minuto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4191120" y="4419720"/>
            <a:ext cx="609480" cy="99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unción a minimizar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1752480" y="1219320"/>
            <a:ext cx="5486400" cy="840240"/>
            <a:chOff x="1752480" y="1219320"/>
            <a:chExt cx="5486400" cy="840240"/>
          </a:xfrm>
        </p:grpSpPr>
        <p:sp>
          <p:nvSpPr>
            <p:cNvPr id="289" name=""/>
            <p:cNvSpPr/>
            <p:nvPr/>
          </p:nvSpPr>
          <p:spPr>
            <a:xfrm>
              <a:off x="1752480" y="1371600"/>
              <a:ext cx="548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</a:rPr>
                <a:t>Min Cost = </a:t>
              </a:r>
              <a:r>
                <a:rPr b="0" lang="es-E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</a:t>
              </a: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</a:rPr>
                <a:t> Mj Gj aj Vj</a:t>
              </a:r>
              <a:r>
                <a:rPr b="0" lang="es-ES" sz="24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r>
                <a:rPr b="0" lang="es-ES" sz="2400" spc="-1" strike="noStrike" baseline="30000">
                  <a:solidFill>
                    <a:srgbClr val="ffffff"/>
                  </a:solidFill>
                  <a:latin typeface="Times New Roman"/>
                </a:rPr>
                <a:t>j  +  </a:t>
              </a:r>
              <a:r>
                <a:rPr b="0" lang="es-E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</a:t>
              </a: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</a:rPr>
                <a:t> cj VTj</a:t>
              </a:r>
              <a:r>
                <a:rPr b="0" lang="es-ES" sz="24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</a:t>
              </a:r>
              <a:r>
                <a:rPr b="0" lang="es-ES" sz="2400" spc="-1" strike="noStrike" baseline="30000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276360" y="175248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276360" y="1219320"/>
              <a:ext cx="38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410080" y="121932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410080" y="175248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990720" y="2133720"/>
            <a:ext cx="7467480" cy="23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Don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66"/>
                </a:solidFill>
                <a:latin typeface="Times New Roman"/>
              </a:rPr>
              <a:t>M: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número de etapas batch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66"/>
                </a:solidFill>
                <a:latin typeface="Times New Roman"/>
              </a:rPr>
              <a:t>Vj: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Volumen de la etapa (Unitario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66"/>
                </a:solidFill>
                <a:latin typeface="Times New Roman"/>
              </a:rPr>
              <a:t>Gj: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Número de unidades que operan en forma simultánea en la etapa j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66"/>
                </a:solidFill>
                <a:latin typeface="Times New Roman"/>
              </a:rPr>
              <a:t>Mj: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Número de unidades que operan en forma desfasadas en la etapa j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66"/>
                </a:solidFill>
                <a:latin typeface="Times New Roman"/>
              </a:rPr>
              <a:t>VTj: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Volumen de los tanques intermedi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66"/>
                </a:solidFill>
                <a:latin typeface="Times New Roman"/>
              </a:rPr>
              <a:t>aj, cj, aj, hj: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Coeficientes de cos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990720" y="464832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estricc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438280" y="5257800"/>
            <a:ext cx="411480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olumen mínimo de equip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empo mínimo de oper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tidad a produc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Resolución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70000" y="1773360"/>
            <a:ext cx="77724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Ingreso de tablas de datos (Sij, Tij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Ingreso del modelo y definición de ecua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Definición del Probl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tas de las varia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Valores inici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Almacenamiento de result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Solución incluy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Tiempo de resolu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Costo óptim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Valores por etapa: volumen, tamaño de batch, tiempo ocio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sultados esperado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16000" y="1268280"/>
            <a:ext cx="77724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blema con unidades en parale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ducción de tiempos ocios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 no hay almacenamiento intermedio, existirán unidades en paralelo si la capacidad requerida excede la cota superior del equip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blema con almacenamiento intermed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o de unidades en paralelo es menos prob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 reducen los costos de capi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 reducen los tiempos ociosos significativamente en comparación con el caso de unidades en parale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 problema de factores fijos puede mejorarse aún más (10-20% costos de planta) si se utilizan “Process Performance Model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255600" y="907920"/>
            <a:ext cx="8888400" cy="518328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533520" y="3049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Result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61657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lanta que considera unidades en paralelo y sin tanque intermedi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648320" y="4876920"/>
            <a:ext cx="2133360" cy="5331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006560" y="692280"/>
            <a:ext cx="81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Plantas multiproducto (Flowshop plants):</a:t>
            </a:r>
            <a:r>
              <a:rPr b="0" lang="es-ES" sz="2400" spc="-1" strike="noStrike">
                <a:solidFill>
                  <a:srgbClr val="cc99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ff"/>
                </a:solidFill>
                <a:latin typeface="Tahoma"/>
              </a:rPr>
              <a:t>Todos los productos siguen la misma secuencia a través de todas las etapas de produc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332000" y="1916280"/>
            <a:ext cx="6648480" cy="1191600"/>
            <a:chOff x="1332000" y="1916280"/>
            <a:chExt cx="6648480" cy="1191600"/>
          </a:xfrm>
        </p:grpSpPr>
        <p:sp>
          <p:nvSpPr>
            <p:cNvPr id="149" name=""/>
            <p:cNvSpPr/>
            <p:nvPr/>
          </p:nvSpPr>
          <p:spPr>
            <a:xfrm>
              <a:off x="2467080" y="2152440"/>
              <a:ext cx="649440" cy="70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764160" y="2152440"/>
              <a:ext cx="647640" cy="70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Tahoma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062680" y="2152440"/>
              <a:ext cx="647640" cy="70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Tahoma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359760" y="2152440"/>
              <a:ext cx="649080" cy="70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Tahoma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1650960" y="2497680"/>
              <a:ext cx="5986800" cy="11520"/>
              <a:chOff x="1650960" y="2497680"/>
              <a:chExt cx="5986800" cy="11520"/>
            </a:xfrm>
          </p:grpSpPr>
          <p:cxnSp>
            <p:nvCxnSpPr>
              <p:cNvPr id="154" name=""/>
              <p:cNvCxnSpPr>
                <a:stCxn id="149" idx="3"/>
                <a:endCxn id="150" idx="1"/>
              </p:cNvCxnSpPr>
              <p:nvPr/>
            </p:nvCxnSpPr>
            <p:spPr>
              <a:xfrm>
                <a:off x="3115800" y="2507400"/>
                <a:ext cx="649800" cy="2160"/>
              </a:xfrm>
              <a:prstGeom prst="straightConnector1">
                <a:avLst/>
              </a:prstGeom>
              <a:ln w="9360">
                <a:solidFill>
                  <a:srgbClr val="ffff99"/>
                </a:solidFill>
                <a:miter/>
                <a:tailEnd len="med" type="triangle" w="med"/>
              </a:ln>
            </p:spPr>
          </p:cxnSp>
          <p:cxnSp>
            <p:nvCxnSpPr>
              <p:cNvPr id="155" name=""/>
              <p:cNvCxnSpPr>
                <a:stCxn id="150" idx="3"/>
                <a:endCxn id="151" idx="1"/>
              </p:cNvCxnSpPr>
              <p:nvPr/>
            </p:nvCxnSpPr>
            <p:spPr>
              <a:xfrm>
                <a:off x="4413240" y="2507400"/>
                <a:ext cx="649440" cy="2160"/>
              </a:xfrm>
              <a:prstGeom prst="straightConnector1">
                <a:avLst/>
              </a:prstGeom>
              <a:ln w="9360">
                <a:solidFill>
                  <a:srgbClr val="ffff99"/>
                </a:solidFill>
                <a:miter/>
                <a:tailEnd len="med" type="triangle" w="med"/>
              </a:ln>
            </p:spPr>
          </p:cxnSp>
          <p:cxnSp>
            <p:nvCxnSpPr>
              <p:cNvPr id="156" name=""/>
              <p:cNvCxnSpPr>
                <a:stCxn id="151" idx="3"/>
                <a:endCxn id="152" idx="1"/>
              </p:cNvCxnSpPr>
              <p:nvPr/>
            </p:nvCxnSpPr>
            <p:spPr>
              <a:xfrm>
                <a:off x="5711040" y="2507400"/>
                <a:ext cx="649440" cy="2160"/>
              </a:xfrm>
              <a:prstGeom prst="straightConnector1">
                <a:avLst/>
              </a:prstGeom>
              <a:ln w="9360">
                <a:solidFill>
                  <a:srgbClr val="ffff99"/>
                </a:solidFill>
                <a:miter/>
                <a:tailEnd len="med" type="triangle" w="med"/>
              </a:ln>
            </p:spPr>
          </p:cxnSp>
          <p:cxnSp>
            <p:nvCxnSpPr>
              <p:cNvPr id="157" name=""/>
              <p:cNvCxnSpPr>
                <a:stCxn id="152" idx="3"/>
              </p:cNvCxnSpPr>
              <p:nvPr/>
            </p:nvCxnSpPr>
            <p:spPr>
              <a:xfrm flipV="1">
                <a:off x="7008840" y="2497680"/>
                <a:ext cx="629280" cy="9720"/>
              </a:xfrm>
              <a:prstGeom prst="straightConnector1">
                <a:avLst/>
              </a:prstGeom>
              <a:ln w="9360">
                <a:solidFill>
                  <a:srgbClr val="ffff99"/>
                </a:solidFill>
                <a:miter/>
                <a:tailEnd len="med" type="triangle" w="med"/>
              </a:ln>
            </p:spPr>
          </p:cxnSp>
          <p:cxnSp>
            <p:nvCxnSpPr>
              <p:cNvPr id="158" name=""/>
              <p:cNvCxnSpPr>
                <a:endCxn id="149" idx="1"/>
              </p:cNvCxnSpPr>
              <p:nvPr/>
            </p:nvCxnSpPr>
            <p:spPr>
              <a:xfrm>
                <a:off x="1650960" y="2498040"/>
                <a:ext cx="816840" cy="9720"/>
              </a:xfrm>
              <a:prstGeom prst="straightConnector1">
                <a:avLst/>
              </a:prstGeom>
              <a:ln w="9360">
                <a:solidFill>
                  <a:srgbClr val="ffff99"/>
                </a:solidFill>
                <a:miter/>
                <a:tailEnd len="med" type="triangle" w="med"/>
              </a:ln>
            </p:spPr>
          </p:cxnSp>
        </p:grpSp>
        <p:cxnSp>
          <p:nvCxnSpPr>
            <p:cNvPr id="159" name=""/>
            <p:cNvCxnSpPr/>
            <p:nvPr/>
          </p:nvCxnSpPr>
          <p:spPr>
            <a:xfrm>
              <a:off x="3132360" y="2252160"/>
              <a:ext cx="650160" cy="180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/>
            <p:nvPr/>
          </p:nvCxnSpPr>
          <p:spPr>
            <a:xfrm>
              <a:off x="4429080" y="2252160"/>
              <a:ext cx="649800" cy="180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/>
            <p:nvPr/>
          </p:nvCxnSpPr>
          <p:spPr>
            <a:xfrm>
              <a:off x="5726160" y="2252160"/>
              <a:ext cx="650160" cy="180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/>
            <p:nvPr/>
          </p:nvCxnSpPr>
          <p:spPr>
            <a:xfrm flipV="1">
              <a:off x="7025040" y="2244240"/>
              <a:ext cx="629280" cy="792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163" name=""/>
            <p:cNvCxnSpPr/>
            <p:nvPr/>
          </p:nvCxnSpPr>
          <p:spPr>
            <a:xfrm>
              <a:off x="1667160" y="2244240"/>
              <a:ext cx="816480" cy="792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grpSp>
          <p:nvGrpSpPr>
            <p:cNvPr id="164" name=""/>
            <p:cNvGrpSpPr/>
            <p:nvPr/>
          </p:nvGrpSpPr>
          <p:grpSpPr>
            <a:xfrm>
              <a:off x="1654200" y="2777400"/>
              <a:ext cx="5986800" cy="9720"/>
              <a:chOff x="1654200" y="2777400"/>
              <a:chExt cx="5986800" cy="9720"/>
            </a:xfrm>
          </p:grpSpPr>
          <p:cxnSp>
            <p:nvCxnSpPr>
              <p:cNvPr id="165" name=""/>
              <p:cNvCxnSpPr/>
              <p:nvPr/>
            </p:nvCxnSpPr>
            <p:spPr>
              <a:xfrm>
                <a:off x="3119040" y="2785320"/>
                <a:ext cx="649800" cy="2160"/>
              </a:xfrm>
              <a:prstGeom prst="straightConnector1">
                <a:avLst/>
              </a:prstGeom>
              <a:ln w="9360">
                <a:solidFill>
                  <a:srgbClr val="ffff99"/>
                </a:solidFill>
                <a:miter/>
                <a:tailEnd len="med" type="triangle" w="med"/>
              </a:ln>
            </p:spPr>
          </p:cxnSp>
          <p:cxnSp>
            <p:nvCxnSpPr>
              <p:cNvPr id="166" name=""/>
              <p:cNvCxnSpPr/>
              <p:nvPr/>
            </p:nvCxnSpPr>
            <p:spPr>
              <a:xfrm>
                <a:off x="4416480" y="2785320"/>
                <a:ext cx="649440" cy="2160"/>
              </a:xfrm>
              <a:prstGeom prst="straightConnector1">
                <a:avLst/>
              </a:prstGeom>
              <a:ln w="9360">
                <a:solidFill>
                  <a:srgbClr val="ffff99"/>
                </a:solidFill>
                <a:miter/>
                <a:tailEnd len="med" type="triangle" w="med"/>
              </a:ln>
            </p:spPr>
          </p:cxnSp>
          <p:cxnSp>
            <p:nvCxnSpPr>
              <p:cNvPr id="167" name=""/>
              <p:cNvCxnSpPr/>
              <p:nvPr/>
            </p:nvCxnSpPr>
            <p:spPr>
              <a:xfrm>
                <a:off x="5714280" y="2785320"/>
                <a:ext cx="649440" cy="2160"/>
              </a:xfrm>
              <a:prstGeom prst="straightConnector1">
                <a:avLst/>
              </a:prstGeom>
              <a:ln w="9360">
                <a:solidFill>
                  <a:srgbClr val="ffff99"/>
                </a:solidFill>
                <a:miter/>
                <a:tailEnd len="med" type="triangle" w="med"/>
              </a:ln>
            </p:spPr>
          </p:cxnSp>
          <p:cxnSp>
            <p:nvCxnSpPr>
              <p:cNvPr id="168" name=""/>
              <p:cNvCxnSpPr/>
              <p:nvPr/>
            </p:nvCxnSpPr>
            <p:spPr>
              <a:xfrm flipV="1">
                <a:off x="7012080" y="2777400"/>
                <a:ext cx="629280" cy="7920"/>
              </a:xfrm>
              <a:prstGeom prst="straightConnector1">
                <a:avLst/>
              </a:prstGeom>
              <a:ln w="9360">
                <a:solidFill>
                  <a:srgbClr val="ffff99"/>
                </a:solidFill>
                <a:miter/>
                <a:tailEnd len="med" type="triangle" w="med"/>
              </a:ln>
            </p:spPr>
          </p:cxnSp>
          <p:cxnSp>
            <p:nvCxnSpPr>
              <p:cNvPr id="169" name=""/>
              <p:cNvCxnSpPr/>
              <p:nvPr/>
            </p:nvCxnSpPr>
            <p:spPr>
              <a:xfrm>
                <a:off x="1654200" y="2777400"/>
                <a:ext cx="816840" cy="7920"/>
              </a:xfrm>
              <a:prstGeom prst="straightConnector1">
                <a:avLst/>
              </a:prstGeom>
              <a:ln w="9360">
                <a:solidFill>
                  <a:srgbClr val="ffff99"/>
                </a:solidFill>
                <a:miter/>
                <a:tailEnd len="med" type="triangle" w="med"/>
              </a:ln>
            </p:spPr>
          </p:cxnSp>
        </p:grpSp>
        <p:sp>
          <p:nvSpPr>
            <p:cNvPr id="170" name=""/>
            <p:cNvSpPr/>
            <p:nvPr/>
          </p:nvSpPr>
          <p:spPr>
            <a:xfrm>
              <a:off x="1332000" y="1916280"/>
              <a:ext cx="325440" cy="11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ahoma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ahoma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ahoma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39200" y="1920600"/>
              <a:ext cx="341280" cy="11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ahoma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ahoma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ahoma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1006560" y="3357720"/>
            <a:ext cx="81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Plantas multipropósito (Jobshop plants):</a:t>
            </a:r>
            <a:r>
              <a:rPr b="0" lang="es-ES" sz="2400" spc="-1" strike="noStrike">
                <a:solidFill>
                  <a:srgbClr val="00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ff"/>
                </a:solidFill>
                <a:latin typeface="Tahoma"/>
              </a:rPr>
              <a:t>Los productos no necesariamente siguen la misma secuencia, o requieren de todas las etapas, a través del proceso de produc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332000" y="4941360"/>
            <a:ext cx="5576400" cy="1627560"/>
            <a:chOff x="1332000" y="4941360"/>
            <a:chExt cx="5576400" cy="1627560"/>
          </a:xfrm>
        </p:grpSpPr>
        <p:sp>
          <p:nvSpPr>
            <p:cNvPr id="174" name=""/>
            <p:cNvSpPr/>
            <p:nvPr/>
          </p:nvSpPr>
          <p:spPr>
            <a:xfrm>
              <a:off x="2284200" y="5399280"/>
              <a:ext cx="542880" cy="82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372120" y="5399280"/>
              <a:ext cx="542880" cy="82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Tahoma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460040" y="5399280"/>
              <a:ext cx="544320" cy="82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Tahoma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49760" y="5399280"/>
              <a:ext cx="542880" cy="82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Tahoma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8" name=""/>
            <p:cNvCxnSpPr/>
            <p:nvPr/>
          </p:nvCxnSpPr>
          <p:spPr>
            <a:xfrm>
              <a:off x="5004360" y="5813640"/>
              <a:ext cx="545400" cy="216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179" name=""/>
            <p:cNvCxnSpPr/>
            <p:nvPr/>
          </p:nvCxnSpPr>
          <p:spPr>
            <a:xfrm flipV="1">
              <a:off x="6092640" y="5804280"/>
              <a:ext cx="528120" cy="900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180" name=""/>
            <p:cNvCxnSpPr/>
            <p:nvPr/>
          </p:nvCxnSpPr>
          <p:spPr>
            <a:xfrm>
              <a:off x="1599480" y="5804640"/>
              <a:ext cx="685440" cy="900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grpSp>
          <p:nvGrpSpPr>
            <p:cNvPr id="181" name=""/>
            <p:cNvGrpSpPr/>
            <p:nvPr/>
          </p:nvGrpSpPr>
          <p:grpSpPr>
            <a:xfrm>
              <a:off x="1611720" y="5504400"/>
              <a:ext cx="5022360" cy="10800"/>
              <a:chOff x="1611720" y="5504400"/>
              <a:chExt cx="5022360" cy="10800"/>
            </a:xfrm>
          </p:grpSpPr>
          <p:cxnSp>
            <p:nvCxnSpPr>
              <p:cNvPr id="182" name=""/>
              <p:cNvCxnSpPr/>
              <p:nvPr/>
            </p:nvCxnSpPr>
            <p:spPr>
              <a:xfrm>
                <a:off x="2840760" y="5513400"/>
                <a:ext cx="545040" cy="2160"/>
              </a:xfrm>
              <a:prstGeom prst="straightConnector1">
                <a:avLst/>
              </a:prstGeom>
              <a:ln w="9360">
                <a:solidFill>
                  <a:srgbClr val="ffff99"/>
                </a:solidFill>
                <a:miter/>
                <a:tailEnd len="med" type="triangle" w="med"/>
              </a:ln>
            </p:spPr>
          </p:cxnSp>
          <p:cxnSp>
            <p:nvCxnSpPr>
              <p:cNvPr id="183" name=""/>
              <p:cNvCxnSpPr/>
              <p:nvPr/>
            </p:nvCxnSpPr>
            <p:spPr>
              <a:xfrm>
                <a:off x="3928680" y="5513400"/>
                <a:ext cx="545040" cy="2160"/>
              </a:xfrm>
              <a:prstGeom prst="straightConnector1">
                <a:avLst/>
              </a:prstGeom>
              <a:ln w="9360">
                <a:solidFill>
                  <a:srgbClr val="ffff99"/>
                </a:solidFill>
                <a:miter/>
                <a:tailEnd len="med" type="triangle" w="med"/>
              </a:ln>
            </p:spPr>
          </p:cxnSp>
          <p:cxnSp>
            <p:nvCxnSpPr>
              <p:cNvPr id="184" name=""/>
              <p:cNvCxnSpPr/>
              <p:nvPr/>
            </p:nvCxnSpPr>
            <p:spPr>
              <a:xfrm>
                <a:off x="5017680" y="5513400"/>
                <a:ext cx="545040" cy="2160"/>
              </a:xfrm>
              <a:prstGeom prst="straightConnector1">
                <a:avLst/>
              </a:prstGeom>
              <a:ln w="9360">
                <a:solidFill>
                  <a:srgbClr val="ffff99"/>
                </a:solidFill>
                <a:miter/>
                <a:tailEnd len="med" type="triangle" w="med"/>
              </a:ln>
            </p:spPr>
          </p:cxnSp>
          <p:cxnSp>
            <p:nvCxnSpPr>
              <p:cNvPr id="185" name=""/>
              <p:cNvCxnSpPr/>
              <p:nvPr/>
            </p:nvCxnSpPr>
            <p:spPr>
              <a:xfrm flipV="1">
                <a:off x="6106320" y="5504400"/>
                <a:ext cx="528120" cy="9000"/>
              </a:xfrm>
              <a:prstGeom prst="straightConnector1">
                <a:avLst/>
              </a:prstGeom>
              <a:ln w="9360">
                <a:solidFill>
                  <a:srgbClr val="ffff99"/>
                </a:solidFill>
                <a:miter/>
                <a:tailEnd len="med" type="triangle" w="med"/>
              </a:ln>
            </p:spPr>
          </p:cxnSp>
          <p:cxnSp>
            <p:nvCxnSpPr>
              <p:cNvPr id="186" name=""/>
              <p:cNvCxnSpPr/>
              <p:nvPr/>
            </p:nvCxnSpPr>
            <p:spPr>
              <a:xfrm>
                <a:off x="1611720" y="5504760"/>
                <a:ext cx="685440" cy="9000"/>
              </a:xfrm>
              <a:prstGeom prst="straightConnector1">
                <a:avLst/>
              </a:prstGeom>
              <a:ln w="9360">
                <a:solidFill>
                  <a:srgbClr val="ffff99"/>
                </a:solidFill>
                <a:miter/>
                <a:tailEnd len="med" type="triangle" w="med"/>
              </a:ln>
            </p:spPr>
          </p:cxnSp>
        </p:grpSp>
        <p:sp>
          <p:nvSpPr>
            <p:cNvPr id="187" name=""/>
            <p:cNvSpPr/>
            <p:nvPr/>
          </p:nvSpPr>
          <p:spPr>
            <a:xfrm>
              <a:off x="1332000" y="5123160"/>
              <a:ext cx="271800" cy="138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621840" y="5128200"/>
              <a:ext cx="286560" cy="138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89" name=""/>
            <p:cNvCxnSpPr>
              <a:stCxn id="174" idx="3"/>
            </p:cNvCxnSpPr>
            <p:nvPr/>
          </p:nvCxnSpPr>
          <p:spPr>
            <a:xfrm flipV="1">
              <a:off x="2827440" y="5801400"/>
              <a:ext cx="223200" cy="1044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190" name=""/>
            <p:cNvCxnSpPr>
              <a:endCxn id="176" idx="1"/>
            </p:cNvCxnSpPr>
            <p:nvPr/>
          </p:nvCxnSpPr>
          <p:spPr>
            <a:xfrm>
              <a:off x="4137480" y="5802840"/>
              <a:ext cx="322920" cy="900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191" name=""/>
            <p:cNvCxnSpPr/>
            <p:nvPr/>
          </p:nvCxnSpPr>
          <p:spPr>
            <a:xfrm flipV="1">
              <a:off x="3049560" y="4949280"/>
              <a:ext cx="1800" cy="83124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192" name=""/>
            <p:cNvCxnSpPr/>
            <p:nvPr/>
          </p:nvCxnSpPr>
          <p:spPr>
            <a:xfrm flipV="1">
              <a:off x="4153320" y="4983480"/>
              <a:ext cx="2160" cy="83124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193" name=""/>
            <p:cNvCxnSpPr/>
            <p:nvPr/>
          </p:nvCxnSpPr>
          <p:spPr>
            <a:xfrm>
              <a:off x="3063960" y="4941360"/>
              <a:ext cx="1088280" cy="396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194" name=""/>
            <p:cNvCxnSpPr/>
            <p:nvPr/>
          </p:nvCxnSpPr>
          <p:spPr>
            <a:xfrm flipH="1">
              <a:off x="1609560" y="6078600"/>
              <a:ext cx="662040" cy="1764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195" name=""/>
            <p:cNvCxnSpPr/>
            <p:nvPr/>
          </p:nvCxnSpPr>
          <p:spPr>
            <a:xfrm flipH="1">
              <a:off x="2802240" y="6056640"/>
              <a:ext cx="545040" cy="576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196" name=""/>
            <p:cNvCxnSpPr/>
            <p:nvPr/>
          </p:nvCxnSpPr>
          <p:spPr>
            <a:xfrm flipH="1">
              <a:off x="3897360" y="6058080"/>
              <a:ext cx="257400" cy="1764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197" name=""/>
            <p:cNvCxnSpPr/>
            <p:nvPr/>
          </p:nvCxnSpPr>
          <p:spPr>
            <a:xfrm flipH="1">
              <a:off x="6073920" y="6093000"/>
              <a:ext cx="545040" cy="576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198" name=""/>
            <p:cNvCxnSpPr/>
            <p:nvPr/>
          </p:nvCxnSpPr>
          <p:spPr>
            <a:xfrm flipH="1">
              <a:off x="5275440" y="6118560"/>
              <a:ext cx="257040" cy="1584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199" name=""/>
            <p:cNvCxnSpPr/>
            <p:nvPr/>
          </p:nvCxnSpPr>
          <p:spPr>
            <a:xfrm flipH="1">
              <a:off x="4156200" y="6055200"/>
              <a:ext cx="5040" cy="51408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200" name=""/>
            <p:cNvCxnSpPr/>
            <p:nvPr/>
          </p:nvCxnSpPr>
          <p:spPr>
            <a:xfrm>
              <a:off x="5289480" y="6159240"/>
              <a:ext cx="11520" cy="38052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201" name=""/>
            <p:cNvCxnSpPr/>
            <p:nvPr/>
          </p:nvCxnSpPr>
          <p:spPr>
            <a:xfrm flipH="1">
              <a:off x="4123440" y="6554880"/>
              <a:ext cx="1176840" cy="1260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5" name=""/>
          <p:cNvGraphicFramePr/>
          <p:nvPr/>
        </p:nvGraphicFramePr>
        <p:xfrm>
          <a:off x="990720" y="533520"/>
          <a:ext cx="6705360" cy="261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533520"/>
                    <a:ext cx="6705360" cy="26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990720" y="3733920"/>
          <a:ext cx="6781680" cy="2649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3733920"/>
                    <a:ext cx="6781680" cy="26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81000" y="1882800"/>
            <a:ext cx="8964720" cy="266364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380880" y="3808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lanta sin unidades en paralelo y con tanques de almacenami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905120" y="2209680"/>
            <a:ext cx="533160" cy="990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10080" y="2209680"/>
            <a:ext cx="533520" cy="990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0120" y="2209680"/>
            <a:ext cx="533160" cy="990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362320" y="3962520"/>
            <a:ext cx="2057400" cy="304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5" name=""/>
          <p:cNvGraphicFramePr/>
          <p:nvPr/>
        </p:nvGraphicFramePr>
        <p:xfrm>
          <a:off x="1066680" y="838080"/>
          <a:ext cx="6477120" cy="271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838080"/>
                    <a:ext cx="6477120" cy="27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1042920" y="4005360"/>
          <a:ext cx="6553440" cy="22366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42920" y="4005360"/>
                    <a:ext cx="6553440" cy="22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onclusiones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116000" y="1916280"/>
            <a:ext cx="7696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 adición de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anques intermedio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entre dos operaciones batch resulta beneficiosa dado que permite un significativo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horro en los costos de capital (40%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l tener que minimizarse el número de unidades en paralelo a utilizar dado que las existentes son operadas con mínimo tiempo ocios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Referencia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Montagna J.M., Vecchietti A.R., Iribarren O.A., Pinto J.M., Asenjo J.A (2000) </a:t>
            </a:r>
            <a:r>
              <a:rPr b="0" lang="es-ES" sz="2400" spc="-1" strike="noStrike">
                <a:solidFill>
                  <a:srgbClr val="ffcc99"/>
                </a:solidFill>
                <a:latin typeface="Times New Roman"/>
              </a:rPr>
              <a:t>“Optimal design of protein production plants with time and size factor process models”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Biotechnol. Prog. 2000, 16, 228-237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01520" y="1198440"/>
            <a:ext cx="8918640" cy="23576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85800" y="4572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roducción de proteínas recombinan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71640" y="3716280"/>
            <a:ext cx="7162560" cy="29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Objetivo: Realizar un diseño que minimice los costos de capital para esta planta multiproduc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Produc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Insulina y Quimosina: extracelula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Proteasa y Vacuna: Intracelul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Forma de operación de cada equipo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0" y="1371600"/>
          <a:ext cx="1143000" cy="185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1143000" cy="18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1219320" y="1371600"/>
            <a:ext cx="26668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Times New Roman"/>
              </a:rPr>
              <a:t>Fermentador: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Reactor donde crece la biomasa produciendo el producto de interés (intra o extra celular), es operado en forma batch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76920" y="3881520"/>
            <a:ext cx="411480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cc99"/>
                </a:solidFill>
                <a:latin typeface="Times New Roman"/>
              </a:rPr>
              <a:t>1º Microfiltro:</a:t>
            </a:r>
            <a:r>
              <a:rPr b="0" lang="es-ES" sz="1800" spc="-1" strike="noStrike">
                <a:solidFill>
                  <a:srgbClr val="ffff00"/>
                </a:solidFill>
                <a:latin typeface="Times New Roman"/>
              </a:rPr>
              <a:t> Separa la biomasa, que es re- circulada y concentrada (remanente),  del medio de cultivo que pasa continuamente a formar parte del permeado. Es una operación semi-continu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imes New Roman"/>
              </a:rPr>
              <a:t>En el caso de producto intracelular se conserva el remanente, en caso de producto extracelular se conserva el permead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209680" y="3800520"/>
          <a:ext cx="2552760" cy="3057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3800520"/>
                    <a:ext cx="2552760" cy="30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4952880" y="1447920"/>
          <a:ext cx="1074960" cy="1514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52880" y="1447920"/>
                    <a:ext cx="1074960" cy="15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6095880" y="1447920"/>
            <a:ext cx="3200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Times New Roman"/>
              </a:rPr>
              <a:t>Homogenizador: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En el caso de proteínas intracelulares las células se deben romper. Es una operación semicontinu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5400000">
            <a:off x="1485720" y="3467160"/>
            <a:ext cx="533160" cy="609480"/>
          </a:xfrm>
          <a:custGeom>
            <a:avLst/>
            <a:gdLst>
              <a:gd name="textAreaLeft" fmla="*/ 177840 w 533160"/>
              <a:gd name="textAreaRight" fmla="*/ 456840 w 53316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3200400"/>
            <a:ext cx="533520" cy="609480"/>
          </a:xfrm>
          <a:custGeom>
            <a:avLst/>
            <a:gdLst>
              <a:gd name="textAreaLeft" fmla="*/ 177840 w 533520"/>
              <a:gd name="textAreaRight" fmla="*/ 457200 w 53352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914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4648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257800" y="914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924680" y="3124080"/>
            <a:ext cx="1219320" cy="228600"/>
          </a:xfrm>
          <a:prstGeom prst="rightArrow">
            <a:avLst>
              <a:gd name="adj1" fmla="val 50000"/>
              <a:gd name="adj2" fmla="val 133346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imes New Roman"/>
              </a:rPr>
              <a:t>Forma de operación de cada equipo (cont..)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380880" y="1447920"/>
          <a:ext cx="819360" cy="117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819360" cy="11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533520" y="914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19320" y="1371600"/>
            <a:ext cx="289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cc99"/>
                </a:solidFill>
                <a:latin typeface="Times New Roman"/>
              </a:rPr>
              <a:t>2º Microfiltro:</a:t>
            </a:r>
            <a:r>
              <a:rPr b="0" lang="es-ES" sz="1800" spc="-1" strike="noStrike">
                <a:solidFill>
                  <a:srgbClr val="ffff00"/>
                </a:solidFill>
                <a:latin typeface="Times New Roman"/>
              </a:rPr>
              <a:t> En el caso de rompimiento celular, se utiliza para separar los desechos celulares de la mezcla de proteínas, opera de igual forma que el primer filtro, pero siempre interesa recuperar el permead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2514600" y="3733920"/>
          <a:ext cx="1981080" cy="3124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3733920"/>
                    <a:ext cx="198108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4572000" y="472428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Times New Roman"/>
              </a:rPr>
              <a:t>1º Ultrafiltro: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Se utiliza para concentrar las proteínas que van siendo retenidas, sólo interesa recuperar el remanente. Opera en forma semicontinu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0" y="4191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486400" y="990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248520" y="1447920"/>
            <a:ext cx="2895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Times New Roman"/>
              </a:rPr>
              <a:t>Extractor: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Es un sistema de extracción líquido-líquido que permite separar las proteínas de otras por sus características de afinidad a una de las fases. Opera en forma batch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5334120" y="1600200"/>
          <a:ext cx="752400" cy="1971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4120" y="1600200"/>
                    <a:ext cx="75240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 rot="5400000">
            <a:off x="1637640" y="4000320"/>
            <a:ext cx="533520" cy="609480"/>
          </a:xfrm>
          <a:custGeom>
            <a:avLst/>
            <a:gdLst>
              <a:gd name="textAreaLeft" fmla="*/ 177840 w 533520"/>
              <a:gd name="textAreaRight" fmla="*/ 457200 w 53352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334120" y="3581280"/>
            <a:ext cx="533160" cy="609840"/>
          </a:xfrm>
          <a:custGeom>
            <a:avLst/>
            <a:gdLst>
              <a:gd name="textAreaLeft" fmla="*/ 177840 w 533160"/>
              <a:gd name="textAreaRight" fmla="*/ 456840 w 533160"/>
              <a:gd name="textAreaTop" fmla="*/ 351360 h 609840"/>
              <a:gd name="textAreaBottom" fmla="*/ 5223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924680" y="3505320"/>
            <a:ext cx="1219320" cy="228600"/>
          </a:xfrm>
          <a:prstGeom prst="rightArrow">
            <a:avLst>
              <a:gd name="adj1" fmla="val 50000"/>
              <a:gd name="adj2" fmla="val 133346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190512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imes New Roman"/>
              </a:rPr>
              <a:t>Forma de operación de cada equipo (cont..)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4952880" y="1600200"/>
          <a:ext cx="1152720" cy="168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1600200"/>
                    <a:ext cx="1152720" cy="16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1066680" y="1600200"/>
          <a:ext cx="905040" cy="12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1600200"/>
                    <a:ext cx="90504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533520" y="1981080"/>
            <a:ext cx="304560" cy="228600"/>
          </a:xfrm>
          <a:prstGeom prst="rightArrow">
            <a:avLst>
              <a:gd name="adj1" fmla="val 50000"/>
              <a:gd name="adj2" fmla="val 3330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057400" y="1600200"/>
            <a:ext cx="228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Times New Roman"/>
              </a:rPr>
              <a:t>2º Ultrafiltro: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Se utiliza para concentrar las proteínas eliminando agua, opera de igual forma que el 1º ultrafiltr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295280" y="1066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343400" y="236232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1600200"/>
            <a:ext cx="2286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Times New Roman"/>
              </a:rPr>
              <a:t>Cromatografía: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Es la etapa que permite purificar hasta el grado deseado la proteína de interés. Opera en forma continu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105520" y="1066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38080" y="3809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23880" y="38088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Metodología aplica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219320" y="1143000"/>
            <a:ext cx="73911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Definición de los factores de tamaño, Sij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Sij: Tamaño necesario de una operación batch dada  para producir un 1 Kg del producto i en la etapa j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981080" y="2819520"/>
          <a:ext cx="5257800" cy="3413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819520"/>
                    <a:ext cx="5257800" cy="34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"/>
          <p:cNvSpPr/>
          <p:nvPr/>
        </p:nvSpPr>
        <p:spPr>
          <a:xfrm>
            <a:off x="2514600" y="632448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** Etapas gobernadas por la cinéti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riterios para definir los tamaños de los equipos batch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55640" y="1484280"/>
            <a:ext cx="7696080" cy="49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ffff00"/>
                </a:solidFill>
                <a:uFillTx/>
                <a:latin typeface="Times New Roman"/>
              </a:rPr>
              <a:t>Microfiltro o Ultrafilt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V </a:t>
            </a:r>
            <a:r>
              <a:rPr b="0" lang="es-ES" sz="2000" spc="-1" strike="noStrike" baseline="-25000">
                <a:solidFill>
                  <a:srgbClr val="ffff00"/>
                </a:solidFill>
                <a:latin typeface="Times New Roman"/>
              </a:rPr>
              <a:t>permeado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 = 2* V </a:t>
            </a:r>
            <a:r>
              <a:rPr b="0" lang="es-ES" sz="2000" spc="-1" strike="noStrike" baseline="-25000">
                <a:solidFill>
                  <a:srgbClr val="ffff00"/>
                </a:solidFill>
                <a:latin typeface="Times New Roman"/>
              </a:rPr>
              <a:t>tratado 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= 2* V </a:t>
            </a:r>
            <a:r>
              <a:rPr b="0" lang="es-ES" sz="2000" spc="-1" strike="noStrike" baseline="-25000">
                <a:solidFill>
                  <a:srgbClr val="ffff00"/>
                </a:solidFill>
                <a:latin typeface="Times New Roman"/>
              </a:rPr>
              <a:t>reactor   </a:t>
            </a:r>
            <a:r>
              <a:rPr b="0" lang="es-ES" sz="2000" spc="-1" strike="noStrike" baseline="-25000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2000" spc="-1" strike="noStrike" baseline="-25000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V </a:t>
            </a:r>
            <a:r>
              <a:rPr b="0" lang="es-ES" sz="2000" spc="-1" strike="noStrike" baseline="-25000">
                <a:solidFill>
                  <a:srgbClr val="ffff00"/>
                </a:solidFill>
                <a:latin typeface="Times New Roman"/>
              </a:rPr>
              <a:t>remanente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 = V </a:t>
            </a:r>
            <a:r>
              <a:rPr b="0" lang="es-ES" sz="2000" spc="-1" strike="noStrike" baseline="-25000">
                <a:solidFill>
                  <a:srgbClr val="ffff00"/>
                </a:solidFill>
                <a:latin typeface="Times New Roman"/>
              </a:rPr>
              <a:t>tratado 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= V </a:t>
            </a:r>
            <a:r>
              <a:rPr b="0" lang="es-ES" sz="2000" spc="-1" strike="noStrike" baseline="-25000">
                <a:solidFill>
                  <a:srgbClr val="ffff00"/>
                </a:solidFill>
                <a:latin typeface="Times New Roman"/>
              </a:rPr>
              <a:t>reac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ffff00"/>
                </a:solidFill>
                <a:uFillTx/>
                <a:latin typeface="Times New Roman"/>
              </a:rPr>
              <a:t>Homogenizador 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V </a:t>
            </a:r>
            <a:r>
              <a:rPr b="0" lang="es-ES" sz="2000" spc="-1" strike="noStrike" baseline="-25000">
                <a:solidFill>
                  <a:srgbClr val="ffff00"/>
                </a:solidFill>
                <a:latin typeface="Times New Roman"/>
              </a:rPr>
              <a:t>homogeneizador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 = ¼ V </a:t>
            </a:r>
            <a:r>
              <a:rPr b="0" lang="es-ES" sz="2000" spc="-1" strike="noStrike" baseline="-25000">
                <a:solidFill>
                  <a:srgbClr val="ffff00"/>
                </a:solidFill>
                <a:latin typeface="Times New Roman"/>
              </a:rPr>
              <a:t>remanente</a:t>
            </a:r>
            <a:r>
              <a:rPr b="0" lang="es-ES" sz="2000" spc="-1" strike="noStrike" baseline="-25000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00"/>
                </a:solidFill>
                <a:uFillTx/>
                <a:latin typeface="Times New Roman"/>
              </a:rPr>
              <a:t>Extra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V </a:t>
            </a:r>
            <a:r>
              <a:rPr b="0" lang="es-ES" sz="2000" spc="-1" strike="noStrike" baseline="-25000">
                <a:solidFill>
                  <a:srgbClr val="ffff00"/>
                </a:solidFill>
                <a:latin typeface="Times New Roman"/>
              </a:rPr>
              <a:t>extractor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 = 1/3 V </a:t>
            </a:r>
            <a:r>
              <a:rPr b="0" lang="es-ES" sz="2000" spc="-1" strike="noStrike" baseline="-25000">
                <a:solidFill>
                  <a:srgbClr val="ffff00"/>
                </a:solidFill>
                <a:latin typeface="Times New Roman"/>
              </a:rPr>
              <a:t>reac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Criterios para definir los tamaños de equipos semi-continuos</a:t>
            </a:r>
            <a:br>
              <a:rPr sz="3200"/>
            </a:b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066680" y="2057400"/>
            <a:ext cx="7391520" cy="50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Se define </a:t>
            </a:r>
            <a:r>
              <a:rPr b="0" lang="es-ES" sz="2400" spc="-1" strike="noStrike">
                <a:solidFill>
                  <a:srgbClr val="ffcc99"/>
                </a:solidFill>
                <a:latin typeface="Times New Roman"/>
              </a:rPr>
              <a:t>Rj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que es una velocidad de procesami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Homogenizadores: capacidad [m</a:t>
            </a:r>
            <a:r>
              <a:rPr b="0" lang="es-ES" sz="2400" spc="-1" strike="noStrike" baseline="30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de suspensión /hora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Filtros: Area de filtración </a:t>
            </a:r>
            <a:r>
              <a:rPr b="0" lang="es-ES" sz="2400" spc="-1" strike="noStrike">
                <a:solidFill>
                  <a:srgbClr val="ffcc99"/>
                </a:solidFill>
                <a:latin typeface="Times New Roman"/>
              </a:rPr>
              <a:t>Aj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[m</a:t>
            </a:r>
            <a:r>
              <a:rPr b="0" lang="es-ES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Rj = Dij * Bi /  </a:t>
            </a:r>
            <a:r>
              <a:rPr b="0" lang="es-ES" sz="24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i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99"/>
                </a:solidFill>
                <a:latin typeface="Times New Roman"/>
              </a:rPr>
              <a:t>Dij: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 Tamaño del equipo semi-continuo j para procesar en 1 hora 1 kilogramo del producto 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99"/>
                </a:solidFill>
                <a:latin typeface="Times New Roman"/>
              </a:rPr>
              <a:t>Bi: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 Masa del batch a proces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99"/>
                </a:solidFill>
                <a:latin typeface="Symbol"/>
                <a:ea typeface="Symbol"/>
              </a:rPr>
              <a:t></a:t>
            </a:r>
            <a:r>
              <a:rPr b="0" lang="es-ES" sz="2000" spc="-1" strike="noStrike">
                <a:solidFill>
                  <a:srgbClr val="ffcc99"/>
                </a:solidFill>
                <a:latin typeface="Times New Roman"/>
              </a:rPr>
              <a:t>ij: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 Tiempo que debe operar el equipo j para procesar un batch del producto 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1T08:19:18Z</dcterms:created>
  <dc:creator>Maria Elena Lienqueo C.</dc:creator>
  <dc:description/>
  <dc:language>en-US</dc:language>
  <cp:lastModifiedBy>Maria Elena Lienqueo C.</cp:lastModifiedBy>
  <dcterms:modified xsi:type="dcterms:W3CDTF">2004-11-15T04:01:03Z</dcterms:modified>
  <cp:revision>34</cp:revision>
  <dc:subject/>
  <dc:title>Presentación de PowerPoint</dc:title>
</cp:coreProperties>
</file>